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FED-FFB8-499C-B1DF-20DD418A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705-ABC2-4FAE-9B04-563C1456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41E-D39C-4DB7-93CF-4AB614A4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3D4-0244-4BBB-B91D-D0186853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2611-D19A-487A-9A88-64AAD1F1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82E-47EE-48C3-BB3C-6F7F2D52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F789-FF26-4F1C-B42E-9E3D0F8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E6A0-6BDD-475F-94F1-6C692BC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7064-D2D0-4CA8-BE3F-C039B171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E280-A382-41A1-A163-FF0FB33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8BD8-2034-469B-B451-C22B6FF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B82-D039-4C19-A579-6A50B71B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DA5D-0E54-4036-8997-B3071B02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969F-04C9-4F2D-B34E-1C068B1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3EC3-0F29-4261-A452-A1014A49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D46F-EBAF-4F54-980D-BDF7A29D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770B-0565-42E3-B47D-0BA7F337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69B-593E-476E-845D-56EBE910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A87-325F-4D5D-9C7D-58679BE6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731-63B3-400C-BA24-5816788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CFB-380C-4914-B3FD-4A3C4B53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AA7-254D-4045-B5F6-4B1E93C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8E9-E3A8-4624-AB5C-05FF6C0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A75-FE0C-4D08-8425-F600E2E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0BF4-3F08-4738-9371-373F2DC8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D9CF-FD9C-45FC-81C3-8D026E783A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_7lNT9oDzI&amp;feature=related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-a_s4cNdj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1d1df"/>
                </a:solidFill>
                <a:latin typeface="Tahoma"/>
              </a:rPr>
              <a:t>Tuesday, September 8th</a:t>
            </a:r>
            <a:endParaRPr b="0" lang="en-US" sz="45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274284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Solve this equation: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3(2y + 10) = 10y – 2y - 80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Ink 4"/>
          <p:cNvSpPr/>
          <p:nvPr/>
        </p:nvSpPr>
        <p:spPr>
          <a:xfrm>
            <a:off x="1598760" y="4572000"/>
            <a:ext cx="2813040" cy="1054080"/>
          </a:xfrm>
          <a:custGeom>
            <a:avLst/>
            <a:gdLst/>
            <a:ahLst/>
            <a:rect l="l" t="t" r="r" b="b"/>
            <a:pathLst>
              <a:path w="7815" h="2928">
                <a:moveTo>
                  <a:pt x="5655" y="15106"/>
                </a:moveTo>
                <a:cubicBezTo>
                  <a:pt x="5647" y="15147"/>
                  <a:pt x="5639" y="15189"/>
                  <a:pt x="5631" y="15230"/>
                </a:cubicBezTo>
              </a:path>
              <a:path w="7815" h="2928">
                <a:moveTo>
                  <a:pt x="5631" y="15230"/>
                </a:moveTo>
                <a:lnTo>
                  <a:pt x="5631" y="15230"/>
                </a:lnTo>
              </a:path>
              <a:path w="7815" h="2928">
                <a:moveTo>
                  <a:pt x="5011" y="12750"/>
                </a:moveTo>
                <a:cubicBezTo>
                  <a:pt x="5011" y="12851"/>
                  <a:pt x="4986" y="12882"/>
                  <a:pt x="4961" y="12973"/>
                </a:cubicBezTo>
                <a:cubicBezTo>
                  <a:pt x="4929" y="13089"/>
                  <a:pt x="4911" y="13176"/>
                  <a:pt x="4911" y="13295"/>
                </a:cubicBezTo>
                <a:cubicBezTo>
                  <a:pt x="4911" y="13399"/>
                  <a:pt x="4905" y="13524"/>
                  <a:pt x="4961" y="13618"/>
                </a:cubicBezTo>
                <a:cubicBezTo>
                  <a:pt x="4992" y="13671"/>
                  <a:pt x="5108" y="13767"/>
                  <a:pt x="5159" y="13791"/>
                </a:cubicBezTo>
                <a:cubicBezTo>
                  <a:pt x="5225" y="13823"/>
                  <a:pt x="5342" y="13836"/>
                  <a:pt x="5407" y="13791"/>
                </a:cubicBezTo>
                <a:cubicBezTo>
                  <a:pt x="5465" y="13751"/>
                  <a:pt x="5528" y="13660"/>
                  <a:pt x="5556" y="13593"/>
                </a:cubicBezTo>
                <a:cubicBezTo>
                  <a:pt x="5584" y="13526"/>
                  <a:pt x="5587" y="13455"/>
                  <a:pt x="5556" y="13395"/>
                </a:cubicBezTo>
                <a:cubicBezTo>
                  <a:pt x="5543" y="13370"/>
                  <a:pt x="5502" y="13340"/>
                  <a:pt x="5482" y="13320"/>
                </a:cubicBezTo>
                <a:cubicBezTo>
                  <a:pt x="5410" y="13392"/>
                  <a:pt x="5352" y="13434"/>
                  <a:pt x="5333" y="13543"/>
                </a:cubicBezTo>
                <a:cubicBezTo>
                  <a:pt x="5324" y="13594"/>
                  <a:pt x="5317" y="13726"/>
                  <a:pt x="5358" y="13767"/>
                </a:cubicBezTo>
                <a:cubicBezTo>
                  <a:pt x="5374" y="13775"/>
                  <a:pt x="5391" y="13783"/>
                  <a:pt x="5407" y="13791"/>
                </a:cubicBezTo>
              </a:path>
              <a:path w="7815" h="2928">
                <a:moveTo>
                  <a:pt x="5904" y="13171"/>
                </a:moveTo>
                <a:cubicBezTo>
                  <a:pt x="5884" y="13246"/>
                  <a:pt x="5857" y="13319"/>
                  <a:pt x="5854" y="13395"/>
                </a:cubicBezTo>
                <a:cubicBezTo>
                  <a:pt x="5850" y="13475"/>
                  <a:pt x="5846" y="13546"/>
                  <a:pt x="5879" y="13618"/>
                </a:cubicBezTo>
                <a:cubicBezTo>
                  <a:pt x="5918" y="13704"/>
                  <a:pt x="5989" y="13747"/>
                  <a:pt x="6077" y="13692"/>
                </a:cubicBezTo>
                <a:cubicBezTo>
                  <a:pt x="6122" y="13664"/>
                  <a:pt x="6153" y="13612"/>
                  <a:pt x="6176" y="13568"/>
                </a:cubicBezTo>
                <a:cubicBezTo>
                  <a:pt x="6202" y="13519"/>
                  <a:pt x="6241" y="13467"/>
                  <a:pt x="6251" y="13419"/>
                </a:cubicBezTo>
                <a:cubicBezTo>
                  <a:pt x="6262" y="13367"/>
                  <a:pt x="6268" y="13348"/>
                  <a:pt x="6276" y="13295"/>
                </a:cubicBezTo>
                <a:cubicBezTo>
                  <a:pt x="6276" y="13488"/>
                  <a:pt x="6283" y="13677"/>
                  <a:pt x="6300" y="13866"/>
                </a:cubicBezTo>
                <a:cubicBezTo>
                  <a:pt x="6313" y="14013"/>
                  <a:pt x="6348" y="14167"/>
                  <a:pt x="6375" y="14312"/>
                </a:cubicBezTo>
                <a:cubicBezTo>
                  <a:pt x="6395" y="14420"/>
                  <a:pt x="6419" y="14525"/>
                  <a:pt x="6424" y="14635"/>
                </a:cubicBezTo>
                <a:cubicBezTo>
                  <a:pt x="6424" y="14651"/>
                  <a:pt x="6424" y="14668"/>
                  <a:pt x="6424" y="14684"/>
                </a:cubicBezTo>
                <a:cubicBezTo>
                  <a:pt x="6336" y="14775"/>
                  <a:pt x="6289" y="14686"/>
                  <a:pt x="6201" y="14635"/>
                </a:cubicBezTo>
                <a:cubicBezTo>
                  <a:pt x="6071" y="14559"/>
                  <a:pt x="6049" y="14517"/>
                  <a:pt x="5978" y="14387"/>
                </a:cubicBezTo>
                <a:cubicBezTo>
                  <a:pt x="5970" y="14370"/>
                  <a:pt x="5961" y="14354"/>
                  <a:pt x="5953" y="14337"/>
                </a:cubicBezTo>
              </a:path>
              <a:path w="7815" h="2928">
                <a:moveTo>
                  <a:pt x="6796" y="13047"/>
                </a:moveTo>
                <a:cubicBezTo>
                  <a:pt x="6806" y="13120"/>
                  <a:pt x="6821" y="13163"/>
                  <a:pt x="6821" y="13246"/>
                </a:cubicBezTo>
                <a:cubicBezTo>
                  <a:pt x="6821" y="13370"/>
                  <a:pt x="6821" y="13494"/>
                  <a:pt x="6821" y="13618"/>
                </a:cubicBezTo>
              </a:path>
              <a:path w="7815" h="2928">
                <a:moveTo>
                  <a:pt x="6648" y="13271"/>
                </a:moveTo>
                <a:cubicBezTo>
                  <a:pt x="6713" y="13295"/>
                  <a:pt x="6777" y="13317"/>
                  <a:pt x="6846" y="13320"/>
                </a:cubicBezTo>
                <a:cubicBezTo>
                  <a:pt x="6929" y="13320"/>
                  <a:pt x="6962" y="13320"/>
                  <a:pt x="7020" y="13320"/>
                </a:cubicBezTo>
              </a:path>
              <a:path w="7815" h="2928">
                <a:moveTo>
                  <a:pt x="7392" y="12898"/>
                </a:moveTo>
                <a:cubicBezTo>
                  <a:pt x="7469" y="12835"/>
                  <a:pt x="7536" y="12789"/>
                  <a:pt x="7640" y="12849"/>
                </a:cubicBezTo>
                <a:cubicBezTo>
                  <a:pt x="7717" y="12893"/>
                  <a:pt x="7771" y="12975"/>
                  <a:pt x="7739" y="13047"/>
                </a:cubicBezTo>
                <a:cubicBezTo>
                  <a:pt x="7710" y="13114"/>
                  <a:pt x="7685" y="13142"/>
                  <a:pt x="7615" y="13146"/>
                </a:cubicBezTo>
                <a:cubicBezTo>
                  <a:pt x="7549" y="13150"/>
                  <a:pt x="7525" y="13187"/>
                  <a:pt x="7466" y="13221"/>
                </a:cubicBezTo>
                <a:cubicBezTo>
                  <a:pt x="7512" y="13248"/>
                  <a:pt x="7560" y="13273"/>
                  <a:pt x="7615" y="13295"/>
                </a:cubicBezTo>
                <a:cubicBezTo>
                  <a:pt x="7716" y="13336"/>
                  <a:pt x="7742" y="13372"/>
                  <a:pt x="7789" y="13469"/>
                </a:cubicBezTo>
                <a:cubicBezTo>
                  <a:pt x="7827" y="13546"/>
                  <a:pt x="7806" y="13617"/>
                  <a:pt x="7764" y="13692"/>
                </a:cubicBezTo>
                <a:cubicBezTo>
                  <a:pt x="7741" y="13733"/>
                  <a:pt x="7609" y="13729"/>
                  <a:pt x="7565" y="13717"/>
                </a:cubicBezTo>
                <a:cubicBezTo>
                  <a:pt x="7515" y="13703"/>
                  <a:pt x="7413" y="13645"/>
                  <a:pt x="7392" y="13593"/>
                </a:cubicBezTo>
                <a:cubicBezTo>
                  <a:pt x="7392" y="13576"/>
                  <a:pt x="7392" y="13560"/>
                  <a:pt x="7392" y="13543"/>
                </a:cubicBezTo>
              </a:path>
              <a:path w="7815" h="2928">
                <a:moveTo>
                  <a:pt x="8111" y="12948"/>
                </a:moveTo>
                <a:cubicBezTo>
                  <a:pt x="8102" y="13023"/>
                  <a:pt x="8072" y="13077"/>
                  <a:pt x="8037" y="13146"/>
                </a:cubicBezTo>
                <a:cubicBezTo>
                  <a:pt x="7962" y="13295"/>
                  <a:pt x="7941" y="13364"/>
                  <a:pt x="7987" y="13519"/>
                </a:cubicBezTo>
                <a:cubicBezTo>
                  <a:pt x="8011" y="13598"/>
                  <a:pt x="8073" y="13713"/>
                  <a:pt x="8136" y="13767"/>
                </a:cubicBezTo>
                <a:cubicBezTo>
                  <a:pt x="8204" y="13825"/>
                  <a:pt x="8282" y="13789"/>
                  <a:pt x="8334" y="13742"/>
                </a:cubicBezTo>
                <a:cubicBezTo>
                  <a:pt x="8393" y="13689"/>
                  <a:pt x="8460" y="13576"/>
                  <a:pt x="8458" y="13494"/>
                </a:cubicBezTo>
                <a:cubicBezTo>
                  <a:pt x="8455" y="13371"/>
                  <a:pt x="8428" y="13224"/>
                  <a:pt x="8359" y="13122"/>
                </a:cubicBezTo>
                <a:cubicBezTo>
                  <a:pt x="8309" y="13048"/>
                  <a:pt x="8265" y="13013"/>
                  <a:pt x="8186" y="12973"/>
                </a:cubicBezTo>
              </a:path>
              <a:path w="7815" h="2928">
                <a:moveTo>
                  <a:pt x="8508" y="13097"/>
                </a:moveTo>
                <a:cubicBezTo>
                  <a:pt x="8609" y="13137"/>
                  <a:pt x="8702" y="13177"/>
                  <a:pt x="8806" y="13196"/>
                </a:cubicBezTo>
              </a:path>
              <a:path w="7815" h="2928">
                <a:moveTo>
                  <a:pt x="8706" y="13444"/>
                </a:moveTo>
                <a:cubicBezTo>
                  <a:pt x="8846" y="13484"/>
                  <a:pt x="8868" y="13501"/>
                  <a:pt x="8954" y="13494"/>
                </a:cubicBezTo>
              </a:path>
              <a:path w="7815" h="2928">
                <a:moveTo>
                  <a:pt x="9401" y="12973"/>
                </a:moveTo>
                <a:cubicBezTo>
                  <a:pt x="9411" y="13052"/>
                  <a:pt x="9426" y="13112"/>
                  <a:pt x="9426" y="13196"/>
                </a:cubicBezTo>
                <a:cubicBezTo>
                  <a:pt x="9426" y="13271"/>
                  <a:pt x="9426" y="13333"/>
                  <a:pt x="9426" y="13221"/>
                </a:cubicBezTo>
              </a:path>
              <a:path w="7815" h="2928">
                <a:moveTo>
                  <a:pt x="9699" y="12849"/>
                </a:moveTo>
                <a:cubicBezTo>
                  <a:pt x="9632" y="12782"/>
                  <a:pt x="9599" y="12755"/>
                  <a:pt x="9500" y="12750"/>
                </a:cubicBezTo>
                <a:cubicBezTo>
                  <a:pt x="9409" y="12745"/>
                  <a:pt x="9405" y="12797"/>
                  <a:pt x="9401" y="12874"/>
                </a:cubicBezTo>
                <a:cubicBezTo>
                  <a:pt x="9396" y="12973"/>
                  <a:pt x="9418" y="13083"/>
                  <a:pt x="9451" y="13171"/>
                </a:cubicBezTo>
                <a:cubicBezTo>
                  <a:pt x="9491" y="13280"/>
                  <a:pt x="9558" y="13375"/>
                  <a:pt x="9575" y="13494"/>
                </a:cubicBezTo>
                <a:cubicBezTo>
                  <a:pt x="9587" y="13574"/>
                  <a:pt x="9594" y="13720"/>
                  <a:pt x="9550" y="13791"/>
                </a:cubicBezTo>
                <a:cubicBezTo>
                  <a:pt x="9520" y="13821"/>
                  <a:pt x="9506" y="13832"/>
                  <a:pt x="9475" y="13841"/>
                </a:cubicBezTo>
                <a:cubicBezTo>
                  <a:pt x="9427" y="13791"/>
                  <a:pt x="9386" y="13740"/>
                  <a:pt x="9376" y="13667"/>
                </a:cubicBezTo>
                <a:cubicBezTo>
                  <a:pt x="9367" y="13601"/>
                  <a:pt x="9386" y="13486"/>
                  <a:pt x="9401" y="13419"/>
                </a:cubicBezTo>
                <a:cubicBezTo>
                  <a:pt x="9418" y="13343"/>
                  <a:pt x="9433" y="13268"/>
                  <a:pt x="9451" y="13196"/>
                </a:cubicBezTo>
                <a:cubicBezTo>
                  <a:pt x="9477" y="13096"/>
                  <a:pt x="9507" y="13023"/>
                  <a:pt x="9575" y="12948"/>
                </a:cubicBezTo>
                <a:cubicBezTo>
                  <a:pt x="9618" y="12901"/>
                  <a:pt x="9638" y="12830"/>
                  <a:pt x="9674" y="12774"/>
                </a:cubicBezTo>
                <a:cubicBezTo>
                  <a:pt x="9696" y="12731"/>
                  <a:pt x="9700" y="12720"/>
                  <a:pt x="9723" y="12700"/>
                </a:cubicBezTo>
              </a:path>
              <a:path w="7815" h="2928">
                <a:moveTo>
                  <a:pt x="9823" y="13221"/>
                </a:moveTo>
                <a:cubicBezTo>
                  <a:pt x="9823" y="13307"/>
                  <a:pt x="9786" y="13592"/>
                  <a:pt x="9847" y="13692"/>
                </a:cubicBezTo>
                <a:cubicBezTo>
                  <a:pt x="9899" y="13777"/>
                  <a:pt x="9948" y="13777"/>
                  <a:pt x="10021" y="13717"/>
                </a:cubicBezTo>
                <a:cubicBezTo>
                  <a:pt x="10070" y="13677"/>
                  <a:pt x="10114" y="13646"/>
                  <a:pt x="10145" y="13593"/>
                </a:cubicBezTo>
                <a:cubicBezTo>
                  <a:pt x="10169" y="13552"/>
                  <a:pt x="10209" y="13465"/>
                  <a:pt x="10220" y="13419"/>
                </a:cubicBezTo>
                <a:cubicBezTo>
                  <a:pt x="10220" y="13375"/>
                  <a:pt x="10217" y="13362"/>
                  <a:pt x="10244" y="13345"/>
                </a:cubicBezTo>
                <a:cubicBezTo>
                  <a:pt x="10244" y="13426"/>
                  <a:pt x="10229" y="13494"/>
                  <a:pt x="10220" y="13568"/>
                </a:cubicBezTo>
                <a:cubicBezTo>
                  <a:pt x="10180" y="13884"/>
                  <a:pt x="10225" y="14220"/>
                  <a:pt x="10195" y="14536"/>
                </a:cubicBezTo>
                <a:cubicBezTo>
                  <a:pt x="10186" y="14634"/>
                  <a:pt x="10178" y="14723"/>
                  <a:pt x="10120" y="14808"/>
                </a:cubicBezTo>
                <a:cubicBezTo>
                  <a:pt x="10089" y="14853"/>
                  <a:pt x="10038" y="14887"/>
                  <a:pt x="9996" y="14833"/>
                </a:cubicBezTo>
                <a:cubicBezTo>
                  <a:pt x="9964" y="14792"/>
                  <a:pt x="9960" y="14709"/>
                  <a:pt x="9947" y="14660"/>
                </a:cubicBezTo>
              </a:path>
              <a:path w="7815" h="2928">
                <a:moveTo>
                  <a:pt x="10567" y="13469"/>
                </a:moveTo>
                <a:cubicBezTo>
                  <a:pt x="10690" y="13448"/>
                  <a:pt x="10796" y="13434"/>
                  <a:pt x="10914" y="13395"/>
                </a:cubicBezTo>
              </a:path>
              <a:path w="7815" h="2928">
                <a:moveTo>
                  <a:pt x="11385" y="13122"/>
                </a:moveTo>
                <a:cubicBezTo>
                  <a:pt x="11345" y="13022"/>
                  <a:pt x="11352" y="12992"/>
                  <a:pt x="11286" y="12973"/>
                </a:cubicBezTo>
                <a:cubicBezTo>
                  <a:pt x="11230" y="13001"/>
                  <a:pt x="11142" y="13037"/>
                  <a:pt x="11162" y="13122"/>
                </a:cubicBezTo>
                <a:cubicBezTo>
                  <a:pt x="11183" y="13212"/>
                  <a:pt x="11234" y="13305"/>
                  <a:pt x="11261" y="13395"/>
                </a:cubicBezTo>
                <a:cubicBezTo>
                  <a:pt x="11305" y="13541"/>
                  <a:pt x="11311" y="13645"/>
                  <a:pt x="11311" y="13791"/>
                </a:cubicBezTo>
                <a:cubicBezTo>
                  <a:pt x="11311" y="13837"/>
                  <a:pt x="11299" y="13922"/>
                  <a:pt x="11237" y="13940"/>
                </a:cubicBezTo>
                <a:cubicBezTo>
                  <a:pt x="11220" y="13940"/>
                  <a:pt x="11204" y="13940"/>
                  <a:pt x="11187" y="13940"/>
                </a:cubicBezTo>
                <a:cubicBezTo>
                  <a:pt x="11140" y="13893"/>
                  <a:pt x="11124" y="13863"/>
                  <a:pt x="11137" y="13791"/>
                </a:cubicBezTo>
                <a:cubicBezTo>
                  <a:pt x="11158" y="13672"/>
                  <a:pt x="11176" y="13616"/>
                  <a:pt x="11237" y="13519"/>
                </a:cubicBezTo>
                <a:cubicBezTo>
                  <a:pt x="11271" y="13465"/>
                  <a:pt x="11315" y="13363"/>
                  <a:pt x="11361" y="13320"/>
                </a:cubicBezTo>
                <a:cubicBezTo>
                  <a:pt x="11426" y="13259"/>
                  <a:pt x="11474" y="13237"/>
                  <a:pt x="11509" y="13146"/>
                </a:cubicBezTo>
                <a:cubicBezTo>
                  <a:pt x="11531" y="13081"/>
                  <a:pt x="11539" y="13066"/>
                  <a:pt x="11534" y="13022"/>
                </a:cubicBezTo>
              </a:path>
              <a:path w="7815" h="2928">
                <a:moveTo>
                  <a:pt x="11534" y="13345"/>
                </a:moveTo>
                <a:cubicBezTo>
                  <a:pt x="11534" y="13434"/>
                  <a:pt x="11530" y="13539"/>
                  <a:pt x="11559" y="13618"/>
                </a:cubicBezTo>
                <a:cubicBezTo>
                  <a:pt x="11572" y="13653"/>
                  <a:pt x="11662" y="13799"/>
                  <a:pt x="11708" y="13816"/>
                </a:cubicBezTo>
                <a:cubicBezTo>
                  <a:pt x="11751" y="13831"/>
                  <a:pt x="11825" y="13766"/>
                  <a:pt x="11857" y="13742"/>
                </a:cubicBezTo>
                <a:cubicBezTo>
                  <a:pt x="11907" y="13704"/>
                  <a:pt x="11900" y="13647"/>
                  <a:pt x="11906" y="13593"/>
                </a:cubicBezTo>
                <a:cubicBezTo>
                  <a:pt x="11936" y="13643"/>
                  <a:pt x="11939" y="13703"/>
                  <a:pt x="11931" y="13767"/>
                </a:cubicBezTo>
                <a:cubicBezTo>
                  <a:pt x="11910" y="13942"/>
                  <a:pt x="11918" y="14142"/>
                  <a:pt x="11881" y="14312"/>
                </a:cubicBezTo>
                <a:cubicBezTo>
                  <a:pt x="11840" y="14501"/>
                  <a:pt x="11764" y="14709"/>
                  <a:pt x="11683" y="14883"/>
                </a:cubicBezTo>
                <a:cubicBezTo>
                  <a:pt x="11634" y="14989"/>
                  <a:pt x="11566" y="15055"/>
                  <a:pt x="11460" y="15081"/>
                </a:cubicBezTo>
                <a:cubicBezTo>
                  <a:pt x="11410" y="15007"/>
                  <a:pt x="11393" y="14982"/>
                  <a:pt x="11361" y="14932"/>
                </a:cubicBezTo>
              </a:path>
              <a:path w="7815" h="2928">
                <a:moveTo>
                  <a:pt x="11584" y="13097"/>
                </a:moveTo>
                <a:cubicBezTo>
                  <a:pt x="11571" y="13199"/>
                  <a:pt x="11536" y="13287"/>
                  <a:pt x="11534" y="13395"/>
                </a:cubicBezTo>
                <a:cubicBezTo>
                  <a:pt x="11531" y="13575"/>
                  <a:pt x="11521" y="13768"/>
                  <a:pt x="11584" y="13940"/>
                </a:cubicBezTo>
                <a:cubicBezTo>
                  <a:pt x="11622" y="14043"/>
                  <a:pt x="11678" y="14215"/>
                  <a:pt x="11782" y="14263"/>
                </a:cubicBezTo>
                <a:cubicBezTo>
                  <a:pt x="11807" y="14271"/>
                  <a:pt x="11832" y="14280"/>
                  <a:pt x="11857" y="14288"/>
                </a:cubicBezTo>
                <a:cubicBezTo>
                  <a:pt x="11966" y="14198"/>
                  <a:pt x="12019" y="14177"/>
                  <a:pt x="12105" y="14039"/>
                </a:cubicBezTo>
                <a:cubicBezTo>
                  <a:pt x="12188" y="13906"/>
                  <a:pt x="12239" y="13748"/>
                  <a:pt x="12254" y="13593"/>
                </a:cubicBezTo>
                <a:cubicBezTo>
                  <a:pt x="12267" y="13453"/>
                  <a:pt x="12263" y="13277"/>
                  <a:pt x="12204" y="13146"/>
                </a:cubicBezTo>
                <a:cubicBezTo>
                  <a:pt x="12173" y="13078"/>
                  <a:pt x="12117" y="13014"/>
                  <a:pt x="12080" y="12948"/>
                </a:cubicBezTo>
                <a:cubicBezTo>
                  <a:pt x="11914" y="12948"/>
                  <a:pt x="11944" y="12947"/>
                  <a:pt x="11832" y="13072"/>
                </a:cubicBezTo>
                <a:cubicBezTo>
                  <a:pt x="11723" y="13194"/>
                  <a:pt x="11734" y="13263"/>
                  <a:pt x="11708" y="13419"/>
                </a:cubicBezTo>
                <a:cubicBezTo>
                  <a:pt x="11685" y="13558"/>
                  <a:pt x="11693" y="13657"/>
                  <a:pt x="11708" y="13791"/>
                </a:cubicBezTo>
                <a:cubicBezTo>
                  <a:pt x="11721" y="13904"/>
                  <a:pt x="11736" y="13967"/>
                  <a:pt x="11832" y="14015"/>
                </a:cubicBezTo>
                <a:cubicBezTo>
                  <a:pt x="11932" y="13914"/>
                  <a:pt x="11984" y="13839"/>
                  <a:pt x="12055" y="13717"/>
                </a:cubicBezTo>
                <a:cubicBezTo>
                  <a:pt x="12136" y="13577"/>
                  <a:pt x="12150" y="13432"/>
                  <a:pt x="12154" y="13271"/>
                </a:cubicBezTo>
                <a:cubicBezTo>
                  <a:pt x="12157" y="13152"/>
                  <a:pt x="12135" y="13007"/>
                  <a:pt x="12080" y="12898"/>
                </a:cubicBezTo>
                <a:cubicBezTo>
                  <a:pt x="12022" y="12812"/>
                  <a:pt x="11991" y="12782"/>
                  <a:pt x="11906" y="12774"/>
                </a:cubicBezTo>
                <a:cubicBezTo>
                  <a:pt x="11780" y="12774"/>
                  <a:pt x="11753" y="12785"/>
                  <a:pt x="11683" y="12898"/>
                </a:cubicBezTo>
                <a:cubicBezTo>
                  <a:pt x="11624" y="12994"/>
                  <a:pt x="11595" y="13161"/>
                  <a:pt x="11584" y="13271"/>
                </a:cubicBezTo>
                <a:cubicBezTo>
                  <a:pt x="11565" y="13458"/>
                  <a:pt x="11642" y="13688"/>
                  <a:pt x="11683" y="13866"/>
                </a:cubicBezTo>
                <a:cubicBezTo>
                  <a:pt x="11707" y="13973"/>
                  <a:pt x="11726" y="14003"/>
                  <a:pt x="11807" y="14064"/>
                </a:cubicBezTo>
                <a:cubicBezTo>
                  <a:pt x="12035" y="14064"/>
                  <a:pt x="11994" y="13947"/>
                  <a:pt x="12105" y="13717"/>
                </a:cubicBezTo>
                <a:cubicBezTo>
                  <a:pt x="12179" y="13564"/>
                  <a:pt x="12205" y="13392"/>
                  <a:pt x="12179" y="13221"/>
                </a:cubicBezTo>
                <a:cubicBezTo>
                  <a:pt x="12154" y="13055"/>
                  <a:pt x="12121" y="12915"/>
                  <a:pt x="11981" y="12824"/>
                </a:cubicBezTo>
                <a:cubicBezTo>
                  <a:pt x="11933" y="12800"/>
                  <a:pt x="11918" y="12792"/>
                  <a:pt x="11881" y="12799"/>
                </a:cubicBezTo>
                <a:cubicBezTo>
                  <a:pt x="11783" y="12871"/>
                  <a:pt x="11702" y="12918"/>
                  <a:pt x="11683" y="13047"/>
                </a:cubicBezTo>
                <a:cubicBezTo>
                  <a:pt x="11659" y="13207"/>
                  <a:pt x="11686" y="13413"/>
                  <a:pt x="11708" y="13568"/>
                </a:cubicBezTo>
                <a:cubicBezTo>
                  <a:pt x="11728" y="13707"/>
                  <a:pt x="11796" y="13816"/>
                  <a:pt x="11857" y="13940"/>
                </a:cubicBezTo>
                <a:cubicBezTo>
                  <a:pt x="11880" y="13988"/>
                  <a:pt x="11886" y="14005"/>
                  <a:pt x="11931" y="13990"/>
                </a:cubicBezTo>
                <a:cubicBezTo>
                  <a:pt x="12048" y="13912"/>
                  <a:pt x="12068" y="13842"/>
                  <a:pt x="12129" y="13717"/>
                </a:cubicBezTo>
                <a:cubicBezTo>
                  <a:pt x="12207" y="13557"/>
                  <a:pt x="12270" y="13324"/>
                  <a:pt x="12229" y="13146"/>
                </a:cubicBezTo>
                <a:cubicBezTo>
                  <a:pt x="12208" y="13054"/>
                  <a:pt x="12132" y="12913"/>
                  <a:pt x="12055" y="12849"/>
                </a:cubicBezTo>
                <a:cubicBezTo>
                  <a:pt x="11992" y="12806"/>
                  <a:pt x="11980" y="12790"/>
                  <a:pt x="11931" y="12799"/>
                </a:cubicBezTo>
                <a:cubicBezTo>
                  <a:pt x="11833" y="12811"/>
                  <a:pt x="11780" y="12854"/>
                  <a:pt x="11733" y="12948"/>
                </a:cubicBezTo>
                <a:cubicBezTo>
                  <a:pt x="11656" y="13101"/>
                  <a:pt x="11666" y="13304"/>
                  <a:pt x="11683" y="13469"/>
                </a:cubicBezTo>
                <a:cubicBezTo>
                  <a:pt x="11701" y="13641"/>
                  <a:pt x="11711" y="13806"/>
                  <a:pt x="11782" y="13965"/>
                </a:cubicBezTo>
                <a:cubicBezTo>
                  <a:pt x="11815" y="14038"/>
                  <a:pt x="11857" y="14103"/>
                  <a:pt x="11906" y="14163"/>
                </a:cubicBezTo>
                <a:cubicBezTo>
                  <a:pt x="12036" y="14083"/>
                  <a:pt x="12032" y="14045"/>
                  <a:pt x="12105" y="13891"/>
                </a:cubicBezTo>
                <a:cubicBezTo>
                  <a:pt x="12162" y="13771"/>
                  <a:pt x="12232" y="13580"/>
                  <a:pt x="12229" y="13444"/>
                </a:cubicBezTo>
                <a:cubicBezTo>
                  <a:pt x="12226" y="13303"/>
                  <a:pt x="12173" y="13122"/>
                  <a:pt x="12105" y="12998"/>
                </a:cubicBezTo>
                <a:cubicBezTo>
                  <a:pt x="12039" y="12877"/>
                  <a:pt x="12010" y="12887"/>
                  <a:pt x="11881" y="12849"/>
                </a:cubicBezTo>
                <a:cubicBezTo>
                  <a:pt x="11768" y="12906"/>
                  <a:pt x="11705" y="12963"/>
                  <a:pt x="11683" y="13097"/>
                </a:cubicBezTo>
                <a:cubicBezTo>
                  <a:pt x="11659" y="13239"/>
                  <a:pt x="11699" y="13382"/>
                  <a:pt x="11708" y="13519"/>
                </a:cubicBezTo>
                <a:cubicBezTo>
                  <a:pt x="11720" y="13697"/>
                  <a:pt x="11746" y="13782"/>
                  <a:pt x="11832" y="13940"/>
                </a:cubicBezTo>
                <a:cubicBezTo>
                  <a:pt x="11856" y="13985"/>
                  <a:pt x="11871" y="14004"/>
                  <a:pt x="11906" y="14039"/>
                </a:cubicBezTo>
                <a:cubicBezTo>
                  <a:pt x="12042" y="13952"/>
                  <a:pt x="12071" y="13880"/>
                  <a:pt x="12154" y="13742"/>
                </a:cubicBezTo>
                <a:cubicBezTo>
                  <a:pt x="12238" y="13602"/>
                  <a:pt x="12229" y="13480"/>
                  <a:pt x="12229" y="13320"/>
                </a:cubicBezTo>
                <a:cubicBezTo>
                  <a:pt x="12229" y="13168"/>
                  <a:pt x="12165" y="13071"/>
                  <a:pt x="12080" y="12948"/>
                </a:cubicBezTo>
                <a:cubicBezTo>
                  <a:pt x="12010" y="12847"/>
                  <a:pt x="11917" y="12796"/>
                  <a:pt x="11832" y="12923"/>
                </a:cubicBezTo>
                <a:cubicBezTo>
                  <a:pt x="11743" y="13057"/>
                  <a:pt x="11782" y="13294"/>
                  <a:pt x="11782" y="13444"/>
                </a:cubicBezTo>
                <a:cubicBezTo>
                  <a:pt x="11782" y="13614"/>
                  <a:pt x="11787" y="13772"/>
                  <a:pt x="11807" y="13940"/>
                </a:cubicBezTo>
              </a:path>
              <a:path w="7815" h="2928">
                <a:moveTo>
                  <a:pt x="10815" y="14114"/>
                </a:moveTo>
                <a:cubicBezTo>
                  <a:pt x="10815" y="14219"/>
                  <a:pt x="10794" y="14311"/>
                  <a:pt x="10790" y="14412"/>
                </a:cubicBezTo>
                <a:cubicBezTo>
                  <a:pt x="10786" y="14536"/>
                  <a:pt x="10790" y="14660"/>
                  <a:pt x="10790" y="14784"/>
                </a:cubicBezTo>
              </a:path>
              <a:path w="7815" h="2928">
                <a:moveTo>
                  <a:pt x="10666" y="14362"/>
                </a:moveTo>
                <a:cubicBezTo>
                  <a:pt x="10779" y="14372"/>
                  <a:pt x="10878" y="14420"/>
                  <a:pt x="10988" y="14436"/>
                </a:cubicBezTo>
                <a:cubicBezTo>
                  <a:pt x="11056" y="14436"/>
                  <a:pt x="11075" y="14433"/>
                  <a:pt x="11112" y="14461"/>
                </a:cubicBezTo>
              </a:path>
              <a:path w="7815" h="2928">
                <a:moveTo>
                  <a:pt x="11559" y="14387"/>
                </a:moveTo>
                <a:cubicBezTo>
                  <a:pt x="11511" y="14314"/>
                  <a:pt x="11445" y="14207"/>
                  <a:pt x="11336" y="14238"/>
                </a:cubicBezTo>
                <a:cubicBezTo>
                  <a:pt x="11328" y="14246"/>
                  <a:pt x="11319" y="14255"/>
                  <a:pt x="11311" y="14263"/>
                </a:cubicBezTo>
                <a:cubicBezTo>
                  <a:pt x="11311" y="14347"/>
                  <a:pt x="11324" y="14433"/>
                  <a:pt x="11361" y="14511"/>
                </a:cubicBezTo>
                <a:cubicBezTo>
                  <a:pt x="11395" y="14582"/>
                  <a:pt x="11489" y="14726"/>
                  <a:pt x="11485" y="14808"/>
                </a:cubicBezTo>
                <a:cubicBezTo>
                  <a:pt x="11481" y="14888"/>
                  <a:pt x="11456" y="14922"/>
                  <a:pt x="11385" y="14932"/>
                </a:cubicBezTo>
                <a:cubicBezTo>
                  <a:pt x="11316" y="14922"/>
                  <a:pt x="11257" y="14872"/>
                  <a:pt x="11261" y="14784"/>
                </a:cubicBezTo>
                <a:cubicBezTo>
                  <a:pt x="11263" y="14748"/>
                  <a:pt x="11328" y="14628"/>
                  <a:pt x="11361" y="14610"/>
                </a:cubicBezTo>
                <a:cubicBezTo>
                  <a:pt x="11445" y="14566"/>
                  <a:pt x="11544" y="14556"/>
                  <a:pt x="11633" y="14511"/>
                </a:cubicBezTo>
                <a:cubicBezTo>
                  <a:pt x="11689" y="14483"/>
                  <a:pt x="11727" y="14443"/>
                  <a:pt x="11782" y="14412"/>
                </a:cubicBezTo>
                <a:cubicBezTo>
                  <a:pt x="11812" y="14470"/>
                  <a:pt x="11755" y="14464"/>
                  <a:pt x="11733" y="14536"/>
                </a:cubicBezTo>
                <a:cubicBezTo>
                  <a:pt x="11711" y="14608"/>
                  <a:pt x="11652" y="14810"/>
                  <a:pt x="11683" y="14908"/>
                </a:cubicBezTo>
                <a:cubicBezTo>
                  <a:pt x="11699" y="14959"/>
                  <a:pt x="11815" y="15021"/>
                  <a:pt x="11857" y="15032"/>
                </a:cubicBezTo>
                <a:cubicBezTo>
                  <a:pt x="11947" y="15055"/>
                  <a:pt x="12032" y="14960"/>
                  <a:pt x="12080" y="14908"/>
                </a:cubicBezTo>
                <a:cubicBezTo>
                  <a:pt x="12154" y="14829"/>
                  <a:pt x="12175" y="14742"/>
                  <a:pt x="12179" y="14635"/>
                </a:cubicBezTo>
                <a:cubicBezTo>
                  <a:pt x="12183" y="14531"/>
                  <a:pt x="12125" y="14430"/>
                  <a:pt x="12080" y="14337"/>
                </a:cubicBezTo>
                <a:cubicBezTo>
                  <a:pt x="12038" y="14248"/>
                  <a:pt x="11945" y="14239"/>
                  <a:pt x="11857" y="14213"/>
                </a:cubicBezTo>
              </a:path>
              <a:path w="7815" h="2928">
                <a:moveTo>
                  <a:pt x="7119" y="13866"/>
                </a:moveTo>
                <a:cubicBezTo>
                  <a:pt x="7119" y="14031"/>
                  <a:pt x="7119" y="14197"/>
                  <a:pt x="7119" y="14362"/>
                </a:cubicBezTo>
              </a:path>
              <a:path w="7815" h="2928">
                <a:moveTo>
                  <a:pt x="7020" y="14039"/>
                </a:moveTo>
                <a:cubicBezTo>
                  <a:pt x="7119" y="14082"/>
                  <a:pt x="7253" y="14066"/>
                  <a:pt x="7367" y="14089"/>
                </a:cubicBezTo>
              </a:path>
              <a:path w="7815" h="2928">
                <a:moveTo>
                  <a:pt x="7789" y="14015"/>
                </a:moveTo>
                <a:cubicBezTo>
                  <a:pt x="7738" y="13979"/>
                  <a:pt x="7632" y="13887"/>
                  <a:pt x="7565" y="13891"/>
                </a:cubicBezTo>
                <a:cubicBezTo>
                  <a:pt x="7557" y="13899"/>
                  <a:pt x="7549" y="13907"/>
                  <a:pt x="7541" y="13915"/>
                </a:cubicBezTo>
                <a:cubicBezTo>
                  <a:pt x="7541" y="14047"/>
                  <a:pt x="7622" y="14078"/>
                  <a:pt x="7689" y="14188"/>
                </a:cubicBezTo>
                <a:cubicBezTo>
                  <a:pt x="7728" y="14253"/>
                  <a:pt x="7823" y="14429"/>
                  <a:pt x="7789" y="14511"/>
                </a:cubicBezTo>
                <a:cubicBezTo>
                  <a:pt x="7772" y="14527"/>
                  <a:pt x="7756" y="14544"/>
                  <a:pt x="7739" y="14560"/>
                </a:cubicBezTo>
                <a:cubicBezTo>
                  <a:pt x="7672" y="14553"/>
                  <a:pt x="7585" y="14548"/>
                  <a:pt x="7541" y="14486"/>
                </a:cubicBezTo>
                <a:cubicBezTo>
                  <a:pt x="7488" y="14411"/>
                  <a:pt x="7481" y="14380"/>
                  <a:pt x="7516" y="14288"/>
                </a:cubicBezTo>
                <a:cubicBezTo>
                  <a:pt x="7562" y="14168"/>
                  <a:pt x="7608" y="14210"/>
                  <a:pt x="7689" y="14139"/>
                </a:cubicBezTo>
                <a:cubicBezTo>
                  <a:pt x="7770" y="14068"/>
                  <a:pt x="7766" y="14064"/>
                  <a:pt x="7888" y="14064"/>
                </a:cubicBezTo>
                <a:cubicBezTo>
                  <a:pt x="7954" y="14064"/>
                  <a:pt x="7971" y="14064"/>
                  <a:pt x="8012" y="14064"/>
                </a:cubicBezTo>
                <a:cubicBezTo>
                  <a:pt x="8004" y="14165"/>
                  <a:pt x="7967" y="14212"/>
                  <a:pt x="7962" y="14312"/>
                </a:cubicBezTo>
                <a:cubicBezTo>
                  <a:pt x="7959" y="14376"/>
                  <a:pt x="7960" y="14463"/>
                  <a:pt x="8012" y="14511"/>
                </a:cubicBezTo>
                <a:cubicBezTo>
                  <a:pt x="8051" y="14547"/>
                  <a:pt x="8157" y="14594"/>
                  <a:pt x="8210" y="14585"/>
                </a:cubicBezTo>
                <a:cubicBezTo>
                  <a:pt x="8323" y="14565"/>
                  <a:pt x="8376" y="14493"/>
                  <a:pt x="8409" y="14387"/>
                </a:cubicBezTo>
                <a:cubicBezTo>
                  <a:pt x="8458" y="14228"/>
                  <a:pt x="8205" y="14100"/>
                  <a:pt x="8111" y="14039"/>
                </a:cubicBezTo>
                <a:cubicBezTo>
                  <a:pt x="8086" y="14023"/>
                  <a:pt x="8062" y="14006"/>
                  <a:pt x="8037" y="13990"/>
                </a:cubicBezTo>
              </a:path>
              <a:path w="7815" h="2928">
                <a:moveTo>
                  <a:pt x="4440" y="13841"/>
                </a:moveTo>
                <a:cubicBezTo>
                  <a:pt x="4558" y="13873"/>
                  <a:pt x="4640" y="13891"/>
                  <a:pt x="4762" y="13891"/>
                </a:cubicBezTo>
              </a:path>
              <a:path w="7815" h="2928">
                <a:moveTo>
                  <a:pt x="4911" y="13990"/>
                </a:moveTo>
                <a:cubicBezTo>
                  <a:pt x="4893" y="14131"/>
                  <a:pt x="4871" y="14228"/>
                  <a:pt x="4911" y="14362"/>
                </a:cubicBezTo>
                <a:cubicBezTo>
                  <a:pt x="4946" y="14480"/>
                  <a:pt x="5025" y="14482"/>
                  <a:pt x="5135" y="14436"/>
                </a:cubicBezTo>
                <a:cubicBezTo>
                  <a:pt x="5185" y="14415"/>
                  <a:pt x="5267" y="14367"/>
                  <a:pt x="5283" y="14312"/>
                </a:cubicBezTo>
                <a:cubicBezTo>
                  <a:pt x="5299" y="14256"/>
                  <a:pt x="5284" y="14182"/>
                  <a:pt x="5259" y="14139"/>
                </a:cubicBezTo>
                <a:cubicBezTo>
                  <a:pt x="5180" y="14187"/>
                  <a:pt x="5115" y="14230"/>
                  <a:pt x="5135" y="14337"/>
                </a:cubicBezTo>
                <a:cubicBezTo>
                  <a:pt x="5145" y="14389"/>
                  <a:pt x="5169" y="14402"/>
                  <a:pt x="5209" y="14412"/>
                </a:cubicBezTo>
              </a:path>
              <a:path w="7815" h="2928">
                <a:moveTo>
                  <a:pt x="5581" y="14188"/>
                </a:moveTo>
                <a:cubicBezTo>
                  <a:pt x="5573" y="14250"/>
                  <a:pt x="5538" y="14321"/>
                  <a:pt x="5556" y="14387"/>
                </a:cubicBezTo>
                <a:cubicBezTo>
                  <a:pt x="5585" y="14489"/>
                  <a:pt x="5668" y="14580"/>
                  <a:pt x="5779" y="14560"/>
                </a:cubicBezTo>
                <a:cubicBezTo>
                  <a:pt x="5865" y="14544"/>
                  <a:pt x="5853" y="14464"/>
                  <a:pt x="5879" y="14412"/>
                </a:cubicBezTo>
                <a:cubicBezTo>
                  <a:pt x="5887" y="14404"/>
                  <a:pt x="5896" y="14395"/>
                  <a:pt x="5904" y="14387"/>
                </a:cubicBezTo>
                <a:cubicBezTo>
                  <a:pt x="5914" y="14506"/>
                  <a:pt x="5928" y="14612"/>
                  <a:pt x="5928" y="14734"/>
                </a:cubicBezTo>
                <a:cubicBezTo>
                  <a:pt x="5928" y="14861"/>
                  <a:pt x="5928" y="14962"/>
                  <a:pt x="5879" y="15081"/>
                </a:cubicBezTo>
                <a:cubicBezTo>
                  <a:pt x="5830" y="15200"/>
                  <a:pt x="5695" y="15223"/>
                  <a:pt x="5581" y="15205"/>
                </a:cubicBezTo>
                <a:cubicBezTo>
                  <a:pt x="5422" y="15180"/>
                  <a:pt x="5419" y="15095"/>
                  <a:pt x="5383" y="14957"/>
                </a:cubicBezTo>
              </a:path>
              <a:path w="7815" h="2928">
                <a:moveTo>
                  <a:pt x="9079" y="14536"/>
                </a:moveTo>
                <a:cubicBezTo>
                  <a:pt x="9194" y="14517"/>
                  <a:pt x="9210" y="14508"/>
                  <a:pt x="9277" y="14511"/>
                </a:cubicBezTo>
              </a:path>
              <a:path w="7815" h="2928">
                <a:moveTo>
                  <a:pt x="9674" y="14213"/>
                </a:moveTo>
                <a:cubicBezTo>
                  <a:pt x="9665" y="14281"/>
                  <a:pt x="9631" y="14346"/>
                  <a:pt x="9624" y="14412"/>
                </a:cubicBezTo>
                <a:cubicBezTo>
                  <a:pt x="9612" y="14522"/>
                  <a:pt x="9614" y="14639"/>
                  <a:pt x="9674" y="14734"/>
                </a:cubicBezTo>
                <a:cubicBezTo>
                  <a:pt x="9721" y="14808"/>
                  <a:pt x="9798" y="14842"/>
                  <a:pt x="9872" y="14808"/>
                </a:cubicBezTo>
                <a:cubicBezTo>
                  <a:pt x="9897" y="14796"/>
                  <a:pt x="9989" y="14743"/>
                  <a:pt x="9996" y="14709"/>
                </a:cubicBezTo>
                <a:cubicBezTo>
                  <a:pt x="10014" y="14622"/>
                  <a:pt x="10004" y="14578"/>
                  <a:pt x="9947" y="14536"/>
                </a:cubicBezTo>
                <a:cubicBezTo>
                  <a:pt x="9872" y="14578"/>
                  <a:pt x="9849" y="14613"/>
                  <a:pt x="9872" y="14709"/>
                </a:cubicBezTo>
                <a:cubicBezTo>
                  <a:pt x="9888" y="14774"/>
                  <a:pt x="9946" y="14798"/>
                  <a:pt x="9996" y="14833"/>
                </a:cubicBezTo>
              </a:path>
              <a:path w="7815" h="2928">
                <a:moveTo>
                  <a:pt x="10220" y="14560"/>
                </a:moveTo>
                <a:cubicBezTo>
                  <a:pt x="10199" y="14617"/>
                  <a:pt x="10177" y="14695"/>
                  <a:pt x="10195" y="14759"/>
                </a:cubicBezTo>
                <a:cubicBezTo>
                  <a:pt x="10217" y="14839"/>
                  <a:pt x="10285" y="14914"/>
                  <a:pt x="10368" y="14932"/>
                </a:cubicBezTo>
                <a:cubicBezTo>
                  <a:pt x="10411" y="14941"/>
                  <a:pt x="10449" y="14914"/>
                  <a:pt x="10492" y="14908"/>
                </a:cubicBezTo>
                <a:cubicBezTo>
                  <a:pt x="10470" y="15132"/>
                  <a:pt x="10361" y="15321"/>
                  <a:pt x="10244" y="15503"/>
                </a:cubicBezTo>
                <a:cubicBezTo>
                  <a:pt x="10179" y="15605"/>
                  <a:pt x="10158" y="15658"/>
                  <a:pt x="10021" y="15627"/>
                </a:cubicBezTo>
                <a:cubicBezTo>
                  <a:pt x="9967" y="15600"/>
                  <a:pt x="9947" y="15589"/>
                  <a:pt x="9922" y="155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Ink 5"/>
          <p:cNvSpPr/>
          <p:nvPr/>
        </p:nvSpPr>
        <p:spPr>
          <a:xfrm>
            <a:off x="2697120" y="5464080"/>
            <a:ext cx="928800" cy="652680"/>
          </a:xfrm>
          <a:custGeom>
            <a:avLst/>
            <a:gdLst/>
            <a:ahLst/>
            <a:rect l="l" t="t" r="r" b="b"/>
            <a:pathLst>
              <a:path w="2581" h="1812">
                <a:moveTo>
                  <a:pt x="7491" y="15180"/>
                </a:moveTo>
                <a:cubicBezTo>
                  <a:pt x="7491" y="15344"/>
                  <a:pt x="7502" y="15494"/>
                  <a:pt x="7516" y="15652"/>
                </a:cubicBezTo>
                <a:cubicBezTo>
                  <a:pt x="7526" y="15757"/>
                  <a:pt x="7516" y="15868"/>
                  <a:pt x="7516" y="15974"/>
                </a:cubicBezTo>
              </a:path>
              <a:path w="2581" h="1812">
                <a:moveTo>
                  <a:pt x="7789" y="15280"/>
                </a:moveTo>
                <a:cubicBezTo>
                  <a:pt x="7789" y="15429"/>
                  <a:pt x="7789" y="15580"/>
                  <a:pt x="7813" y="15726"/>
                </a:cubicBezTo>
                <a:cubicBezTo>
                  <a:pt x="7818" y="15756"/>
                  <a:pt x="7857" y="16021"/>
                  <a:pt x="7863" y="16024"/>
                </a:cubicBezTo>
                <a:cubicBezTo>
                  <a:pt x="7871" y="16016"/>
                  <a:pt x="7880" y="16007"/>
                  <a:pt x="7888" y="15999"/>
                </a:cubicBezTo>
              </a:path>
              <a:path w="2581" h="1812">
                <a:moveTo>
                  <a:pt x="8136" y="15329"/>
                </a:moveTo>
                <a:cubicBezTo>
                  <a:pt x="8119" y="15397"/>
                  <a:pt x="8074" y="15484"/>
                  <a:pt x="8037" y="15553"/>
                </a:cubicBezTo>
                <a:cubicBezTo>
                  <a:pt x="7984" y="15650"/>
                  <a:pt x="7942" y="15763"/>
                  <a:pt x="7987" y="15875"/>
                </a:cubicBezTo>
                <a:cubicBezTo>
                  <a:pt x="8042" y="15985"/>
                  <a:pt x="8037" y="16003"/>
                  <a:pt x="8086" y="16049"/>
                </a:cubicBezTo>
                <a:cubicBezTo>
                  <a:pt x="8174" y="16036"/>
                  <a:pt x="8200" y="16013"/>
                  <a:pt x="8235" y="15925"/>
                </a:cubicBezTo>
                <a:cubicBezTo>
                  <a:pt x="8286" y="15798"/>
                  <a:pt x="8274" y="15730"/>
                  <a:pt x="8260" y="15602"/>
                </a:cubicBezTo>
                <a:cubicBezTo>
                  <a:pt x="8250" y="15505"/>
                  <a:pt x="8226" y="15447"/>
                  <a:pt x="8186" y="15379"/>
                </a:cubicBezTo>
                <a:cubicBezTo>
                  <a:pt x="8161" y="15354"/>
                  <a:pt x="8153" y="15346"/>
                  <a:pt x="8186" y="15329"/>
                </a:cubicBezTo>
              </a:path>
              <a:path w="2581" h="1812">
                <a:moveTo>
                  <a:pt x="8508" y="15478"/>
                </a:moveTo>
                <a:cubicBezTo>
                  <a:pt x="8664" y="15556"/>
                  <a:pt x="8685" y="15574"/>
                  <a:pt x="8781" y="15602"/>
                </a:cubicBezTo>
              </a:path>
              <a:path w="2581" h="1812">
                <a:moveTo>
                  <a:pt x="8657" y="15825"/>
                </a:moveTo>
                <a:cubicBezTo>
                  <a:pt x="8736" y="15819"/>
                  <a:pt x="8782" y="15808"/>
                  <a:pt x="8855" y="15776"/>
                </a:cubicBezTo>
              </a:path>
              <a:path w="2581" h="1812">
                <a:moveTo>
                  <a:pt x="9103" y="15553"/>
                </a:moveTo>
                <a:cubicBezTo>
                  <a:pt x="9194" y="15507"/>
                  <a:pt x="9303" y="15424"/>
                  <a:pt x="9401" y="15503"/>
                </a:cubicBezTo>
                <a:cubicBezTo>
                  <a:pt x="9474" y="15562"/>
                  <a:pt x="9492" y="15661"/>
                  <a:pt x="9475" y="15751"/>
                </a:cubicBezTo>
                <a:cubicBezTo>
                  <a:pt x="9450" y="15883"/>
                  <a:pt x="9430" y="15935"/>
                  <a:pt x="9327" y="16024"/>
                </a:cubicBezTo>
                <a:cubicBezTo>
                  <a:pt x="9263" y="16079"/>
                  <a:pt x="9231" y="16046"/>
                  <a:pt x="9227" y="15974"/>
                </a:cubicBezTo>
                <a:cubicBezTo>
                  <a:pt x="9227" y="15958"/>
                  <a:pt x="9227" y="15941"/>
                  <a:pt x="9227" y="15925"/>
                </a:cubicBezTo>
                <a:cubicBezTo>
                  <a:pt x="9271" y="16000"/>
                  <a:pt x="9346" y="16115"/>
                  <a:pt x="9401" y="16173"/>
                </a:cubicBezTo>
                <a:cubicBezTo>
                  <a:pt x="9409" y="16173"/>
                  <a:pt x="9418" y="16173"/>
                  <a:pt x="9426" y="16173"/>
                </a:cubicBezTo>
              </a:path>
              <a:path w="2581" h="1812">
                <a:moveTo>
                  <a:pt x="9699" y="15850"/>
                </a:moveTo>
                <a:cubicBezTo>
                  <a:pt x="9733" y="15947"/>
                  <a:pt x="9764" y="16061"/>
                  <a:pt x="9823" y="16148"/>
                </a:cubicBezTo>
                <a:cubicBezTo>
                  <a:pt x="9831" y="16156"/>
                  <a:pt x="9839" y="16165"/>
                  <a:pt x="9847" y="16173"/>
                </a:cubicBezTo>
              </a:path>
              <a:path w="2581" h="1812">
                <a:moveTo>
                  <a:pt x="10071" y="15677"/>
                </a:moveTo>
                <a:cubicBezTo>
                  <a:pt x="10008" y="15833"/>
                  <a:pt x="9917" y="16011"/>
                  <a:pt x="9872" y="16173"/>
                </a:cubicBezTo>
                <a:cubicBezTo>
                  <a:pt x="9829" y="16327"/>
                  <a:pt x="9825" y="16474"/>
                  <a:pt x="9748" y="16619"/>
                </a:cubicBezTo>
                <a:cubicBezTo>
                  <a:pt x="9732" y="16644"/>
                  <a:pt x="9715" y="16669"/>
                  <a:pt x="9699" y="16694"/>
                </a:cubicBezTo>
              </a:path>
              <a:path w="2581" h="1812">
                <a:moveTo>
                  <a:pt x="9302" y="16173"/>
                </a:moveTo>
                <a:cubicBezTo>
                  <a:pt x="9465" y="16181"/>
                  <a:pt x="9615" y="16201"/>
                  <a:pt x="9773" y="16247"/>
                </a:cubicBezTo>
                <a:cubicBezTo>
                  <a:pt x="9870" y="16280"/>
                  <a:pt x="9919" y="16284"/>
                  <a:pt x="9996" y="16247"/>
                </a:cubicBezTo>
              </a:path>
              <a:path w="2581" h="1812">
                <a:moveTo>
                  <a:pt x="9500" y="16396"/>
                </a:moveTo>
                <a:cubicBezTo>
                  <a:pt x="9558" y="16429"/>
                  <a:pt x="9608" y="16459"/>
                  <a:pt x="9674" y="16470"/>
                </a:cubicBezTo>
                <a:cubicBezTo>
                  <a:pt x="9720" y="16477"/>
                  <a:pt x="9827" y="16487"/>
                  <a:pt x="9847" y="16545"/>
                </a:cubicBezTo>
                <a:cubicBezTo>
                  <a:pt x="9881" y="16640"/>
                  <a:pt x="9869" y="16734"/>
                  <a:pt x="9773" y="16793"/>
                </a:cubicBezTo>
                <a:cubicBezTo>
                  <a:pt x="9678" y="16851"/>
                  <a:pt x="9572" y="16805"/>
                  <a:pt x="9475" y="16793"/>
                </a:cubicBezTo>
                <a:cubicBezTo>
                  <a:pt x="9459" y="16793"/>
                  <a:pt x="9442" y="16793"/>
                  <a:pt x="9426" y="16793"/>
                </a:cubicBezTo>
                <a:cubicBezTo>
                  <a:pt x="9543" y="16719"/>
                  <a:pt x="9647" y="16795"/>
                  <a:pt x="9773" y="16892"/>
                </a:cubicBezTo>
                <a:cubicBezTo>
                  <a:pt x="9818" y="16937"/>
                  <a:pt x="9835" y="16946"/>
                  <a:pt x="9823" y="169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Ink 6"/>
          <p:cNvSpPr/>
          <p:nvPr/>
        </p:nvSpPr>
        <p:spPr>
          <a:xfrm>
            <a:off x="2643120" y="5759280"/>
            <a:ext cx="866880" cy="893880"/>
          </a:xfrm>
          <a:custGeom>
            <a:avLst/>
            <a:gdLst/>
            <a:ahLst/>
            <a:rect l="l" t="t" r="r" b="b"/>
            <a:pathLst>
              <a:path w="2407" h="2481">
                <a:moveTo>
                  <a:pt x="8607" y="15999"/>
                </a:moveTo>
                <a:cubicBezTo>
                  <a:pt x="8257" y="15999"/>
                  <a:pt x="7889" y="15974"/>
                  <a:pt x="7541" y="16024"/>
                </a:cubicBezTo>
                <a:cubicBezTo>
                  <a:pt x="7465" y="16035"/>
                  <a:pt x="7402" y="16058"/>
                  <a:pt x="7342" y="16098"/>
                </a:cubicBezTo>
              </a:path>
              <a:path w="2407" h="2481">
                <a:moveTo>
                  <a:pt x="7838" y="16297"/>
                </a:moveTo>
                <a:cubicBezTo>
                  <a:pt x="7896" y="16351"/>
                  <a:pt x="8086" y="16472"/>
                  <a:pt x="8086" y="16570"/>
                </a:cubicBezTo>
                <a:cubicBezTo>
                  <a:pt x="8086" y="16634"/>
                  <a:pt x="7960" y="16696"/>
                  <a:pt x="7913" y="16694"/>
                </a:cubicBezTo>
                <a:cubicBezTo>
                  <a:pt x="7844" y="16691"/>
                  <a:pt x="7745" y="16665"/>
                  <a:pt x="7689" y="16644"/>
                </a:cubicBezTo>
                <a:cubicBezTo>
                  <a:pt x="7750" y="16614"/>
                  <a:pt x="7813" y="16657"/>
                  <a:pt x="7888" y="16694"/>
                </a:cubicBezTo>
                <a:cubicBezTo>
                  <a:pt x="7983" y="16741"/>
                  <a:pt x="8055" y="16771"/>
                  <a:pt x="8136" y="16842"/>
                </a:cubicBezTo>
              </a:path>
              <a:path w="2407" h="2481">
                <a:moveTo>
                  <a:pt x="7665" y="17016"/>
                </a:moveTo>
                <a:cubicBezTo>
                  <a:pt x="7826" y="17054"/>
                  <a:pt x="7904" y="17058"/>
                  <a:pt x="8062" y="17016"/>
                </a:cubicBezTo>
              </a:path>
              <a:path w="2407" h="2481">
                <a:moveTo>
                  <a:pt x="7665" y="16942"/>
                </a:moveTo>
                <a:cubicBezTo>
                  <a:pt x="7646" y="17089"/>
                  <a:pt x="7653" y="17069"/>
                  <a:pt x="7714" y="17190"/>
                </a:cubicBezTo>
                <a:cubicBezTo>
                  <a:pt x="7755" y="17272"/>
                  <a:pt x="7844" y="17280"/>
                  <a:pt x="7913" y="17338"/>
                </a:cubicBezTo>
                <a:cubicBezTo>
                  <a:pt x="7970" y="17387"/>
                  <a:pt x="7962" y="17444"/>
                  <a:pt x="7962" y="17512"/>
                </a:cubicBezTo>
                <a:cubicBezTo>
                  <a:pt x="7962" y="17589"/>
                  <a:pt x="7934" y="17653"/>
                  <a:pt x="7863" y="17686"/>
                </a:cubicBezTo>
                <a:cubicBezTo>
                  <a:pt x="7763" y="17732"/>
                  <a:pt x="7607" y="17728"/>
                  <a:pt x="7516" y="17661"/>
                </a:cubicBezTo>
                <a:cubicBezTo>
                  <a:pt x="7457" y="17618"/>
                  <a:pt x="7457" y="17516"/>
                  <a:pt x="7491" y="17462"/>
                </a:cubicBezTo>
                <a:cubicBezTo>
                  <a:pt x="7499" y="17454"/>
                  <a:pt x="7508" y="17446"/>
                  <a:pt x="7516" y="17438"/>
                </a:cubicBezTo>
              </a:path>
              <a:path w="2407" h="2481">
                <a:moveTo>
                  <a:pt x="8260" y="17214"/>
                </a:moveTo>
                <a:cubicBezTo>
                  <a:pt x="8401" y="17229"/>
                  <a:pt x="8519" y="17239"/>
                  <a:pt x="8657" y="17239"/>
                </a:cubicBezTo>
              </a:path>
              <a:path w="2407" h="2481">
                <a:moveTo>
                  <a:pt x="8260" y="17165"/>
                </a:moveTo>
                <a:cubicBezTo>
                  <a:pt x="8236" y="17252"/>
                  <a:pt x="8212" y="17360"/>
                  <a:pt x="8285" y="17438"/>
                </a:cubicBezTo>
                <a:cubicBezTo>
                  <a:pt x="8348" y="17505"/>
                  <a:pt x="8478" y="17484"/>
                  <a:pt x="8508" y="17587"/>
                </a:cubicBezTo>
                <a:cubicBezTo>
                  <a:pt x="8522" y="17635"/>
                  <a:pt x="8537" y="17712"/>
                  <a:pt x="8508" y="17760"/>
                </a:cubicBezTo>
                <a:cubicBezTo>
                  <a:pt x="8457" y="17843"/>
                  <a:pt x="8270" y="17845"/>
                  <a:pt x="8186" y="17835"/>
                </a:cubicBezTo>
                <a:cubicBezTo>
                  <a:pt x="8102" y="17825"/>
                  <a:pt x="8027" y="17779"/>
                  <a:pt x="8062" y="17686"/>
                </a:cubicBezTo>
                <a:cubicBezTo>
                  <a:pt x="8070" y="17678"/>
                  <a:pt x="8078" y="17669"/>
                  <a:pt x="8086" y="17661"/>
                </a:cubicBezTo>
              </a:path>
              <a:path w="2407" h="2481">
                <a:moveTo>
                  <a:pt x="8806" y="17562"/>
                </a:moveTo>
                <a:cubicBezTo>
                  <a:pt x="8933" y="17604"/>
                  <a:pt x="8939" y="17624"/>
                  <a:pt x="9054" y="17587"/>
                </a:cubicBezTo>
              </a:path>
              <a:path w="2407" h="2481">
                <a:moveTo>
                  <a:pt x="8756" y="17661"/>
                </a:moveTo>
                <a:cubicBezTo>
                  <a:pt x="8851" y="17713"/>
                  <a:pt x="8847" y="17711"/>
                  <a:pt x="8954" y="17711"/>
                </a:cubicBezTo>
              </a:path>
              <a:path w="2407" h="2481">
                <a:moveTo>
                  <a:pt x="9351" y="17388"/>
                </a:moveTo>
                <a:cubicBezTo>
                  <a:pt x="9375" y="17475"/>
                  <a:pt x="9382" y="17709"/>
                  <a:pt x="9426" y="17785"/>
                </a:cubicBezTo>
                <a:cubicBezTo>
                  <a:pt x="9442" y="17793"/>
                  <a:pt x="9459" y="17802"/>
                  <a:pt x="9475" y="17810"/>
                </a:cubicBezTo>
              </a:path>
              <a:path w="2407" h="2481">
                <a:moveTo>
                  <a:pt x="9748" y="17636"/>
                </a:moveTo>
                <a:cubicBezTo>
                  <a:pt x="9330" y="18055"/>
                  <a:pt x="9207" y="18172"/>
                  <a:pt x="8979" y="184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Quadratic Formula on YouTube</a:t>
            </a:r>
            <a:br>
              <a:rPr sz="4000"/>
            </a:b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97" name="Ink 3"/>
          <p:cNvSpPr/>
          <p:nvPr/>
        </p:nvSpPr>
        <p:spPr>
          <a:xfrm>
            <a:off x="1562040" y="2482920"/>
            <a:ext cx="1908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4341" y="6896"/>
                </a:moveTo>
                <a:cubicBezTo>
                  <a:pt x="4357" y="6896"/>
                  <a:pt x="4374" y="6896"/>
                  <a:pt x="4390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Ink 4"/>
          <p:cNvSpPr/>
          <p:nvPr/>
        </p:nvSpPr>
        <p:spPr>
          <a:xfrm>
            <a:off x="1027080" y="3071880"/>
            <a:ext cx="2017800" cy="517320"/>
          </a:xfrm>
          <a:custGeom>
            <a:avLst/>
            <a:gdLst/>
            <a:ahLst/>
            <a:rect l="l" t="t" r="r" b="b"/>
            <a:pathLst>
              <a:path w="5606" h="1439">
                <a:moveTo>
                  <a:pt x="3001" y="8731"/>
                </a:moveTo>
                <a:cubicBezTo>
                  <a:pt x="2973" y="8760"/>
                  <a:pt x="2965" y="8773"/>
                  <a:pt x="2977" y="8806"/>
                </a:cubicBezTo>
                <a:cubicBezTo>
                  <a:pt x="3005" y="8757"/>
                  <a:pt x="3021" y="8713"/>
                  <a:pt x="3051" y="8657"/>
                </a:cubicBezTo>
                <a:cubicBezTo>
                  <a:pt x="3103" y="8560"/>
                  <a:pt x="3106" y="8519"/>
                  <a:pt x="3225" y="8558"/>
                </a:cubicBezTo>
                <a:cubicBezTo>
                  <a:pt x="3287" y="8578"/>
                  <a:pt x="3293" y="8670"/>
                  <a:pt x="3324" y="8731"/>
                </a:cubicBezTo>
                <a:cubicBezTo>
                  <a:pt x="3372" y="8826"/>
                  <a:pt x="3373" y="8900"/>
                  <a:pt x="3373" y="9004"/>
                </a:cubicBezTo>
                <a:cubicBezTo>
                  <a:pt x="3373" y="9097"/>
                  <a:pt x="3371" y="9189"/>
                  <a:pt x="3349" y="9277"/>
                </a:cubicBezTo>
                <a:cubicBezTo>
                  <a:pt x="3330" y="9353"/>
                  <a:pt x="3274" y="9461"/>
                  <a:pt x="3225" y="9525"/>
                </a:cubicBezTo>
                <a:cubicBezTo>
                  <a:pt x="3171" y="9595"/>
                  <a:pt x="3065" y="9640"/>
                  <a:pt x="2977" y="9624"/>
                </a:cubicBezTo>
                <a:cubicBezTo>
                  <a:pt x="2902" y="9610"/>
                  <a:pt x="2861" y="9507"/>
                  <a:pt x="2853" y="9451"/>
                </a:cubicBezTo>
                <a:cubicBezTo>
                  <a:pt x="2841" y="9371"/>
                  <a:pt x="2855" y="9315"/>
                  <a:pt x="2902" y="9252"/>
                </a:cubicBezTo>
                <a:cubicBezTo>
                  <a:pt x="2961" y="9174"/>
                  <a:pt x="3061" y="9220"/>
                  <a:pt x="3125" y="9252"/>
                </a:cubicBezTo>
                <a:cubicBezTo>
                  <a:pt x="3173" y="9276"/>
                  <a:pt x="3203" y="9381"/>
                  <a:pt x="3225" y="9426"/>
                </a:cubicBezTo>
                <a:cubicBezTo>
                  <a:pt x="3262" y="9500"/>
                  <a:pt x="3272" y="9586"/>
                  <a:pt x="3324" y="9649"/>
                </a:cubicBezTo>
                <a:cubicBezTo>
                  <a:pt x="3349" y="9674"/>
                  <a:pt x="3357" y="9682"/>
                  <a:pt x="3373" y="9649"/>
                </a:cubicBezTo>
              </a:path>
              <a:path w="5606" h="1439">
                <a:moveTo>
                  <a:pt x="3621" y="9153"/>
                </a:moveTo>
                <a:cubicBezTo>
                  <a:pt x="3650" y="9231"/>
                  <a:pt x="3684" y="9302"/>
                  <a:pt x="3721" y="9376"/>
                </a:cubicBezTo>
                <a:cubicBezTo>
                  <a:pt x="3750" y="9433"/>
                  <a:pt x="3823" y="9531"/>
                  <a:pt x="3870" y="9575"/>
                </a:cubicBezTo>
                <a:cubicBezTo>
                  <a:pt x="3925" y="9626"/>
                  <a:pt x="4040" y="9681"/>
                  <a:pt x="4118" y="9699"/>
                </a:cubicBezTo>
                <a:cubicBezTo>
                  <a:pt x="4134" y="9699"/>
                  <a:pt x="4151" y="9699"/>
                  <a:pt x="4167" y="9699"/>
                </a:cubicBezTo>
              </a:path>
              <a:path w="5606" h="1439">
                <a:moveTo>
                  <a:pt x="3969" y="9079"/>
                </a:moveTo>
                <a:cubicBezTo>
                  <a:pt x="3877" y="9221"/>
                  <a:pt x="3847" y="9271"/>
                  <a:pt x="3795" y="9426"/>
                </a:cubicBezTo>
                <a:cubicBezTo>
                  <a:pt x="3772" y="9494"/>
                  <a:pt x="3733" y="9554"/>
                  <a:pt x="3721" y="9624"/>
                </a:cubicBezTo>
                <a:cubicBezTo>
                  <a:pt x="3721" y="9669"/>
                  <a:pt x="3718" y="9689"/>
                  <a:pt x="3746" y="9649"/>
                </a:cubicBezTo>
              </a:path>
              <a:path w="5606" h="1439">
                <a:moveTo>
                  <a:pt x="4118" y="8632"/>
                </a:moveTo>
                <a:cubicBezTo>
                  <a:pt x="4210" y="8562"/>
                  <a:pt x="4220" y="8572"/>
                  <a:pt x="4291" y="8657"/>
                </a:cubicBezTo>
                <a:cubicBezTo>
                  <a:pt x="4321" y="8693"/>
                  <a:pt x="4274" y="8759"/>
                  <a:pt x="4242" y="8806"/>
                </a:cubicBezTo>
                <a:cubicBezTo>
                  <a:pt x="4190" y="8881"/>
                  <a:pt x="4231" y="8921"/>
                  <a:pt x="4316" y="8930"/>
                </a:cubicBezTo>
                <a:cubicBezTo>
                  <a:pt x="4364" y="8935"/>
                  <a:pt x="4417" y="8930"/>
                  <a:pt x="4465" y="8930"/>
                </a:cubicBezTo>
              </a:path>
              <a:path w="5606" h="1439">
                <a:moveTo>
                  <a:pt x="4713" y="9302"/>
                </a:moveTo>
                <a:cubicBezTo>
                  <a:pt x="4824" y="9302"/>
                  <a:pt x="4933" y="9316"/>
                  <a:pt x="5035" y="9277"/>
                </a:cubicBezTo>
              </a:path>
              <a:path w="5606" h="1439">
                <a:moveTo>
                  <a:pt x="5507" y="8930"/>
                </a:moveTo>
                <a:cubicBezTo>
                  <a:pt x="5485" y="8997"/>
                  <a:pt x="5448" y="9062"/>
                  <a:pt x="5432" y="9128"/>
                </a:cubicBezTo>
                <a:cubicBezTo>
                  <a:pt x="5415" y="9198"/>
                  <a:pt x="5473" y="9275"/>
                  <a:pt x="5531" y="9302"/>
                </a:cubicBezTo>
                <a:cubicBezTo>
                  <a:pt x="5615" y="9340"/>
                  <a:pt x="5676" y="9365"/>
                  <a:pt x="5755" y="9327"/>
                </a:cubicBezTo>
              </a:path>
              <a:path w="5606" h="1439">
                <a:moveTo>
                  <a:pt x="5854" y="8632"/>
                </a:moveTo>
                <a:cubicBezTo>
                  <a:pt x="5840" y="8746"/>
                  <a:pt x="5807" y="8801"/>
                  <a:pt x="5804" y="8930"/>
                </a:cubicBezTo>
                <a:cubicBezTo>
                  <a:pt x="5800" y="9100"/>
                  <a:pt x="5812" y="9260"/>
                  <a:pt x="5829" y="9426"/>
                </a:cubicBezTo>
                <a:cubicBezTo>
                  <a:pt x="5839" y="9526"/>
                  <a:pt x="5832" y="9625"/>
                  <a:pt x="5854" y="9723"/>
                </a:cubicBezTo>
                <a:cubicBezTo>
                  <a:pt x="5873" y="9781"/>
                  <a:pt x="5864" y="9806"/>
                  <a:pt x="5904" y="9798"/>
                </a:cubicBezTo>
              </a:path>
              <a:path w="5606" h="1439">
                <a:moveTo>
                  <a:pt x="6028" y="9227"/>
                </a:moveTo>
                <a:cubicBezTo>
                  <a:pt x="6089" y="9312"/>
                  <a:pt x="6167" y="9389"/>
                  <a:pt x="6226" y="9475"/>
                </a:cubicBezTo>
                <a:cubicBezTo>
                  <a:pt x="6283" y="9558"/>
                  <a:pt x="6350" y="9604"/>
                  <a:pt x="6424" y="9674"/>
                </a:cubicBezTo>
                <a:cubicBezTo>
                  <a:pt x="6507" y="9752"/>
                  <a:pt x="6565" y="9803"/>
                  <a:pt x="6672" y="9847"/>
                </a:cubicBezTo>
              </a:path>
              <a:path w="5606" h="1439">
                <a:moveTo>
                  <a:pt x="6400" y="9252"/>
                </a:moveTo>
                <a:cubicBezTo>
                  <a:pt x="6323" y="9344"/>
                  <a:pt x="6284" y="9414"/>
                  <a:pt x="6251" y="9525"/>
                </a:cubicBezTo>
                <a:cubicBezTo>
                  <a:pt x="6223" y="9622"/>
                  <a:pt x="6141" y="9743"/>
                  <a:pt x="6176" y="9847"/>
                </a:cubicBezTo>
                <a:cubicBezTo>
                  <a:pt x="6184" y="9847"/>
                  <a:pt x="6193" y="9847"/>
                  <a:pt x="6201" y="9847"/>
                </a:cubicBezTo>
              </a:path>
              <a:path w="5606" h="1439">
                <a:moveTo>
                  <a:pt x="6871" y="9302"/>
                </a:moveTo>
                <a:cubicBezTo>
                  <a:pt x="6978" y="9302"/>
                  <a:pt x="7086" y="9302"/>
                  <a:pt x="7193" y="9302"/>
                </a:cubicBezTo>
              </a:path>
              <a:path w="5606" h="1439">
                <a:moveTo>
                  <a:pt x="6995" y="9500"/>
                </a:moveTo>
                <a:cubicBezTo>
                  <a:pt x="7211" y="9528"/>
                  <a:pt x="7166" y="9536"/>
                  <a:pt x="7367" y="9475"/>
                </a:cubicBezTo>
              </a:path>
              <a:path w="5606" h="1439">
                <a:moveTo>
                  <a:pt x="7739" y="8930"/>
                </a:moveTo>
                <a:cubicBezTo>
                  <a:pt x="7729" y="9007"/>
                  <a:pt x="7693" y="9055"/>
                  <a:pt x="7665" y="9128"/>
                </a:cubicBezTo>
                <a:cubicBezTo>
                  <a:pt x="7620" y="9245"/>
                  <a:pt x="7575" y="9347"/>
                  <a:pt x="7590" y="9475"/>
                </a:cubicBezTo>
                <a:cubicBezTo>
                  <a:pt x="7604" y="9598"/>
                  <a:pt x="7703" y="9719"/>
                  <a:pt x="7789" y="9798"/>
                </a:cubicBezTo>
                <a:cubicBezTo>
                  <a:pt x="7865" y="9867"/>
                  <a:pt x="7966" y="9914"/>
                  <a:pt x="8062" y="9947"/>
                </a:cubicBezTo>
                <a:cubicBezTo>
                  <a:pt x="8159" y="9980"/>
                  <a:pt x="8239" y="9985"/>
                  <a:pt x="8310" y="9897"/>
                </a:cubicBezTo>
                <a:cubicBezTo>
                  <a:pt x="8362" y="9833"/>
                  <a:pt x="8406" y="9752"/>
                  <a:pt x="8434" y="9674"/>
                </a:cubicBezTo>
                <a:cubicBezTo>
                  <a:pt x="8476" y="9558"/>
                  <a:pt x="8468" y="9392"/>
                  <a:pt x="8434" y="9277"/>
                </a:cubicBezTo>
                <a:cubicBezTo>
                  <a:pt x="8406" y="9182"/>
                  <a:pt x="8318" y="9033"/>
                  <a:pt x="8235" y="8979"/>
                </a:cubicBezTo>
                <a:cubicBezTo>
                  <a:pt x="8143" y="8919"/>
                  <a:pt x="7969" y="8884"/>
                  <a:pt x="7863" y="8880"/>
                </a:cubicBezTo>
                <a:cubicBezTo>
                  <a:pt x="7838" y="8880"/>
                  <a:pt x="7814" y="8880"/>
                  <a:pt x="7789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Ink 5"/>
          <p:cNvSpPr/>
          <p:nvPr/>
        </p:nvSpPr>
        <p:spPr>
          <a:xfrm>
            <a:off x="4599000" y="2884320"/>
            <a:ext cx="2822400" cy="946440"/>
          </a:xfrm>
          <a:custGeom>
            <a:avLst/>
            <a:gdLst/>
            <a:ahLst/>
            <a:rect l="l" t="t" r="r" b="b"/>
            <a:pathLst>
              <a:path w="7840" h="2630">
                <a:moveTo>
                  <a:pt x="14337" y="8930"/>
                </a:moveTo>
                <a:cubicBezTo>
                  <a:pt x="14375" y="9005"/>
                  <a:pt x="14426" y="9078"/>
                  <a:pt x="14461" y="9153"/>
                </a:cubicBezTo>
                <a:cubicBezTo>
                  <a:pt x="14523" y="9287"/>
                  <a:pt x="14606" y="9427"/>
                  <a:pt x="14684" y="9550"/>
                </a:cubicBezTo>
                <a:cubicBezTo>
                  <a:pt x="14725" y="9615"/>
                  <a:pt x="14838" y="9756"/>
                  <a:pt x="14908" y="9798"/>
                </a:cubicBezTo>
                <a:cubicBezTo>
                  <a:pt x="14949" y="9822"/>
                  <a:pt x="15012" y="9833"/>
                  <a:pt x="15056" y="9847"/>
                </a:cubicBezTo>
              </a:path>
              <a:path w="7840" h="2630">
                <a:moveTo>
                  <a:pt x="14759" y="9004"/>
                </a:moveTo>
                <a:cubicBezTo>
                  <a:pt x="14680" y="9183"/>
                  <a:pt x="14568" y="9363"/>
                  <a:pt x="14511" y="9550"/>
                </a:cubicBezTo>
                <a:cubicBezTo>
                  <a:pt x="14482" y="9645"/>
                  <a:pt x="14441" y="9717"/>
                  <a:pt x="14387" y="9798"/>
                </a:cubicBezTo>
              </a:path>
              <a:path w="7840" h="2630">
                <a:moveTo>
                  <a:pt x="15205" y="9029"/>
                </a:moveTo>
                <a:cubicBezTo>
                  <a:pt x="15216" y="9131"/>
                  <a:pt x="15204" y="9339"/>
                  <a:pt x="15230" y="9451"/>
                </a:cubicBezTo>
                <a:cubicBezTo>
                  <a:pt x="15243" y="9507"/>
                  <a:pt x="15270" y="9575"/>
                  <a:pt x="15280" y="9624"/>
                </a:cubicBezTo>
                <a:cubicBezTo>
                  <a:pt x="15280" y="9669"/>
                  <a:pt x="15276" y="9689"/>
                  <a:pt x="15304" y="9649"/>
                </a:cubicBezTo>
              </a:path>
              <a:path w="7840" h="2630">
                <a:moveTo>
                  <a:pt x="14957" y="9302"/>
                </a:moveTo>
                <a:cubicBezTo>
                  <a:pt x="15070" y="9321"/>
                  <a:pt x="15166" y="9327"/>
                  <a:pt x="15280" y="9327"/>
                </a:cubicBezTo>
                <a:cubicBezTo>
                  <a:pt x="15356" y="9327"/>
                  <a:pt x="15382" y="9326"/>
                  <a:pt x="15429" y="9302"/>
                </a:cubicBezTo>
              </a:path>
              <a:path w="7840" h="2630">
                <a:moveTo>
                  <a:pt x="15776" y="9029"/>
                </a:moveTo>
                <a:cubicBezTo>
                  <a:pt x="15882" y="9037"/>
                  <a:pt x="15929" y="9042"/>
                  <a:pt x="16024" y="9029"/>
                </a:cubicBezTo>
                <a:cubicBezTo>
                  <a:pt x="16049" y="9029"/>
                  <a:pt x="16073" y="9029"/>
                  <a:pt x="16098" y="9029"/>
                </a:cubicBezTo>
              </a:path>
              <a:path w="7840" h="2630">
                <a:moveTo>
                  <a:pt x="15701" y="9103"/>
                </a:moveTo>
                <a:cubicBezTo>
                  <a:pt x="15684" y="9292"/>
                  <a:pt x="15642" y="9242"/>
                  <a:pt x="15726" y="9327"/>
                </a:cubicBezTo>
                <a:cubicBezTo>
                  <a:pt x="15777" y="9312"/>
                  <a:pt x="15813" y="9231"/>
                  <a:pt x="15875" y="9252"/>
                </a:cubicBezTo>
                <a:cubicBezTo>
                  <a:pt x="15927" y="9269"/>
                  <a:pt x="16001" y="9327"/>
                  <a:pt x="16024" y="9376"/>
                </a:cubicBezTo>
                <a:cubicBezTo>
                  <a:pt x="16065" y="9465"/>
                  <a:pt x="16138" y="9573"/>
                  <a:pt x="16148" y="9674"/>
                </a:cubicBezTo>
                <a:cubicBezTo>
                  <a:pt x="16160" y="9801"/>
                  <a:pt x="16117" y="9888"/>
                  <a:pt x="16024" y="9971"/>
                </a:cubicBezTo>
                <a:cubicBezTo>
                  <a:pt x="15943" y="10043"/>
                  <a:pt x="15831" y="10063"/>
                  <a:pt x="15726" y="10046"/>
                </a:cubicBezTo>
                <a:cubicBezTo>
                  <a:pt x="15609" y="10028"/>
                  <a:pt x="15505" y="9935"/>
                  <a:pt x="15404" y="9872"/>
                </a:cubicBezTo>
              </a:path>
              <a:path w="7840" h="2630">
                <a:moveTo>
                  <a:pt x="14064" y="8682"/>
                </a:moveTo>
                <a:cubicBezTo>
                  <a:pt x="13980" y="8922"/>
                  <a:pt x="13940" y="9037"/>
                  <a:pt x="13940" y="9277"/>
                </a:cubicBezTo>
                <a:cubicBezTo>
                  <a:pt x="13940" y="9454"/>
                  <a:pt x="13981" y="9558"/>
                  <a:pt x="14064" y="9699"/>
                </a:cubicBezTo>
                <a:cubicBezTo>
                  <a:pt x="14141" y="9830"/>
                  <a:pt x="14213" y="9978"/>
                  <a:pt x="14362" y="10046"/>
                </a:cubicBezTo>
                <a:cubicBezTo>
                  <a:pt x="14436" y="10071"/>
                  <a:pt x="14511" y="10095"/>
                  <a:pt x="14585" y="10120"/>
                </a:cubicBezTo>
              </a:path>
              <a:path w="7840" h="2630">
                <a:moveTo>
                  <a:pt x="16197" y="8706"/>
                </a:moveTo>
                <a:cubicBezTo>
                  <a:pt x="16369" y="8945"/>
                  <a:pt x="16489" y="9117"/>
                  <a:pt x="16570" y="9401"/>
                </a:cubicBezTo>
                <a:cubicBezTo>
                  <a:pt x="16611" y="9545"/>
                  <a:pt x="16613" y="9747"/>
                  <a:pt x="16594" y="9897"/>
                </a:cubicBezTo>
                <a:cubicBezTo>
                  <a:pt x="16578" y="10029"/>
                  <a:pt x="16534" y="10147"/>
                  <a:pt x="16446" y="10244"/>
                </a:cubicBezTo>
                <a:cubicBezTo>
                  <a:pt x="16381" y="10317"/>
                  <a:pt x="16387" y="10369"/>
                  <a:pt x="16297" y="10344"/>
                </a:cubicBezTo>
              </a:path>
              <a:path w="7840" h="2630">
                <a:moveTo>
                  <a:pt x="16545" y="8434"/>
                </a:moveTo>
                <a:cubicBezTo>
                  <a:pt x="16616" y="8410"/>
                  <a:pt x="16705" y="8391"/>
                  <a:pt x="16768" y="8458"/>
                </a:cubicBezTo>
                <a:cubicBezTo>
                  <a:pt x="16846" y="8542"/>
                  <a:pt x="16743" y="8663"/>
                  <a:pt x="16694" y="8731"/>
                </a:cubicBezTo>
                <a:cubicBezTo>
                  <a:pt x="16669" y="8756"/>
                  <a:pt x="16661" y="8764"/>
                  <a:pt x="16644" y="8781"/>
                </a:cubicBezTo>
                <a:cubicBezTo>
                  <a:pt x="16685" y="8822"/>
                  <a:pt x="16735" y="8849"/>
                  <a:pt x="16793" y="8855"/>
                </a:cubicBezTo>
                <a:cubicBezTo>
                  <a:pt x="16905" y="8867"/>
                  <a:pt x="17027" y="8855"/>
                  <a:pt x="17140" y="8855"/>
                </a:cubicBezTo>
              </a:path>
              <a:path w="7840" h="2630">
                <a:moveTo>
                  <a:pt x="17289" y="9575"/>
                </a:moveTo>
                <a:cubicBezTo>
                  <a:pt x="17429" y="9614"/>
                  <a:pt x="17528" y="9596"/>
                  <a:pt x="17661" y="9624"/>
                </a:cubicBezTo>
                <a:cubicBezTo>
                  <a:pt x="17678" y="9632"/>
                  <a:pt x="17694" y="9641"/>
                  <a:pt x="17711" y="9649"/>
                </a:cubicBezTo>
              </a:path>
              <a:path w="7840" h="2630">
                <a:moveTo>
                  <a:pt x="17438" y="9872"/>
                </a:moveTo>
                <a:cubicBezTo>
                  <a:pt x="17555" y="9902"/>
                  <a:pt x="17620" y="9885"/>
                  <a:pt x="17735" y="9872"/>
                </a:cubicBezTo>
                <a:cubicBezTo>
                  <a:pt x="17760" y="9872"/>
                  <a:pt x="17785" y="9872"/>
                  <a:pt x="17810" y="9872"/>
                </a:cubicBezTo>
              </a:path>
              <a:path w="7840" h="2630">
                <a:moveTo>
                  <a:pt x="18430" y="9227"/>
                </a:moveTo>
                <a:cubicBezTo>
                  <a:pt x="18500" y="9170"/>
                  <a:pt x="18573" y="9110"/>
                  <a:pt x="18678" y="9128"/>
                </a:cubicBezTo>
                <a:cubicBezTo>
                  <a:pt x="18746" y="9139"/>
                  <a:pt x="18835" y="9140"/>
                  <a:pt x="18876" y="9203"/>
                </a:cubicBezTo>
                <a:cubicBezTo>
                  <a:pt x="18915" y="9264"/>
                  <a:pt x="18909" y="9321"/>
                  <a:pt x="18876" y="9376"/>
                </a:cubicBezTo>
                <a:cubicBezTo>
                  <a:pt x="18805" y="9495"/>
                  <a:pt x="18715" y="9558"/>
                  <a:pt x="18604" y="9624"/>
                </a:cubicBezTo>
                <a:cubicBezTo>
                  <a:pt x="18556" y="9648"/>
                  <a:pt x="18541" y="9656"/>
                  <a:pt x="18504" y="9649"/>
                </a:cubicBezTo>
                <a:cubicBezTo>
                  <a:pt x="18606" y="9649"/>
                  <a:pt x="18736" y="9625"/>
                  <a:pt x="18827" y="9674"/>
                </a:cubicBezTo>
                <a:cubicBezTo>
                  <a:pt x="18892" y="9709"/>
                  <a:pt x="18940" y="9758"/>
                  <a:pt x="18976" y="9823"/>
                </a:cubicBezTo>
                <a:cubicBezTo>
                  <a:pt x="19009" y="9883"/>
                  <a:pt x="19051" y="10012"/>
                  <a:pt x="19000" y="10071"/>
                </a:cubicBezTo>
                <a:cubicBezTo>
                  <a:pt x="18913" y="10170"/>
                  <a:pt x="18841" y="10195"/>
                  <a:pt x="18728" y="10220"/>
                </a:cubicBezTo>
                <a:cubicBezTo>
                  <a:pt x="18648" y="10238"/>
                  <a:pt x="18557" y="10240"/>
                  <a:pt x="18479" y="10195"/>
                </a:cubicBezTo>
                <a:cubicBezTo>
                  <a:pt x="18431" y="10167"/>
                  <a:pt x="18436" y="10116"/>
                  <a:pt x="18430" y="10071"/>
                </a:cubicBezTo>
              </a:path>
              <a:path w="7840" h="2630">
                <a:moveTo>
                  <a:pt x="19422" y="9302"/>
                </a:moveTo>
                <a:cubicBezTo>
                  <a:pt x="19383" y="9419"/>
                  <a:pt x="19341" y="9550"/>
                  <a:pt x="19323" y="9674"/>
                </a:cubicBezTo>
                <a:cubicBezTo>
                  <a:pt x="19304" y="9811"/>
                  <a:pt x="19348" y="9876"/>
                  <a:pt x="19397" y="9996"/>
                </a:cubicBezTo>
                <a:cubicBezTo>
                  <a:pt x="19432" y="10081"/>
                  <a:pt x="19507" y="10201"/>
                  <a:pt x="19596" y="10244"/>
                </a:cubicBezTo>
                <a:cubicBezTo>
                  <a:pt x="19733" y="10310"/>
                  <a:pt x="19881" y="10297"/>
                  <a:pt x="20017" y="10244"/>
                </a:cubicBezTo>
                <a:cubicBezTo>
                  <a:pt x="20092" y="10215"/>
                  <a:pt x="20114" y="10120"/>
                  <a:pt x="20117" y="10046"/>
                </a:cubicBezTo>
                <a:cubicBezTo>
                  <a:pt x="20122" y="9929"/>
                  <a:pt x="20077" y="9911"/>
                  <a:pt x="19993" y="9847"/>
                </a:cubicBezTo>
                <a:cubicBezTo>
                  <a:pt x="19932" y="9800"/>
                  <a:pt x="19856" y="9781"/>
                  <a:pt x="19794" y="9847"/>
                </a:cubicBezTo>
                <a:cubicBezTo>
                  <a:pt x="19712" y="9934"/>
                  <a:pt x="19733" y="10115"/>
                  <a:pt x="19769" y="10220"/>
                </a:cubicBezTo>
                <a:cubicBezTo>
                  <a:pt x="19819" y="10319"/>
                  <a:pt x="19836" y="10352"/>
                  <a:pt x="19869" y="10418"/>
                </a:cubicBezTo>
              </a:path>
              <a:path w="7840" h="2630">
                <a:moveTo>
                  <a:pt x="12774" y="9252"/>
                </a:moveTo>
                <a:cubicBezTo>
                  <a:pt x="12842" y="9305"/>
                  <a:pt x="12878" y="9298"/>
                  <a:pt x="12923" y="9376"/>
                </a:cubicBezTo>
                <a:cubicBezTo>
                  <a:pt x="12955" y="9432"/>
                  <a:pt x="12963" y="9536"/>
                  <a:pt x="12998" y="9599"/>
                </a:cubicBezTo>
                <a:cubicBezTo>
                  <a:pt x="13044" y="9680"/>
                  <a:pt x="13106" y="9750"/>
                  <a:pt x="13122" y="9847"/>
                </a:cubicBezTo>
                <a:cubicBezTo>
                  <a:pt x="13147" y="9992"/>
                  <a:pt x="13130" y="10147"/>
                  <a:pt x="13146" y="10294"/>
                </a:cubicBezTo>
                <a:cubicBezTo>
                  <a:pt x="13158" y="10402"/>
                  <a:pt x="13166" y="10461"/>
                  <a:pt x="13146" y="10567"/>
                </a:cubicBezTo>
                <a:cubicBezTo>
                  <a:pt x="13146" y="10611"/>
                  <a:pt x="13149" y="10624"/>
                  <a:pt x="13122" y="10641"/>
                </a:cubicBezTo>
                <a:cubicBezTo>
                  <a:pt x="13087" y="10519"/>
                  <a:pt x="13076" y="10426"/>
                  <a:pt x="13072" y="10294"/>
                </a:cubicBezTo>
                <a:cubicBezTo>
                  <a:pt x="13065" y="10078"/>
                  <a:pt x="13087" y="9860"/>
                  <a:pt x="13097" y="9649"/>
                </a:cubicBezTo>
                <a:cubicBezTo>
                  <a:pt x="13104" y="9514"/>
                  <a:pt x="13107" y="9384"/>
                  <a:pt x="13122" y="9252"/>
                </a:cubicBezTo>
                <a:cubicBezTo>
                  <a:pt x="13134" y="9148"/>
                  <a:pt x="13125" y="9032"/>
                  <a:pt x="13146" y="8930"/>
                </a:cubicBezTo>
                <a:cubicBezTo>
                  <a:pt x="13179" y="8768"/>
                  <a:pt x="13262" y="8624"/>
                  <a:pt x="13395" y="8533"/>
                </a:cubicBezTo>
                <a:cubicBezTo>
                  <a:pt x="13455" y="8492"/>
                  <a:pt x="13548" y="8460"/>
                  <a:pt x="13618" y="8434"/>
                </a:cubicBezTo>
                <a:cubicBezTo>
                  <a:pt x="13735" y="8391"/>
                  <a:pt x="13850" y="8400"/>
                  <a:pt x="13965" y="8359"/>
                </a:cubicBezTo>
                <a:cubicBezTo>
                  <a:pt x="14175" y="8284"/>
                  <a:pt x="14388" y="8246"/>
                  <a:pt x="14610" y="8210"/>
                </a:cubicBezTo>
                <a:cubicBezTo>
                  <a:pt x="14810" y="8177"/>
                  <a:pt x="15005" y="8164"/>
                  <a:pt x="15205" y="8136"/>
                </a:cubicBezTo>
                <a:cubicBezTo>
                  <a:pt x="15396" y="8109"/>
                  <a:pt x="15586" y="8109"/>
                  <a:pt x="15776" y="8086"/>
                </a:cubicBezTo>
                <a:cubicBezTo>
                  <a:pt x="15934" y="8067"/>
                  <a:pt x="16089" y="8077"/>
                  <a:pt x="16247" y="8062"/>
                </a:cubicBezTo>
                <a:cubicBezTo>
                  <a:pt x="16396" y="8048"/>
                  <a:pt x="16545" y="8020"/>
                  <a:pt x="16694" y="8012"/>
                </a:cubicBezTo>
                <a:cubicBezTo>
                  <a:pt x="16743" y="8009"/>
                  <a:pt x="16793" y="8014"/>
                  <a:pt x="16842" y="8012"/>
                </a:cubicBezTo>
              </a:path>
              <a:path w="7840" h="2630">
                <a:moveTo>
                  <a:pt x="17934" y="8781"/>
                </a:moveTo>
                <a:cubicBezTo>
                  <a:pt x="17946" y="8899"/>
                  <a:pt x="17963" y="9014"/>
                  <a:pt x="17909" y="9128"/>
                </a:cubicBezTo>
                <a:cubicBezTo>
                  <a:pt x="17882" y="9186"/>
                  <a:pt x="17864" y="9258"/>
                  <a:pt x="17859" y="9327"/>
                </a:cubicBezTo>
                <a:cubicBezTo>
                  <a:pt x="17859" y="9335"/>
                  <a:pt x="17859" y="9343"/>
                  <a:pt x="17859" y="9351"/>
                </a:cubicBezTo>
              </a:path>
              <a:path w="7840" h="2630">
                <a:moveTo>
                  <a:pt x="17686" y="9029"/>
                </a:moveTo>
                <a:cubicBezTo>
                  <a:pt x="17765" y="9022"/>
                  <a:pt x="17828" y="9004"/>
                  <a:pt x="17909" y="9004"/>
                </a:cubicBezTo>
                <a:cubicBezTo>
                  <a:pt x="17992" y="9004"/>
                  <a:pt x="17991" y="9015"/>
                  <a:pt x="18058" y="9054"/>
                </a:cubicBezTo>
              </a:path>
              <a:path w="7840" h="2630">
                <a:moveTo>
                  <a:pt x="17835" y="9971"/>
                </a:moveTo>
                <a:cubicBezTo>
                  <a:pt x="17903" y="9903"/>
                  <a:pt x="17921" y="9949"/>
                  <a:pt x="18008" y="9922"/>
                </a:cubicBezTo>
                <a:cubicBezTo>
                  <a:pt x="18016" y="9914"/>
                  <a:pt x="18025" y="9905"/>
                  <a:pt x="18033" y="9897"/>
                </a:cubicBezTo>
              </a:path>
              <a:path w="7840" h="2630">
                <a:moveTo>
                  <a:pt x="18207" y="9426"/>
                </a:moveTo>
                <a:cubicBezTo>
                  <a:pt x="18219" y="9511"/>
                  <a:pt x="18214" y="9532"/>
                  <a:pt x="18207" y="9624"/>
                </a:cubicBezTo>
                <a:cubicBezTo>
                  <a:pt x="18184" y="9943"/>
                  <a:pt x="18207" y="10272"/>
                  <a:pt x="18207" y="10592"/>
                </a:cubicBezTo>
                <a:cubicBezTo>
                  <a:pt x="18188" y="10492"/>
                  <a:pt x="18182" y="10402"/>
                  <a:pt x="18182" y="10294"/>
                </a:cubicBezTo>
                <a:cubicBezTo>
                  <a:pt x="18182" y="10108"/>
                  <a:pt x="18189" y="9930"/>
                  <a:pt x="18207" y="9748"/>
                </a:cubicBezTo>
                <a:cubicBezTo>
                  <a:pt x="18228" y="9537"/>
                  <a:pt x="18255" y="9342"/>
                  <a:pt x="18281" y="9128"/>
                </a:cubicBezTo>
                <a:cubicBezTo>
                  <a:pt x="18296" y="9007"/>
                  <a:pt x="18333" y="8885"/>
                  <a:pt x="18405" y="8781"/>
                </a:cubicBezTo>
                <a:cubicBezTo>
                  <a:pt x="18451" y="8715"/>
                  <a:pt x="18511" y="8722"/>
                  <a:pt x="18579" y="8706"/>
                </a:cubicBezTo>
                <a:cubicBezTo>
                  <a:pt x="18709" y="8676"/>
                  <a:pt x="18843" y="8658"/>
                  <a:pt x="18976" y="8632"/>
                </a:cubicBezTo>
                <a:cubicBezTo>
                  <a:pt x="19133" y="8602"/>
                  <a:pt x="19287" y="8568"/>
                  <a:pt x="19447" y="8558"/>
                </a:cubicBezTo>
                <a:cubicBezTo>
                  <a:pt x="19614" y="8547"/>
                  <a:pt x="19777" y="8520"/>
                  <a:pt x="19943" y="8508"/>
                </a:cubicBezTo>
                <a:cubicBezTo>
                  <a:pt x="20069" y="8499"/>
                  <a:pt x="20192" y="8496"/>
                  <a:pt x="20315" y="8483"/>
                </a:cubicBezTo>
                <a:cubicBezTo>
                  <a:pt x="20412" y="8472"/>
                  <a:pt x="20515" y="8483"/>
                  <a:pt x="20613" y="8483"/>
                </a:cubicBezTo>
                <a:cubicBezTo>
                  <a:pt x="20560" y="8462"/>
                  <a:pt x="20561" y="8465"/>
                  <a:pt x="20513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Ink 6"/>
          <p:cNvSpPr/>
          <p:nvPr/>
        </p:nvSpPr>
        <p:spPr>
          <a:xfrm>
            <a:off x="901800" y="3598920"/>
            <a:ext cx="2268360" cy="608040"/>
          </a:xfrm>
          <a:custGeom>
            <a:avLst/>
            <a:gdLst/>
            <a:ahLst/>
            <a:rect l="l" t="t" r="r" b="b"/>
            <a:pathLst>
              <a:path w="6302" h="1688">
                <a:moveTo>
                  <a:pt x="2555" y="10269"/>
                </a:moveTo>
                <a:cubicBezTo>
                  <a:pt x="2591" y="10233"/>
                  <a:pt x="2627" y="10182"/>
                  <a:pt x="2679" y="10170"/>
                </a:cubicBezTo>
                <a:cubicBezTo>
                  <a:pt x="2749" y="10154"/>
                  <a:pt x="2847" y="10169"/>
                  <a:pt x="2902" y="10195"/>
                </a:cubicBezTo>
                <a:cubicBezTo>
                  <a:pt x="2974" y="10229"/>
                  <a:pt x="2981" y="10259"/>
                  <a:pt x="3026" y="10319"/>
                </a:cubicBezTo>
                <a:cubicBezTo>
                  <a:pt x="3080" y="10391"/>
                  <a:pt x="3076" y="10426"/>
                  <a:pt x="3076" y="10517"/>
                </a:cubicBezTo>
                <a:cubicBezTo>
                  <a:pt x="3076" y="10626"/>
                  <a:pt x="3089" y="10736"/>
                  <a:pt x="3051" y="10840"/>
                </a:cubicBezTo>
                <a:cubicBezTo>
                  <a:pt x="3021" y="10920"/>
                  <a:pt x="2969" y="11017"/>
                  <a:pt x="2927" y="11088"/>
                </a:cubicBezTo>
                <a:cubicBezTo>
                  <a:pt x="2885" y="11158"/>
                  <a:pt x="2804" y="11204"/>
                  <a:pt x="2729" y="11212"/>
                </a:cubicBezTo>
                <a:cubicBezTo>
                  <a:pt x="2638" y="11222"/>
                  <a:pt x="2630" y="11168"/>
                  <a:pt x="2580" y="11112"/>
                </a:cubicBezTo>
                <a:cubicBezTo>
                  <a:pt x="2524" y="11050"/>
                  <a:pt x="2551" y="11040"/>
                  <a:pt x="2530" y="10964"/>
                </a:cubicBezTo>
                <a:cubicBezTo>
                  <a:pt x="2506" y="10877"/>
                  <a:pt x="2529" y="10785"/>
                  <a:pt x="2629" y="10740"/>
                </a:cubicBezTo>
                <a:cubicBezTo>
                  <a:pt x="2681" y="10717"/>
                  <a:pt x="2754" y="10806"/>
                  <a:pt x="2778" y="10840"/>
                </a:cubicBezTo>
                <a:cubicBezTo>
                  <a:pt x="2829" y="10912"/>
                  <a:pt x="2849" y="10930"/>
                  <a:pt x="2877" y="11013"/>
                </a:cubicBezTo>
                <a:cubicBezTo>
                  <a:pt x="2895" y="11067"/>
                  <a:pt x="2939" y="11098"/>
                  <a:pt x="2977" y="11137"/>
                </a:cubicBezTo>
                <a:cubicBezTo>
                  <a:pt x="3001" y="11162"/>
                  <a:pt x="3009" y="11171"/>
                  <a:pt x="3026" y="11187"/>
                </a:cubicBezTo>
              </a:path>
              <a:path w="6302" h="1688">
                <a:moveTo>
                  <a:pt x="3324" y="10641"/>
                </a:moveTo>
                <a:cubicBezTo>
                  <a:pt x="3356" y="10721"/>
                  <a:pt x="3400" y="10816"/>
                  <a:pt x="3448" y="10889"/>
                </a:cubicBezTo>
                <a:cubicBezTo>
                  <a:pt x="3498" y="10966"/>
                  <a:pt x="3557" y="11045"/>
                  <a:pt x="3621" y="11112"/>
                </a:cubicBezTo>
                <a:cubicBezTo>
                  <a:pt x="3685" y="11179"/>
                  <a:pt x="3787" y="11296"/>
                  <a:pt x="3870" y="11336"/>
                </a:cubicBezTo>
                <a:cubicBezTo>
                  <a:pt x="3886" y="11336"/>
                  <a:pt x="3903" y="11336"/>
                  <a:pt x="3919" y="11336"/>
                </a:cubicBezTo>
              </a:path>
              <a:path w="6302" h="1688">
                <a:moveTo>
                  <a:pt x="3721" y="10492"/>
                </a:moveTo>
                <a:cubicBezTo>
                  <a:pt x="3646" y="10613"/>
                  <a:pt x="3581" y="10717"/>
                  <a:pt x="3522" y="10840"/>
                </a:cubicBezTo>
                <a:cubicBezTo>
                  <a:pt x="3487" y="10912"/>
                  <a:pt x="3477" y="10996"/>
                  <a:pt x="3448" y="11063"/>
                </a:cubicBezTo>
                <a:cubicBezTo>
                  <a:pt x="3426" y="11115"/>
                  <a:pt x="3412" y="11127"/>
                  <a:pt x="3448" y="11162"/>
                </a:cubicBezTo>
              </a:path>
              <a:path w="6302" h="1688">
                <a:moveTo>
                  <a:pt x="4341" y="10195"/>
                </a:moveTo>
                <a:cubicBezTo>
                  <a:pt x="4275" y="10267"/>
                  <a:pt x="4228" y="10326"/>
                  <a:pt x="4192" y="10418"/>
                </a:cubicBezTo>
                <a:cubicBezTo>
                  <a:pt x="4149" y="10527"/>
                  <a:pt x="4084" y="10620"/>
                  <a:pt x="4068" y="10740"/>
                </a:cubicBezTo>
                <a:cubicBezTo>
                  <a:pt x="4051" y="10864"/>
                  <a:pt x="4053" y="10940"/>
                  <a:pt x="4093" y="11063"/>
                </a:cubicBezTo>
                <a:cubicBezTo>
                  <a:pt x="4148" y="11232"/>
                  <a:pt x="4172" y="11305"/>
                  <a:pt x="4316" y="11410"/>
                </a:cubicBezTo>
              </a:path>
              <a:path w="6302" h="1688">
                <a:moveTo>
                  <a:pt x="6226" y="9996"/>
                </a:moveTo>
                <a:cubicBezTo>
                  <a:pt x="6302" y="10050"/>
                  <a:pt x="6407" y="10186"/>
                  <a:pt x="6449" y="10269"/>
                </a:cubicBezTo>
                <a:cubicBezTo>
                  <a:pt x="6512" y="10394"/>
                  <a:pt x="6578" y="10557"/>
                  <a:pt x="6623" y="10691"/>
                </a:cubicBezTo>
                <a:cubicBezTo>
                  <a:pt x="6677" y="10852"/>
                  <a:pt x="6742" y="11091"/>
                  <a:pt x="6722" y="11261"/>
                </a:cubicBezTo>
                <a:cubicBezTo>
                  <a:pt x="6712" y="11342"/>
                  <a:pt x="6650" y="11468"/>
                  <a:pt x="6598" y="11534"/>
                </a:cubicBezTo>
                <a:cubicBezTo>
                  <a:pt x="6556" y="11587"/>
                  <a:pt x="6443" y="11643"/>
                  <a:pt x="6375" y="11658"/>
                </a:cubicBezTo>
                <a:cubicBezTo>
                  <a:pt x="6330" y="11658"/>
                  <a:pt x="6317" y="11661"/>
                  <a:pt x="6300" y="11633"/>
                </a:cubicBezTo>
              </a:path>
              <a:path w="6302" h="1688">
                <a:moveTo>
                  <a:pt x="6970" y="10740"/>
                </a:moveTo>
                <a:cubicBezTo>
                  <a:pt x="7075" y="10740"/>
                  <a:pt x="7170" y="10752"/>
                  <a:pt x="7268" y="10765"/>
                </a:cubicBezTo>
                <a:cubicBezTo>
                  <a:pt x="7293" y="10765"/>
                  <a:pt x="7317" y="10765"/>
                  <a:pt x="7342" y="10765"/>
                </a:cubicBezTo>
              </a:path>
              <a:path w="6302" h="1688">
                <a:moveTo>
                  <a:pt x="7069" y="10914"/>
                </a:moveTo>
                <a:cubicBezTo>
                  <a:pt x="7190" y="10961"/>
                  <a:pt x="7290" y="11002"/>
                  <a:pt x="7417" y="11013"/>
                </a:cubicBezTo>
              </a:path>
              <a:path w="6302" h="1688">
                <a:moveTo>
                  <a:pt x="8086" y="10592"/>
                </a:moveTo>
                <a:cubicBezTo>
                  <a:pt x="7974" y="10738"/>
                  <a:pt x="7981" y="10757"/>
                  <a:pt x="7938" y="10914"/>
                </a:cubicBezTo>
                <a:cubicBezTo>
                  <a:pt x="7911" y="11015"/>
                  <a:pt x="7915" y="11108"/>
                  <a:pt x="7938" y="11212"/>
                </a:cubicBezTo>
                <a:cubicBezTo>
                  <a:pt x="7958" y="11304"/>
                  <a:pt x="8043" y="11444"/>
                  <a:pt x="8111" y="11509"/>
                </a:cubicBezTo>
                <a:cubicBezTo>
                  <a:pt x="8199" y="11593"/>
                  <a:pt x="8351" y="11707"/>
                  <a:pt x="8483" y="11683"/>
                </a:cubicBezTo>
                <a:cubicBezTo>
                  <a:pt x="8595" y="11663"/>
                  <a:pt x="8640" y="11586"/>
                  <a:pt x="8706" y="11509"/>
                </a:cubicBezTo>
                <a:cubicBezTo>
                  <a:pt x="8787" y="11414"/>
                  <a:pt x="8802" y="11311"/>
                  <a:pt x="8806" y="11187"/>
                </a:cubicBezTo>
                <a:cubicBezTo>
                  <a:pt x="8810" y="11073"/>
                  <a:pt x="8767" y="10971"/>
                  <a:pt x="8731" y="10864"/>
                </a:cubicBezTo>
                <a:cubicBezTo>
                  <a:pt x="8688" y="10737"/>
                  <a:pt x="8553" y="10647"/>
                  <a:pt x="8434" y="10592"/>
                </a:cubicBezTo>
                <a:cubicBezTo>
                  <a:pt x="8334" y="10567"/>
                  <a:pt x="8301" y="10559"/>
                  <a:pt x="8235" y="10542"/>
                </a:cubicBezTo>
              </a:path>
              <a:path w="6302" h="1688">
                <a:moveTo>
                  <a:pt x="4415" y="10567"/>
                </a:moveTo>
                <a:cubicBezTo>
                  <a:pt x="4474" y="10640"/>
                  <a:pt x="4481" y="10702"/>
                  <a:pt x="4514" y="10790"/>
                </a:cubicBezTo>
                <a:cubicBezTo>
                  <a:pt x="4546" y="10876"/>
                  <a:pt x="4606" y="10968"/>
                  <a:pt x="4663" y="11038"/>
                </a:cubicBezTo>
                <a:cubicBezTo>
                  <a:pt x="4717" y="11104"/>
                  <a:pt x="4764" y="11216"/>
                  <a:pt x="4837" y="11261"/>
                </a:cubicBezTo>
                <a:cubicBezTo>
                  <a:pt x="4866" y="11279"/>
                  <a:pt x="4928" y="11303"/>
                  <a:pt x="4961" y="11311"/>
                </a:cubicBezTo>
              </a:path>
              <a:path w="6302" h="1688">
                <a:moveTo>
                  <a:pt x="4738" y="10641"/>
                </a:moveTo>
                <a:cubicBezTo>
                  <a:pt x="4670" y="10755"/>
                  <a:pt x="4566" y="10898"/>
                  <a:pt x="4539" y="11038"/>
                </a:cubicBezTo>
                <a:cubicBezTo>
                  <a:pt x="4522" y="11128"/>
                  <a:pt x="4495" y="11190"/>
                  <a:pt x="4490" y="11286"/>
                </a:cubicBezTo>
                <a:cubicBezTo>
                  <a:pt x="4490" y="11294"/>
                  <a:pt x="4490" y="11303"/>
                  <a:pt x="4490" y="11311"/>
                </a:cubicBezTo>
              </a:path>
              <a:path w="6302" h="1688">
                <a:moveTo>
                  <a:pt x="5259" y="10840"/>
                </a:moveTo>
                <a:cubicBezTo>
                  <a:pt x="5319" y="10847"/>
                  <a:pt x="5399" y="10848"/>
                  <a:pt x="5457" y="10864"/>
                </a:cubicBezTo>
                <a:cubicBezTo>
                  <a:pt x="5512" y="10879"/>
                  <a:pt x="5622" y="10932"/>
                  <a:pt x="5680" y="10914"/>
                </a:cubicBezTo>
                <a:cubicBezTo>
                  <a:pt x="5688" y="10906"/>
                  <a:pt x="5697" y="10897"/>
                  <a:pt x="5705" y="10889"/>
                </a:cubicBezTo>
              </a:path>
              <a:path w="6302" h="1688">
                <a:moveTo>
                  <a:pt x="5904" y="10542"/>
                </a:moveTo>
                <a:cubicBezTo>
                  <a:pt x="5968" y="10478"/>
                  <a:pt x="5989" y="10434"/>
                  <a:pt x="6077" y="10468"/>
                </a:cubicBezTo>
                <a:cubicBezTo>
                  <a:pt x="6126" y="10486"/>
                  <a:pt x="6188" y="10541"/>
                  <a:pt x="6201" y="10592"/>
                </a:cubicBezTo>
                <a:cubicBezTo>
                  <a:pt x="6233" y="10715"/>
                  <a:pt x="6237" y="10820"/>
                  <a:pt x="6201" y="10939"/>
                </a:cubicBezTo>
                <a:cubicBezTo>
                  <a:pt x="6171" y="11039"/>
                  <a:pt x="6105" y="11101"/>
                  <a:pt x="6052" y="11187"/>
                </a:cubicBezTo>
                <a:cubicBezTo>
                  <a:pt x="5993" y="11284"/>
                  <a:pt x="5922" y="11280"/>
                  <a:pt x="5854" y="11212"/>
                </a:cubicBezTo>
                <a:cubicBezTo>
                  <a:pt x="5805" y="11164"/>
                  <a:pt x="5804" y="11157"/>
                  <a:pt x="5804" y="11088"/>
                </a:cubicBezTo>
                <a:cubicBezTo>
                  <a:pt x="5804" y="11071"/>
                  <a:pt x="5804" y="11055"/>
                  <a:pt x="5804" y="11038"/>
                </a:cubicBezTo>
                <a:cubicBezTo>
                  <a:pt x="5909" y="11015"/>
                  <a:pt x="5955" y="11038"/>
                  <a:pt x="6052" y="11088"/>
                </a:cubicBezTo>
                <a:cubicBezTo>
                  <a:pt x="6146" y="11136"/>
                  <a:pt x="6216" y="11174"/>
                  <a:pt x="6300" y="11237"/>
                </a:cubicBezTo>
                <a:cubicBezTo>
                  <a:pt x="6362" y="11283"/>
                  <a:pt x="6434" y="11320"/>
                  <a:pt x="6499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Ink 7"/>
          <p:cNvSpPr/>
          <p:nvPr/>
        </p:nvSpPr>
        <p:spPr>
          <a:xfrm>
            <a:off x="669960" y="4197240"/>
            <a:ext cx="2643120" cy="1625760"/>
          </a:xfrm>
          <a:custGeom>
            <a:avLst/>
            <a:gdLst/>
            <a:ahLst/>
            <a:rect l="l" t="t" r="r" b="b"/>
            <a:pathLst>
              <a:path w="7344" h="4516">
                <a:moveTo>
                  <a:pt x="1860" y="12774"/>
                </a:moveTo>
                <a:cubicBezTo>
                  <a:pt x="1969" y="12774"/>
                  <a:pt x="2074" y="12795"/>
                  <a:pt x="2183" y="12799"/>
                </a:cubicBezTo>
                <a:cubicBezTo>
                  <a:pt x="2293" y="12803"/>
                  <a:pt x="2397" y="12839"/>
                  <a:pt x="2505" y="12849"/>
                </a:cubicBezTo>
                <a:cubicBezTo>
                  <a:pt x="2607" y="12858"/>
                  <a:pt x="2700" y="12874"/>
                  <a:pt x="2803" y="12874"/>
                </a:cubicBezTo>
                <a:cubicBezTo>
                  <a:pt x="2858" y="12874"/>
                  <a:pt x="2872" y="12890"/>
                  <a:pt x="2927" y="12898"/>
                </a:cubicBezTo>
              </a:path>
              <a:path w="7344" h="4516">
                <a:moveTo>
                  <a:pt x="2456" y="13122"/>
                </a:moveTo>
                <a:cubicBezTo>
                  <a:pt x="2509" y="13067"/>
                  <a:pt x="2551" y="13051"/>
                  <a:pt x="2629" y="13047"/>
                </a:cubicBezTo>
                <a:cubicBezTo>
                  <a:pt x="2713" y="13043"/>
                  <a:pt x="2725" y="13097"/>
                  <a:pt x="2729" y="13171"/>
                </a:cubicBezTo>
                <a:cubicBezTo>
                  <a:pt x="2733" y="13245"/>
                  <a:pt x="2706" y="13349"/>
                  <a:pt x="2679" y="13419"/>
                </a:cubicBezTo>
                <a:cubicBezTo>
                  <a:pt x="2637" y="13528"/>
                  <a:pt x="2596" y="13573"/>
                  <a:pt x="2505" y="13643"/>
                </a:cubicBezTo>
                <a:cubicBezTo>
                  <a:pt x="2463" y="13676"/>
                  <a:pt x="2397" y="13695"/>
                  <a:pt x="2356" y="13667"/>
                </a:cubicBezTo>
                <a:cubicBezTo>
                  <a:pt x="2296" y="13625"/>
                  <a:pt x="2303" y="13597"/>
                  <a:pt x="2332" y="13543"/>
                </a:cubicBezTo>
                <a:cubicBezTo>
                  <a:pt x="2381" y="13451"/>
                  <a:pt x="2432" y="13425"/>
                  <a:pt x="2530" y="13469"/>
                </a:cubicBezTo>
                <a:cubicBezTo>
                  <a:pt x="2615" y="13507"/>
                  <a:pt x="2681" y="13589"/>
                  <a:pt x="2729" y="13667"/>
                </a:cubicBezTo>
                <a:cubicBezTo>
                  <a:pt x="2780" y="13750"/>
                  <a:pt x="2787" y="13771"/>
                  <a:pt x="2877" y="13816"/>
                </a:cubicBezTo>
              </a:path>
              <a:path w="7344" h="4516">
                <a:moveTo>
                  <a:pt x="3646" y="12874"/>
                </a:moveTo>
                <a:cubicBezTo>
                  <a:pt x="3820" y="12874"/>
                  <a:pt x="3993" y="12874"/>
                  <a:pt x="4167" y="12874"/>
                </a:cubicBezTo>
              </a:path>
              <a:path w="7344" h="4516">
                <a:moveTo>
                  <a:pt x="3845" y="13146"/>
                </a:moveTo>
                <a:cubicBezTo>
                  <a:pt x="3891" y="13129"/>
                  <a:pt x="3970" y="13086"/>
                  <a:pt x="4018" y="13097"/>
                </a:cubicBezTo>
                <a:cubicBezTo>
                  <a:pt x="4097" y="13116"/>
                  <a:pt x="4128" y="13123"/>
                  <a:pt x="4167" y="13196"/>
                </a:cubicBezTo>
                <a:cubicBezTo>
                  <a:pt x="4205" y="13269"/>
                  <a:pt x="4188" y="13349"/>
                  <a:pt x="4142" y="13419"/>
                </a:cubicBezTo>
                <a:cubicBezTo>
                  <a:pt x="4083" y="13508"/>
                  <a:pt x="3989" y="13577"/>
                  <a:pt x="3919" y="13618"/>
                </a:cubicBezTo>
                <a:cubicBezTo>
                  <a:pt x="3881" y="13640"/>
                  <a:pt x="3868" y="13643"/>
                  <a:pt x="3820" y="13643"/>
                </a:cubicBezTo>
                <a:cubicBezTo>
                  <a:pt x="3835" y="13577"/>
                  <a:pt x="3852" y="13477"/>
                  <a:pt x="3944" y="13494"/>
                </a:cubicBezTo>
                <a:cubicBezTo>
                  <a:pt x="4017" y="13507"/>
                  <a:pt x="4120" y="13591"/>
                  <a:pt x="4167" y="13643"/>
                </a:cubicBezTo>
                <a:cubicBezTo>
                  <a:pt x="4229" y="13713"/>
                  <a:pt x="4272" y="13797"/>
                  <a:pt x="4341" y="13866"/>
                </a:cubicBezTo>
                <a:cubicBezTo>
                  <a:pt x="4366" y="13891"/>
                  <a:pt x="4374" y="13899"/>
                  <a:pt x="4390" y="13915"/>
                </a:cubicBezTo>
              </a:path>
              <a:path w="7344" h="4516">
                <a:moveTo>
                  <a:pt x="2084" y="11658"/>
                </a:moveTo>
                <a:cubicBezTo>
                  <a:pt x="2093" y="11737"/>
                  <a:pt x="2108" y="11798"/>
                  <a:pt x="2108" y="11881"/>
                </a:cubicBezTo>
                <a:cubicBezTo>
                  <a:pt x="2108" y="12003"/>
                  <a:pt x="2144" y="12138"/>
                  <a:pt x="2183" y="12254"/>
                </a:cubicBezTo>
                <a:cubicBezTo>
                  <a:pt x="2255" y="12467"/>
                  <a:pt x="2316" y="12691"/>
                  <a:pt x="2406" y="12898"/>
                </a:cubicBezTo>
                <a:cubicBezTo>
                  <a:pt x="2487" y="13084"/>
                  <a:pt x="2604" y="13256"/>
                  <a:pt x="2679" y="13444"/>
                </a:cubicBezTo>
                <a:cubicBezTo>
                  <a:pt x="2723" y="13554"/>
                  <a:pt x="2793" y="13681"/>
                  <a:pt x="2828" y="13791"/>
                </a:cubicBezTo>
                <a:cubicBezTo>
                  <a:pt x="2848" y="13852"/>
                  <a:pt x="2839" y="13839"/>
                  <a:pt x="2877" y="13891"/>
                </a:cubicBezTo>
              </a:path>
              <a:path w="7344" h="4516">
                <a:moveTo>
                  <a:pt x="2828" y="14288"/>
                </a:moveTo>
                <a:cubicBezTo>
                  <a:pt x="2851" y="14373"/>
                  <a:pt x="2876" y="14452"/>
                  <a:pt x="2902" y="14536"/>
                </a:cubicBezTo>
                <a:cubicBezTo>
                  <a:pt x="2953" y="14698"/>
                  <a:pt x="3025" y="14876"/>
                  <a:pt x="3101" y="15032"/>
                </a:cubicBezTo>
                <a:cubicBezTo>
                  <a:pt x="3147" y="15101"/>
                  <a:pt x="3159" y="15121"/>
                  <a:pt x="3200" y="15156"/>
                </a:cubicBezTo>
              </a:path>
              <a:path w="7344" h="4516">
                <a:moveTo>
                  <a:pt x="3200" y="14337"/>
                </a:moveTo>
                <a:cubicBezTo>
                  <a:pt x="3128" y="14455"/>
                  <a:pt x="3087" y="14565"/>
                  <a:pt x="3026" y="14684"/>
                </a:cubicBezTo>
                <a:cubicBezTo>
                  <a:pt x="2976" y="14781"/>
                  <a:pt x="2893" y="14854"/>
                  <a:pt x="2853" y="14957"/>
                </a:cubicBezTo>
                <a:cubicBezTo>
                  <a:pt x="2820" y="15043"/>
                  <a:pt x="2797" y="15046"/>
                  <a:pt x="2729" y="15106"/>
                </a:cubicBezTo>
              </a:path>
              <a:path w="7344" h="4516">
                <a:moveTo>
                  <a:pt x="3522" y="14486"/>
                </a:moveTo>
                <a:cubicBezTo>
                  <a:pt x="3599" y="14480"/>
                  <a:pt x="3629" y="14474"/>
                  <a:pt x="3696" y="14461"/>
                </a:cubicBezTo>
              </a:path>
              <a:path w="7344" h="4516">
                <a:moveTo>
                  <a:pt x="3473" y="14610"/>
                </a:moveTo>
                <a:cubicBezTo>
                  <a:pt x="3562" y="14689"/>
                  <a:pt x="3600" y="14704"/>
                  <a:pt x="3721" y="14709"/>
                </a:cubicBezTo>
                <a:cubicBezTo>
                  <a:pt x="3770" y="14709"/>
                  <a:pt x="3787" y="14709"/>
                  <a:pt x="3820" y="14709"/>
                </a:cubicBezTo>
              </a:path>
              <a:path w="7344" h="4516">
                <a:moveTo>
                  <a:pt x="4291" y="14337"/>
                </a:moveTo>
                <a:cubicBezTo>
                  <a:pt x="4282" y="14403"/>
                  <a:pt x="4249" y="14447"/>
                  <a:pt x="4217" y="14511"/>
                </a:cubicBezTo>
                <a:cubicBezTo>
                  <a:pt x="4185" y="14575"/>
                  <a:pt x="4185" y="14642"/>
                  <a:pt x="4167" y="14709"/>
                </a:cubicBezTo>
                <a:cubicBezTo>
                  <a:pt x="4149" y="14778"/>
                  <a:pt x="4116" y="14885"/>
                  <a:pt x="4142" y="14957"/>
                </a:cubicBezTo>
                <a:cubicBezTo>
                  <a:pt x="4160" y="15008"/>
                  <a:pt x="4161" y="15070"/>
                  <a:pt x="4217" y="15106"/>
                </a:cubicBezTo>
                <a:cubicBezTo>
                  <a:pt x="4273" y="15143"/>
                  <a:pt x="4318" y="15172"/>
                  <a:pt x="4390" y="15156"/>
                </a:cubicBezTo>
                <a:cubicBezTo>
                  <a:pt x="4465" y="15140"/>
                  <a:pt x="4528" y="15127"/>
                  <a:pt x="4589" y="15081"/>
                </a:cubicBezTo>
                <a:cubicBezTo>
                  <a:pt x="4662" y="15026"/>
                  <a:pt x="4712" y="14959"/>
                  <a:pt x="4738" y="14883"/>
                </a:cubicBezTo>
                <a:cubicBezTo>
                  <a:pt x="4769" y="14793"/>
                  <a:pt x="4762" y="14707"/>
                  <a:pt x="4762" y="14610"/>
                </a:cubicBezTo>
                <a:cubicBezTo>
                  <a:pt x="4762" y="14545"/>
                  <a:pt x="4740" y="14444"/>
                  <a:pt x="4713" y="14387"/>
                </a:cubicBezTo>
                <a:cubicBezTo>
                  <a:pt x="4687" y="14331"/>
                  <a:pt x="4629" y="14343"/>
                  <a:pt x="4589" y="14312"/>
                </a:cubicBezTo>
                <a:cubicBezTo>
                  <a:pt x="4535" y="14270"/>
                  <a:pt x="4468" y="14196"/>
                  <a:pt x="4390" y="14213"/>
                </a:cubicBezTo>
                <a:cubicBezTo>
                  <a:pt x="4334" y="14242"/>
                  <a:pt x="4310" y="14253"/>
                  <a:pt x="4266" y="14263"/>
                </a:cubicBezTo>
              </a:path>
              <a:path w="7344" h="4516">
                <a:moveTo>
                  <a:pt x="6970" y="13519"/>
                </a:moveTo>
                <a:cubicBezTo>
                  <a:pt x="6970" y="13630"/>
                  <a:pt x="6988" y="13731"/>
                  <a:pt x="6995" y="13841"/>
                </a:cubicBezTo>
                <a:cubicBezTo>
                  <a:pt x="6995" y="13849"/>
                  <a:pt x="6995" y="13858"/>
                  <a:pt x="6995" y="13866"/>
                </a:cubicBezTo>
              </a:path>
              <a:path w="7344" h="4516">
                <a:moveTo>
                  <a:pt x="6796" y="13519"/>
                </a:moveTo>
                <a:cubicBezTo>
                  <a:pt x="6894" y="13550"/>
                  <a:pt x="6990" y="13568"/>
                  <a:pt x="7094" y="13593"/>
                </a:cubicBezTo>
              </a:path>
              <a:path w="7344" h="4516">
                <a:moveTo>
                  <a:pt x="7293" y="13395"/>
                </a:moveTo>
                <a:cubicBezTo>
                  <a:pt x="7378" y="13421"/>
                  <a:pt x="7426" y="13435"/>
                  <a:pt x="7491" y="13494"/>
                </a:cubicBezTo>
                <a:cubicBezTo>
                  <a:pt x="7530" y="13529"/>
                  <a:pt x="7516" y="13569"/>
                  <a:pt x="7516" y="13618"/>
                </a:cubicBezTo>
                <a:cubicBezTo>
                  <a:pt x="7456" y="13627"/>
                  <a:pt x="7397" y="13654"/>
                  <a:pt x="7342" y="13692"/>
                </a:cubicBezTo>
                <a:cubicBezTo>
                  <a:pt x="7307" y="13716"/>
                  <a:pt x="7254" y="13799"/>
                  <a:pt x="7268" y="13841"/>
                </a:cubicBezTo>
                <a:cubicBezTo>
                  <a:pt x="7287" y="13897"/>
                  <a:pt x="7379" y="13901"/>
                  <a:pt x="7417" y="13915"/>
                </a:cubicBezTo>
                <a:cubicBezTo>
                  <a:pt x="7493" y="13942"/>
                  <a:pt x="7514" y="13941"/>
                  <a:pt x="7590" y="13915"/>
                </a:cubicBezTo>
              </a:path>
              <a:path w="7344" h="4516">
                <a:moveTo>
                  <a:pt x="8434" y="13419"/>
                </a:moveTo>
                <a:cubicBezTo>
                  <a:pt x="8457" y="13506"/>
                  <a:pt x="8458" y="13576"/>
                  <a:pt x="8458" y="13667"/>
                </a:cubicBezTo>
                <a:cubicBezTo>
                  <a:pt x="8458" y="13717"/>
                  <a:pt x="8458" y="13734"/>
                  <a:pt x="8458" y="13767"/>
                </a:cubicBezTo>
              </a:path>
              <a:path w="7344" h="4516">
                <a:moveTo>
                  <a:pt x="8285" y="13593"/>
                </a:moveTo>
                <a:cubicBezTo>
                  <a:pt x="8385" y="13593"/>
                  <a:pt x="8464" y="13606"/>
                  <a:pt x="8558" y="13618"/>
                </a:cubicBezTo>
              </a:path>
              <a:path w="7344" h="4516">
                <a:moveTo>
                  <a:pt x="8781" y="13494"/>
                </a:moveTo>
                <a:cubicBezTo>
                  <a:pt x="8875" y="13494"/>
                  <a:pt x="8968" y="13481"/>
                  <a:pt x="9054" y="13519"/>
                </a:cubicBezTo>
                <a:cubicBezTo>
                  <a:pt x="9094" y="13536"/>
                  <a:pt x="9199" y="13588"/>
                  <a:pt x="9128" y="13643"/>
                </a:cubicBezTo>
                <a:cubicBezTo>
                  <a:pt x="9049" y="13704"/>
                  <a:pt x="8916" y="13665"/>
                  <a:pt x="8880" y="13767"/>
                </a:cubicBezTo>
                <a:cubicBezTo>
                  <a:pt x="8848" y="13857"/>
                  <a:pt x="8897" y="13930"/>
                  <a:pt x="8954" y="13990"/>
                </a:cubicBezTo>
                <a:cubicBezTo>
                  <a:pt x="8996" y="14035"/>
                  <a:pt x="9065" y="14080"/>
                  <a:pt x="9128" y="14089"/>
                </a:cubicBezTo>
                <a:cubicBezTo>
                  <a:pt x="9153" y="14089"/>
                  <a:pt x="9178" y="14089"/>
                  <a:pt x="9203" y="14089"/>
                </a:cubicBezTo>
              </a:path>
              <a:path w="7344" h="4516">
                <a:moveTo>
                  <a:pt x="6772" y="14412"/>
                </a:moveTo>
                <a:cubicBezTo>
                  <a:pt x="6805" y="14570"/>
                  <a:pt x="6861" y="14778"/>
                  <a:pt x="6970" y="14908"/>
                </a:cubicBezTo>
                <a:cubicBezTo>
                  <a:pt x="7020" y="14957"/>
                  <a:pt x="7069" y="15007"/>
                  <a:pt x="7119" y="15056"/>
                </a:cubicBezTo>
              </a:path>
              <a:path w="7344" h="4516">
                <a:moveTo>
                  <a:pt x="7045" y="14337"/>
                </a:moveTo>
                <a:cubicBezTo>
                  <a:pt x="6887" y="14501"/>
                  <a:pt x="6818" y="14583"/>
                  <a:pt x="6722" y="14759"/>
                </a:cubicBezTo>
                <a:cubicBezTo>
                  <a:pt x="6651" y="14889"/>
                  <a:pt x="6648" y="14891"/>
                  <a:pt x="6648" y="15007"/>
                </a:cubicBezTo>
              </a:path>
              <a:path w="7344" h="4516">
                <a:moveTo>
                  <a:pt x="7367" y="14461"/>
                </a:moveTo>
                <a:cubicBezTo>
                  <a:pt x="7447" y="14475"/>
                  <a:pt x="7491" y="14486"/>
                  <a:pt x="7565" y="14486"/>
                </a:cubicBezTo>
              </a:path>
              <a:path w="7344" h="4516">
                <a:moveTo>
                  <a:pt x="7243" y="14684"/>
                </a:moveTo>
                <a:cubicBezTo>
                  <a:pt x="7340" y="14701"/>
                  <a:pt x="7396" y="14709"/>
                  <a:pt x="7491" y="14709"/>
                </a:cubicBezTo>
              </a:path>
              <a:path w="7344" h="4516">
                <a:moveTo>
                  <a:pt x="7813" y="14362"/>
                </a:moveTo>
                <a:cubicBezTo>
                  <a:pt x="7918" y="14327"/>
                  <a:pt x="8006" y="14288"/>
                  <a:pt x="8111" y="14337"/>
                </a:cubicBezTo>
                <a:cubicBezTo>
                  <a:pt x="8185" y="14372"/>
                  <a:pt x="8190" y="14483"/>
                  <a:pt x="8136" y="14536"/>
                </a:cubicBezTo>
                <a:cubicBezTo>
                  <a:pt x="8075" y="14596"/>
                  <a:pt x="7938" y="14640"/>
                  <a:pt x="7863" y="14684"/>
                </a:cubicBezTo>
                <a:cubicBezTo>
                  <a:pt x="7788" y="14728"/>
                  <a:pt x="7774" y="14759"/>
                  <a:pt x="7813" y="14833"/>
                </a:cubicBezTo>
                <a:cubicBezTo>
                  <a:pt x="7840" y="14884"/>
                  <a:pt x="7902" y="14940"/>
                  <a:pt x="7962" y="14957"/>
                </a:cubicBezTo>
                <a:cubicBezTo>
                  <a:pt x="8072" y="14988"/>
                  <a:pt x="8095" y="14991"/>
                  <a:pt x="8186" y="14957"/>
                </a:cubicBezTo>
              </a:path>
              <a:path w="7344" h="4516">
                <a:moveTo>
                  <a:pt x="8582" y="14362"/>
                </a:moveTo>
                <a:cubicBezTo>
                  <a:pt x="8505" y="14200"/>
                  <a:pt x="8510" y="14126"/>
                  <a:pt x="8334" y="14039"/>
                </a:cubicBezTo>
                <a:cubicBezTo>
                  <a:pt x="8126" y="13936"/>
                  <a:pt x="7918" y="13836"/>
                  <a:pt x="7689" y="13791"/>
                </a:cubicBezTo>
                <a:cubicBezTo>
                  <a:pt x="7469" y="13748"/>
                  <a:pt x="7289" y="13754"/>
                  <a:pt x="7069" y="13767"/>
                </a:cubicBezTo>
                <a:cubicBezTo>
                  <a:pt x="6907" y="13777"/>
                  <a:pt x="6744" y="13814"/>
                  <a:pt x="6598" y="13891"/>
                </a:cubicBezTo>
                <a:cubicBezTo>
                  <a:pt x="6470" y="13958"/>
                  <a:pt x="6287" y="14061"/>
                  <a:pt x="6251" y="14213"/>
                </a:cubicBezTo>
                <a:cubicBezTo>
                  <a:pt x="6211" y="14384"/>
                  <a:pt x="6210" y="14554"/>
                  <a:pt x="6300" y="14709"/>
                </a:cubicBezTo>
                <a:cubicBezTo>
                  <a:pt x="6391" y="14866"/>
                  <a:pt x="6493" y="14983"/>
                  <a:pt x="6623" y="15106"/>
                </a:cubicBezTo>
                <a:cubicBezTo>
                  <a:pt x="6826" y="15299"/>
                  <a:pt x="7002" y="15492"/>
                  <a:pt x="7268" y="15602"/>
                </a:cubicBezTo>
                <a:cubicBezTo>
                  <a:pt x="7489" y="15694"/>
                  <a:pt x="7730" y="15706"/>
                  <a:pt x="7962" y="15677"/>
                </a:cubicBezTo>
                <a:cubicBezTo>
                  <a:pt x="8131" y="15656"/>
                  <a:pt x="8295" y="15607"/>
                  <a:pt x="8434" y="15503"/>
                </a:cubicBezTo>
                <a:cubicBezTo>
                  <a:pt x="8549" y="15417"/>
                  <a:pt x="8637" y="15264"/>
                  <a:pt x="8682" y="15131"/>
                </a:cubicBezTo>
                <a:cubicBezTo>
                  <a:pt x="8735" y="14976"/>
                  <a:pt x="8719" y="14864"/>
                  <a:pt x="8706" y="14709"/>
                </a:cubicBezTo>
                <a:cubicBezTo>
                  <a:pt x="8695" y="14572"/>
                  <a:pt x="8654" y="14466"/>
                  <a:pt x="8558" y="14362"/>
                </a:cubicBezTo>
                <a:cubicBezTo>
                  <a:pt x="8463" y="14269"/>
                  <a:pt x="8413" y="14233"/>
                  <a:pt x="8310" y="14213"/>
                </a:cubicBezTo>
              </a:path>
              <a:path w="7344" h="4516">
                <a:moveTo>
                  <a:pt x="5283" y="14312"/>
                </a:moveTo>
                <a:cubicBezTo>
                  <a:pt x="5150" y="14157"/>
                  <a:pt x="5068" y="14077"/>
                  <a:pt x="4887" y="13990"/>
                </a:cubicBezTo>
                <a:cubicBezTo>
                  <a:pt x="4669" y="13885"/>
                  <a:pt x="4455" y="13812"/>
                  <a:pt x="4217" y="13767"/>
                </a:cubicBezTo>
                <a:cubicBezTo>
                  <a:pt x="4014" y="13729"/>
                  <a:pt x="3827" y="13717"/>
                  <a:pt x="3621" y="13717"/>
                </a:cubicBezTo>
                <a:cubicBezTo>
                  <a:pt x="3409" y="13717"/>
                  <a:pt x="3227" y="13751"/>
                  <a:pt x="3026" y="13816"/>
                </a:cubicBezTo>
                <a:cubicBezTo>
                  <a:pt x="2807" y="13886"/>
                  <a:pt x="2598" y="13981"/>
                  <a:pt x="2431" y="14139"/>
                </a:cubicBezTo>
                <a:cubicBezTo>
                  <a:pt x="2294" y="14268"/>
                  <a:pt x="2254" y="14400"/>
                  <a:pt x="2232" y="14585"/>
                </a:cubicBezTo>
                <a:cubicBezTo>
                  <a:pt x="2206" y="14807"/>
                  <a:pt x="2221" y="15022"/>
                  <a:pt x="2307" y="15230"/>
                </a:cubicBezTo>
                <a:cubicBezTo>
                  <a:pt x="2425" y="15515"/>
                  <a:pt x="2759" y="15789"/>
                  <a:pt x="3026" y="15925"/>
                </a:cubicBezTo>
                <a:cubicBezTo>
                  <a:pt x="3246" y="16037"/>
                  <a:pt x="3499" y="16150"/>
                  <a:pt x="3746" y="16173"/>
                </a:cubicBezTo>
                <a:cubicBezTo>
                  <a:pt x="4145" y="16211"/>
                  <a:pt x="4532" y="16197"/>
                  <a:pt x="4887" y="16024"/>
                </a:cubicBezTo>
                <a:cubicBezTo>
                  <a:pt x="5060" y="15940"/>
                  <a:pt x="5240" y="15753"/>
                  <a:pt x="5358" y="15602"/>
                </a:cubicBezTo>
                <a:cubicBezTo>
                  <a:pt x="5538" y="15373"/>
                  <a:pt x="5668" y="15045"/>
                  <a:pt x="5680" y="14759"/>
                </a:cubicBezTo>
                <a:cubicBezTo>
                  <a:pt x="5687" y="14578"/>
                  <a:pt x="5673" y="14468"/>
                  <a:pt x="5581" y="14312"/>
                </a:cubicBezTo>
                <a:cubicBezTo>
                  <a:pt x="5452" y="14092"/>
                  <a:pt x="5339" y="14032"/>
                  <a:pt x="5085" y="13965"/>
                </a:cubicBezTo>
                <a:cubicBezTo>
                  <a:pt x="5035" y="13957"/>
                  <a:pt x="4986" y="13948"/>
                  <a:pt x="4936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Ink 8"/>
          <p:cNvSpPr/>
          <p:nvPr/>
        </p:nvSpPr>
        <p:spPr>
          <a:xfrm>
            <a:off x="5214960" y="4687920"/>
            <a:ext cx="1108080" cy="492120"/>
          </a:xfrm>
          <a:custGeom>
            <a:avLst/>
            <a:gdLst/>
            <a:ahLst/>
            <a:rect l="l" t="t" r="r" b="b"/>
            <a:pathLst>
              <a:path w="3077" h="1366">
                <a:moveTo>
                  <a:pt x="14536" y="13568"/>
                </a:moveTo>
                <a:cubicBezTo>
                  <a:pt x="14583" y="13597"/>
                  <a:pt x="14632" y="13641"/>
                  <a:pt x="14684" y="13667"/>
                </a:cubicBezTo>
                <a:cubicBezTo>
                  <a:pt x="14790" y="13719"/>
                  <a:pt x="14820" y="13767"/>
                  <a:pt x="14883" y="13866"/>
                </a:cubicBezTo>
                <a:cubicBezTo>
                  <a:pt x="14945" y="13963"/>
                  <a:pt x="15013" y="14098"/>
                  <a:pt x="15032" y="14213"/>
                </a:cubicBezTo>
                <a:cubicBezTo>
                  <a:pt x="15032" y="14288"/>
                  <a:pt x="15032" y="14329"/>
                  <a:pt x="15032" y="14387"/>
                </a:cubicBezTo>
              </a:path>
              <a:path w="3077" h="1366">
                <a:moveTo>
                  <a:pt x="14957" y="13345"/>
                </a:moveTo>
                <a:cubicBezTo>
                  <a:pt x="14869" y="13421"/>
                  <a:pt x="14889" y="13492"/>
                  <a:pt x="14833" y="13593"/>
                </a:cubicBezTo>
                <a:cubicBezTo>
                  <a:pt x="14741" y="13757"/>
                  <a:pt x="14652" y="13930"/>
                  <a:pt x="14560" y="14089"/>
                </a:cubicBezTo>
                <a:cubicBezTo>
                  <a:pt x="14509" y="14193"/>
                  <a:pt x="14491" y="14231"/>
                  <a:pt x="14486" y="14312"/>
                </a:cubicBezTo>
              </a:path>
              <a:path w="3077" h="1366">
                <a:moveTo>
                  <a:pt x="15304" y="13345"/>
                </a:moveTo>
                <a:cubicBezTo>
                  <a:pt x="15337" y="13485"/>
                  <a:pt x="15352" y="13532"/>
                  <a:pt x="15329" y="13667"/>
                </a:cubicBezTo>
                <a:cubicBezTo>
                  <a:pt x="15307" y="13793"/>
                  <a:pt x="15305" y="13919"/>
                  <a:pt x="15280" y="14039"/>
                </a:cubicBezTo>
                <a:cubicBezTo>
                  <a:pt x="15280" y="14047"/>
                  <a:pt x="15280" y="14056"/>
                  <a:pt x="15280" y="14064"/>
                </a:cubicBezTo>
              </a:path>
              <a:path w="3077" h="1366">
                <a:moveTo>
                  <a:pt x="15106" y="13742"/>
                </a:moveTo>
                <a:cubicBezTo>
                  <a:pt x="15174" y="13708"/>
                  <a:pt x="15248" y="13717"/>
                  <a:pt x="15329" y="13717"/>
                </a:cubicBezTo>
                <a:cubicBezTo>
                  <a:pt x="15418" y="13717"/>
                  <a:pt x="15484" y="13698"/>
                  <a:pt x="15577" y="13692"/>
                </a:cubicBezTo>
              </a:path>
              <a:path w="3077" h="1366">
                <a:moveTo>
                  <a:pt x="15875" y="13271"/>
                </a:moveTo>
                <a:cubicBezTo>
                  <a:pt x="15925" y="13199"/>
                  <a:pt x="15938" y="13151"/>
                  <a:pt x="16024" y="13146"/>
                </a:cubicBezTo>
                <a:cubicBezTo>
                  <a:pt x="16094" y="13142"/>
                  <a:pt x="16152" y="13109"/>
                  <a:pt x="16222" y="13097"/>
                </a:cubicBezTo>
              </a:path>
              <a:path w="3077" h="1366">
                <a:moveTo>
                  <a:pt x="15900" y="13146"/>
                </a:moveTo>
                <a:cubicBezTo>
                  <a:pt x="15843" y="13259"/>
                  <a:pt x="15796" y="13358"/>
                  <a:pt x="15776" y="13469"/>
                </a:cubicBezTo>
                <a:cubicBezTo>
                  <a:pt x="15764" y="13539"/>
                  <a:pt x="15776" y="13621"/>
                  <a:pt x="15776" y="13692"/>
                </a:cubicBezTo>
                <a:cubicBezTo>
                  <a:pt x="15829" y="13650"/>
                  <a:pt x="15893" y="13632"/>
                  <a:pt x="15949" y="13593"/>
                </a:cubicBezTo>
                <a:cubicBezTo>
                  <a:pt x="16007" y="13552"/>
                  <a:pt x="16019" y="13523"/>
                  <a:pt x="16098" y="13519"/>
                </a:cubicBezTo>
                <a:cubicBezTo>
                  <a:pt x="16196" y="13514"/>
                  <a:pt x="16256" y="13516"/>
                  <a:pt x="16346" y="13568"/>
                </a:cubicBezTo>
                <a:cubicBezTo>
                  <a:pt x="16408" y="13604"/>
                  <a:pt x="16350" y="13750"/>
                  <a:pt x="16321" y="13791"/>
                </a:cubicBezTo>
                <a:cubicBezTo>
                  <a:pt x="16231" y="13920"/>
                  <a:pt x="16127" y="14024"/>
                  <a:pt x="16024" y="14139"/>
                </a:cubicBezTo>
                <a:cubicBezTo>
                  <a:pt x="15956" y="14215"/>
                  <a:pt x="15930" y="14272"/>
                  <a:pt x="15850" y="14337"/>
                </a:cubicBezTo>
              </a:path>
              <a:path w="3077" h="1366">
                <a:moveTo>
                  <a:pt x="16495" y="13345"/>
                </a:moveTo>
                <a:cubicBezTo>
                  <a:pt x="16560" y="13306"/>
                  <a:pt x="16637" y="13320"/>
                  <a:pt x="16718" y="13320"/>
                </a:cubicBezTo>
              </a:path>
              <a:path w="3077" h="1366">
                <a:moveTo>
                  <a:pt x="16570" y="13618"/>
                </a:moveTo>
                <a:cubicBezTo>
                  <a:pt x="16678" y="13576"/>
                  <a:pt x="16782" y="13531"/>
                  <a:pt x="16892" y="13494"/>
                </a:cubicBezTo>
              </a:path>
              <a:path w="3077" h="1366">
                <a:moveTo>
                  <a:pt x="17214" y="13022"/>
                </a:moveTo>
                <a:cubicBezTo>
                  <a:pt x="17203" y="13170"/>
                  <a:pt x="17153" y="13301"/>
                  <a:pt x="17115" y="13444"/>
                </a:cubicBezTo>
                <a:cubicBezTo>
                  <a:pt x="17080" y="13574"/>
                  <a:pt x="17066" y="13682"/>
                  <a:pt x="17066" y="13816"/>
                </a:cubicBezTo>
                <a:cubicBezTo>
                  <a:pt x="17066" y="13920"/>
                  <a:pt x="17094" y="13975"/>
                  <a:pt x="17165" y="14039"/>
                </a:cubicBezTo>
                <a:cubicBezTo>
                  <a:pt x="17226" y="14094"/>
                  <a:pt x="17316" y="14009"/>
                  <a:pt x="17363" y="13965"/>
                </a:cubicBezTo>
                <a:cubicBezTo>
                  <a:pt x="17427" y="13905"/>
                  <a:pt x="17516" y="13811"/>
                  <a:pt x="17537" y="13717"/>
                </a:cubicBezTo>
                <a:cubicBezTo>
                  <a:pt x="17552" y="13648"/>
                  <a:pt x="17573" y="13602"/>
                  <a:pt x="17537" y="13543"/>
                </a:cubicBezTo>
                <a:cubicBezTo>
                  <a:pt x="17410" y="13474"/>
                  <a:pt x="17360" y="13512"/>
                  <a:pt x="17264" y="13618"/>
                </a:cubicBezTo>
                <a:cubicBezTo>
                  <a:pt x="17194" y="13695"/>
                  <a:pt x="17121" y="13704"/>
                  <a:pt x="17115" y="13816"/>
                </a:cubicBezTo>
                <a:cubicBezTo>
                  <a:pt x="17115" y="13833"/>
                  <a:pt x="17115" y="13849"/>
                  <a:pt x="17115" y="138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Ink 9"/>
          <p:cNvSpPr/>
          <p:nvPr/>
        </p:nvSpPr>
        <p:spPr>
          <a:xfrm>
            <a:off x="6742080" y="4321080"/>
            <a:ext cx="1874880" cy="696960"/>
          </a:xfrm>
          <a:custGeom>
            <a:avLst/>
            <a:gdLst/>
            <a:ahLst/>
            <a:rect l="l" t="t" r="r" b="b"/>
            <a:pathLst>
              <a:path w="5210" h="1936">
                <a:moveTo>
                  <a:pt x="18852" y="13370"/>
                </a:moveTo>
                <a:cubicBezTo>
                  <a:pt x="18822" y="13479"/>
                  <a:pt x="18796" y="13585"/>
                  <a:pt x="18752" y="13692"/>
                </a:cubicBezTo>
                <a:cubicBezTo>
                  <a:pt x="18744" y="13709"/>
                  <a:pt x="18736" y="13725"/>
                  <a:pt x="18728" y="13742"/>
                </a:cubicBezTo>
              </a:path>
              <a:path w="5210" h="1936">
                <a:moveTo>
                  <a:pt x="18827" y="13915"/>
                </a:moveTo>
                <a:cubicBezTo>
                  <a:pt x="18938" y="13890"/>
                  <a:pt x="18976" y="13890"/>
                  <a:pt x="19050" y="13816"/>
                </a:cubicBezTo>
                <a:cubicBezTo>
                  <a:pt x="19105" y="13761"/>
                  <a:pt x="19061" y="13719"/>
                  <a:pt x="19050" y="13667"/>
                </a:cubicBezTo>
                <a:cubicBezTo>
                  <a:pt x="19038" y="13606"/>
                  <a:pt x="19022" y="13570"/>
                  <a:pt x="18976" y="13519"/>
                </a:cubicBezTo>
                <a:cubicBezTo>
                  <a:pt x="18920" y="13457"/>
                  <a:pt x="18882" y="13380"/>
                  <a:pt x="18901" y="13295"/>
                </a:cubicBezTo>
                <a:cubicBezTo>
                  <a:pt x="18927" y="13176"/>
                  <a:pt x="19029" y="13051"/>
                  <a:pt x="19149" y="13022"/>
                </a:cubicBezTo>
                <a:cubicBezTo>
                  <a:pt x="19250" y="12998"/>
                  <a:pt x="19330" y="13022"/>
                  <a:pt x="19397" y="13097"/>
                </a:cubicBezTo>
                <a:cubicBezTo>
                  <a:pt x="19453" y="13159"/>
                  <a:pt x="19422" y="13295"/>
                  <a:pt x="19422" y="13370"/>
                </a:cubicBezTo>
                <a:cubicBezTo>
                  <a:pt x="19422" y="13494"/>
                  <a:pt x="19422" y="13618"/>
                  <a:pt x="19422" y="13742"/>
                </a:cubicBezTo>
              </a:path>
              <a:path w="5210" h="1936">
                <a:moveTo>
                  <a:pt x="20042" y="12874"/>
                </a:moveTo>
                <a:cubicBezTo>
                  <a:pt x="20130" y="12987"/>
                  <a:pt x="20107" y="13012"/>
                  <a:pt x="20166" y="13122"/>
                </a:cubicBezTo>
                <a:cubicBezTo>
                  <a:pt x="20197" y="13181"/>
                  <a:pt x="20278" y="13325"/>
                  <a:pt x="20340" y="13370"/>
                </a:cubicBezTo>
                <a:cubicBezTo>
                  <a:pt x="20410" y="13421"/>
                  <a:pt x="20433" y="13424"/>
                  <a:pt x="20513" y="13395"/>
                </a:cubicBezTo>
              </a:path>
              <a:path w="5210" h="1936">
                <a:moveTo>
                  <a:pt x="20414" y="12824"/>
                </a:moveTo>
                <a:cubicBezTo>
                  <a:pt x="20290" y="12976"/>
                  <a:pt x="20203" y="13144"/>
                  <a:pt x="20092" y="13295"/>
                </a:cubicBezTo>
                <a:cubicBezTo>
                  <a:pt x="19996" y="13425"/>
                  <a:pt x="19930" y="13552"/>
                  <a:pt x="19844" y="13692"/>
                </a:cubicBezTo>
              </a:path>
              <a:path w="5210" h="1936">
                <a:moveTo>
                  <a:pt x="20762" y="12750"/>
                </a:moveTo>
                <a:cubicBezTo>
                  <a:pt x="20740" y="12897"/>
                  <a:pt x="20738" y="13053"/>
                  <a:pt x="20712" y="13196"/>
                </a:cubicBezTo>
                <a:cubicBezTo>
                  <a:pt x="20688" y="13269"/>
                  <a:pt x="20679" y="13293"/>
                  <a:pt x="20687" y="13345"/>
                </a:cubicBezTo>
              </a:path>
              <a:path w="5210" h="1936">
                <a:moveTo>
                  <a:pt x="20563" y="13171"/>
                </a:moveTo>
                <a:cubicBezTo>
                  <a:pt x="20703" y="13138"/>
                  <a:pt x="20826" y="13114"/>
                  <a:pt x="20960" y="13072"/>
                </a:cubicBezTo>
                <a:cubicBezTo>
                  <a:pt x="20993" y="13064"/>
                  <a:pt x="21026" y="13055"/>
                  <a:pt x="21059" y="13047"/>
                </a:cubicBezTo>
              </a:path>
              <a:path w="5210" h="1936">
                <a:moveTo>
                  <a:pt x="21506" y="12427"/>
                </a:moveTo>
                <a:cubicBezTo>
                  <a:pt x="21638" y="12410"/>
                  <a:pt x="21773" y="12392"/>
                  <a:pt x="21903" y="12378"/>
                </a:cubicBezTo>
                <a:cubicBezTo>
                  <a:pt x="21928" y="12378"/>
                  <a:pt x="21952" y="12378"/>
                  <a:pt x="21977" y="12378"/>
                </a:cubicBezTo>
              </a:path>
              <a:path w="5210" h="1936">
                <a:moveTo>
                  <a:pt x="21456" y="12601"/>
                </a:moveTo>
                <a:cubicBezTo>
                  <a:pt x="21440" y="12659"/>
                  <a:pt x="21407" y="12762"/>
                  <a:pt x="21431" y="12824"/>
                </a:cubicBezTo>
                <a:cubicBezTo>
                  <a:pt x="21439" y="12832"/>
                  <a:pt x="21448" y="12841"/>
                  <a:pt x="21456" y="12849"/>
                </a:cubicBezTo>
                <a:cubicBezTo>
                  <a:pt x="21496" y="12817"/>
                  <a:pt x="21561" y="12781"/>
                  <a:pt x="21605" y="12774"/>
                </a:cubicBezTo>
                <a:cubicBezTo>
                  <a:pt x="21675" y="12763"/>
                  <a:pt x="21791" y="12770"/>
                  <a:pt x="21853" y="12799"/>
                </a:cubicBezTo>
                <a:cubicBezTo>
                  <a:pt x="21916" y="12828"/>
                  <a:pt x="21903" y="12892"/>
                  <a:pt x="21903" y="12948"/>
                </a:cubicBezTo>
                <a:cubicBezTo>
                  <a:pt x="21903" y="13041"/>
                  <a:pt x="21853" y="13100"/>
                  <a:pt x="21803" y="13171"/>
                </a:cubicBezTo>
                <a:cubicBezTo>
                  <a:pt x="21715" y="13297"/>
                  <a:pt x="21606" y="13402"/>
                  <a:pt x="21481" y="13494"/>
                </a:cubicBezTo>
                <a:cubicBezTo>
                  <a:pt x="21429" y="13532"/>
                  <a:pt x="21364" y="13561"/>
                  <a:pt x="21307" y="13593"/>
                </a:cubicBezTo>
              </a:path>
              <a:path w="5210" h="1936">
                <a:moveTo>
                  <a:pt x="22225" y="12824"/>
                </a:moveTo>
                <a:cubicBezTo>
                  <a:pt x="22333" y="12805"/>
                  <a:pt x="22415" y="12799"/>
                  <a:pt x="22523" y="12799"/>
                </a:cubicBezTo>
              </a:path>
              <a:path w="5210" h="1936">
                <a:moveTo>
                  <a:pt x="22349" y="13097"/>
                </a:moveTo>
                <a:cubicBezTo>
                  <a:pt x="22434" y="13042"/>
                  <a:pt x="22495" y="13003"/>
                  <a:pt x="22597" y="12998"/>
                </a:cubicBezTo>
                <a:cubicBezTo>
                  <a:pt x="22647" y="12998"/>
                  <a:pt x="22663" y="12998"/>
                  <a:pt x="22696" y="12998"/>
                </a:cubicBezTo>
              </a:path>
              <a:path w="5210" h="1936">
                <a:moveTo>
                  <a:pt x="22994" y="12452"/>
                </a:moveTo>
                <a:cubicBezTo>
                  <a:pt x="23084" y="12433"/>
                  <a:pt x="23151" y="12427"/>
                  <a:pt x="23242" y="12427"/>
                </a:cubicBezTo>
                <a:cubicBezTo>
                  <a:pt x="23308" y="12427"/>
                  <a:pt x="23325" y="12427"/>
                  <a:pt x="23366" y="12427"/>
                </a:cubicBezTo>
              </a:path>
              <a:path w="5210" h="1936">
                <a:moveTo>
                  <a:pt x="23887" y="12005"/>
                </a:moveTo>
                <a:cubicBezTo>
                  <a:pt x="23812" y="12058"/>
                  <a:pt x="23802" y="12094"/>
                  <a:pt x="23763" y="12179"/>
                </a:cubicBezTo>
                <a:cubicBezTo>
                  <a:pt x="23720" y="12274"/>
                  <a:pt x="23668" y="12349"/>
                  <a:pt x="23639" y="12452"/>
                </a:cubicBezTo>
                <a:cubicBezTo>
                  <a:pt x="23599" y="12593"/>
                  <a:pt x="23568" y="12726"/>
                  <a:pt x="23564" y="12874"/>
                </a:cubicBezTo>
                <a:cubicBezTo>
                  <a:pt x="23562" y="12948"/>
                  <a:pt x="23571" y="13083"/>
                  <a:pt x="23614" y="13146"/>
                </a:cubicBezTo>
                <a:cubicBezTo>
                  <a:pt x="23659" y="13211"/>
                  <a:pt x="23738" y="13242"/>
                  <a:pt x="23812" y="13246"/>
                </a:cubicBezTo>
                <a:cubicBezTo>
                  <a:pt x="23904" y="13251"/>
                  <a:pt x="23948" y="13256"/>
                  <a:pt x="23937" y="13146"/>
                </a:cubicBezTo>
                <a:cubicBezTo>
                  <a:pt x="23928" y="13059"/>
                  <a:pt x="23878" y="13054"/>
                  <a:pt x="23812" y="13047"/>
                </a:cubicBezTo>
                <a:cubicBezTo>
                  <a:pt x="23719" y="13038"/>
                  <a:pt x="23705" y="13101"/>
                  <a:pt x="23639" y="13146"/>
                </a:cubicBezTo>
                <a:cubicBezTo>
                  <a:pt x="23560" y="13200"/>
                  <a:pt x="23507" y="13278"/>
                  <a:pt x="23465" y="13370"/>
                </a:cubicBezTo>
                <a:cubicBezTo>
                  <a:pt x="23428" y="13453"/>
                  <a:pt x="23398" y="13534"/>
                  <a:pt x="23391" y="13618"/>
                </a:cubicBezTo>
                <a:cubicBezTo>
                  <a:pt x="23384" y="13697"/>
                  <a:pt x="23366" y="13757"/>
                  <a:pt x="23366" y="13841"/>
                </a:cubicBezTo>
                <a:cubicBezTo>
                  <a:pt x="23366" y="13886"/>
                  <a:pt x="23368" y="13877"/>
                  <a:pt x="23391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Ink 10"/>
          <p:cNvSpPr/>
          <p:nvPr/>
        </p:nvSpPr>
        <p:spPr>
          <a:xfrm>
            <a:off x="687240" y="4214880"/>
            <a:ext cx="804960" cy="438120"/>
          </a:xfrm>
          <a:custGeom>
            <a:avLst/>
            <a:gdLst/>
            <a:ahLst/>
            <a:rect l="l" t="t" r="r" b="b"/>
            <a:pathLst>
              <a:path w="2233" h="1216">
                <a:moveTo>
                  <a:pt x="1960" y="11807"/>
                </a:moveTo>
                <a:cubicBezTo>
                  <a:pt x="1960" y="11857"/>
                  <a:pt x="1960" y="11873"/>
                  <a:pt x="1960" y="11906"/>
                </a:cubicBezTo>
                <a:cubicBezTo>
                  <a:pt x="1903" y="11935"/>
                  <a:pt x="1958" y="11840"/>
                  <a:pt x="1984" y="11807"/>
                </a:cubicBezTo>
                <a:cubicBezTo>
                  <a:pt x="2012" y="11771"/>
                  <a:pt x="2062" y="11719"/>
                  <a:pt x="2108" y="11708"/>
                </a:cubicBezTo>
                <a:cubicBezTo>
                  <a:pt x="2195" y="11688"/>
                  <a:pt x="2225" y="11726"/>
                  <a:pt x="2282" y="11782"/>
                </a:cubicBezTo>
                <a:cubicBezTo>
                  <a:pt x="2329" y="11829"/>
                  <a:pt x="2348" y="11961"/>
                  <a:pt x="2356" y="12030"/>
                </a:cubicBezTo>
                <a:cubicBezTo>
                  <a:pt x="2366" y="12123"/>
                  <a:pt x="2359" y="12215"/>
                  <a:pt x="2332" y="12303"/>
                </a:cubicBezTo>
                <a:cubicBezTo>
                  <a:pt x="2302" y="12402"/>
                  <a:pt x="2298" y="12481"/>
                  <a:pt x="2208" y="12551"/>
                </a:cubicBezTo>
                <a:cubicBezTo>
                  <a:pt x="2176" y="12576"/>
                  <a:pt x="2123" y="12664"/>
                  <a:pt x="2084" y="12675"/>
                </a:cubicBezTo>
                <a:cubicBezTo>
                  <a:pt x="2016" y="12694"/>
                  <a:pt x="1931" y="12674"/>
                  <a:pt x="1910" y="12601"/>
                </a:cubicBezTo>
                <a:cubicBezTo>
                  <a:pt x="1892" y="12540"/>
                  <a:pt x="1911" y="12456"/>
                  <a:pt x="1935" y="12402"/>
                </a:cubicBezTo>
                <a:cubicBezTo>
                  <a:pt x="1954" y="12359"/>
                  <a:pt x="2005" y="12254"/>
                  <a:pt x="2059" y="12254"/>
                </a:cubicBezTo>
                <a:cubicBezTo>
                  <a:pt x="2123" y="12254"/>
                  <a:pt x="2154" y="12340"/>
                  <a:pt x="2183" y="12378"/>
                </a:cubicBezTo>
                <a:cubicBezTo>
                  <a:pt x="2224" y="12431"/>
                  <a:pt x="2256" y="12510"/>
                  <a:pt x="2282" y="12576"/>
                </a:cubicBezTo>
                <a:cubicBezTo>
                  <a:pt x="2310" y="12647"/>
                  <a:pt x="2329" y="12717"/>
                  <a:pt x="2381" y="12774"/>
                </a:cubicBezTo>
                <a:cubicBezTo>
                  <a:pt x="2389" y="12782"/>
                  <a:pt x="2398" y="12791"/>
                  <a:pt x="2406" y="12799"/>
                </a:cubicBezTo>
              </a:path>
              <a:path w="2233" h="1216">
                <a:moveTo>
                  <a:pt x="2629" y="12303"/>
                </a:moveTo>
                <a:cubicBezTo>
                  <a:pt x="2660" y="12396"/>
                  <a:pt x="2697" y="12484"/>
                  <a:pt x="2729" y="12576"/>
                </a:cubicBezTo>
                <a:cubicBezTo>
                  <a:pt x="2760" y="12668"/>
                  <a:pt x="2838" y="12771"/>
                  <a:pt x="2902" y="12849"/>
                </a:cubicBezTo>
                <a:cubicBezTo>
                  <a:pt x="2948" y="12895"/>
                  <a:pt x="2961" y="12909"/>
                  <a:pt x="3001" y="12923"/>
                </a:cubicBezTo>
              </a:path>
              <a:path w="2233" h="1216">
                <a:moveTo>
                  <a:pt x="2853" y="12105"/>
                </a:moveTo>
                <a:cubicBezTo>
                  <a:pt x="2801" y="12186"/>
                  <a:pt x="2763" y="12263"/>
                  <a:pt x="2729" y="12353"/>
                </a:cubicBezTo>
                <a:cubicBezTo>
                  <a:pt x="2691" y="12454"/>
                  <a:pt x="2641" y="12529"/>
                  <a:pt x="2604" y="12626"/>
                </a:cubicBezTo>
                <a:cubicBezTo>
                  <a:pt x="2595" y="12650"/>
                  <a:pt x="2526" y="12781"/>
                  <a:pt x="2530" y="12799"/>
                </a:cubicBezTo>
                <a:cubicBezTo>
                  <a:pt x="2538" y="12807"/>
                  <a:pt x="2547" y="12816"/>
                  <a:pt x="2555" y="12824"/>
                </a:cubicBezTo>
              </a:path>
              <a:path w="2233" h="1216">
                <a:moveTo>
                  <a:pt x="3051" y="12278"/>
                </a:moveTo>
                <a:cubicBezTo>
                  <a:pt x="3137" y="12263"/>
                  <a:pt x="3198" y="12258"/>
                  <a:pt x="3274" y="12229"/>
                </a:cubicBezTo>
              </a:path>
              <a:path w="2233" h="1216">
                <a:moveTo>
                  <a:pt x="3150" y="12477"/>
                </a:moveTo>
                <a:cubicBezTo>
                  <a:pt x="3249" y="12497"/>
                  <a:pt x="3265" y="12505"/>
                  <a:pt x="3324" y="12502"/>
                </a:cubicBezTo>
              </a:path>
              <a:path w="2233" h="1216">
                <a:moveTo>
                  <a:pt x="3696" y="11981"/>
                </a:moveTo>
                <a:cubicBezTo>
                  <a:pt x="3651" y="12071"/>
                  <a:pt x="3628" y="12139"/>
                  <a:pt x="3597" y="12229"/>
                </a:cubicBezTo>
                <a:cubicBezTo>
                  <a:pt x="3574" y="12294"/>
                  <a:pt x="3556" y="12381"/>
                  <a:pt x="3572" y="12452"/>
                </a:cubicBezTo>
                <a:cubicBezTo>
                  <a:pt x="3590" y="12534"/>
                  <a:pt x="3608" y="12600"/>
                  <a:pt x="3646" y="12675"/>
                </a:cubicBezTo>
                <a:cubicBezTo>
                  <a:pt x="3681" y="12744"/>
                  <a:pt x="3747" y="12762"/>
                  <a:pt x="3820" y="12774"/>
                </a:cubicBezTo>
                <a:cubicBezTo>
                  <a:pt x="3862" y="12781"/>
                  <a:pt x="3969" y="12758"/>
                  <a:pt x="3994" y="12725"/>
                </a:cubicBezTo>
                <a:cubicBezTo>
                  <a:pt x="4021" y="12690"/>
                  <a:pt x="4107" y="12561"/>
                  <a:pt x="4118" y="12526"/>
                </a:cubicBezTo>
                <a:cubicBezTo>
                  <a:pt x="4138" y="12460"/>
                  <a:pt x="4152" y="12349"/>
                  <a:pt x="4142" y="12278"/>
                </a:cubicBezTo>
                <a:cubicBezTo>
                  <a:pt x="4124" y="12143"/>
                  <a:pt x="4086" y="12096"/>
                  <a:pt x="4018" y="12005"/>
                </a:cubicBezTo>
                <a:cubicBezTo>
                  <a:pt x="3975" y="11948"/>
                  <a:pt x="3950" y="11899"/>
                  <a:pt x="3870" y="11881"/>
                </a:cubicBezTo>
                <a:cubicBezTo>
                  <a:pt x="3782" y="11861"/>
                  <a:pt x="3705" y="11897"/>
                  <a:pt x="3646" y="11956"/>
                </a:cubicBezTo>
                <a:cubicBezTo>
                  <a:pt x="3638" y="11964"/>
                  <a:pt x="3629" y="11973"/>
                  <a:pt x="3621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Ink 11"/>
          <p:cNvSpPr/>
          <p:nvPr/>
        </p:nvSpPr>
        <p:spPr>
          <a:xfrm>
            <a:off x="1660680" y="4429080"/>
            <a:ext cx="260280" cy="214200"/>
          </a:xfrm>
          <a:custGeom>
            <a:avLst/>
            <a:gdLst/>
            <a:ahLst/>
            <a:rect l="l" t="t" r="r" b="b"/>
            <a:pathLst>
              <a:path w="720" h="596">
                <a:moveTo>
                  <a:pt x="4713" y="12402"/>
                </a:moveTo>
                <a:cubicBezTo>
                  <a:pt x="4689" y="12455"/>
                  <a:pt x="4627" y="12527"/>
                  <a:pt x="4614" y="12576"/>
                </a:cubicBezTo>
                <a:cubicBezTo>
                  <a:pt x="4589" y="12666"/>
                  <a:pt x="4632" y="12723"/>
                  <a:pt x="4688" y="12774"/>
                </a:cubicBezTo>
                <a:cubicBezTo>
                  <a:pt x="4750" y="12831"/>
                  <a:pt x="4743" y="12841"/>
                  <a:pt x="4812" y="12874"/>
                </a:cubicBezTo>
                <a:cubicBezTo>
                  <a:pt x="4889" y="12911"/>
                  <a:pt x="4911" y="12860"/>
                  <a:pt x="4936" y="12799"/>
                </a:cubicBezTo>
                <a:cubicBezTo>
                  <a:pt x="4962" y="12736"/>
                  <a:pt x="4985" y="12621"/>
                  <a:pt x="4961" y="12551"/>
                </a:cubicBezTo>
                <a:cubicBezTo>
                  <a:pt x="4924" y="12444"/>
                  <a:pt x="4891" y="12412"/>
                  <a:pt x="4812" y="12353"/>
                </a:cubicBezTo>
                <a:cubicBezTo>
                  <a:pt x="4783" y="12331"/>
                  <a:pt x="4687" y="12237"/>
                  <a:pt x="4688" y="12353"/>
                </a:cubicBezTo>
                <a:cubicBezTo>
                  <a:pt x="4696" y="12353"/>
                  <a:pt x="4705" y="12353"/>
                  <a:pt x="4713" y="12353"/>
                </a:cubicBezTo>
              </a:path>
              <a:path w="720" h="596">
                <a:moveTo>
                  <a:pt x="5135" y="12700"/>
                </a:moveTo>
                <a:cubicBezTo>
                  <a:pt x="5135" y="12752"/>
                  <a:pt x="5136" y="12770"/>
                  <a:pt x="5159" y="12799"/>
                </a:cubicBezTo>
                <a:cubicBezTo>
                  <a:pt x="5159" y="12701"/>
                  <a:pt x="5129" y="12528"/>
                  <a:pt x="5184" y="12452"/>
                </a:cubicBezTo>
                <a:cubicBezTo>
                  <a:pt x="5220" y="12402"/>
                  <a:pt x="5280" y="12385"/>
                  <a:pt x="5333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Ink 12"/>
          <p:cNvSpPr/>
          <p:nvPr/>
        </p:nvSpPr>
        <p:spPr>
          <a:xfrm>
            <a:off x="2143080" y="4375080"/>
            <a:ext cx="1116000" cy="384120"/>
          </a:xfrm>
          <a:custGeom>
            <a:avLst/>
            <a:gdLst/>
            <a:ahLst/>
            <a:rect l="l" t="t" r="r" b="b"/>
            <a:pathLst>
              <a:path w="3102" h="1068">
                <a:moveTo>
                  <a:pt x="5953" y="12154"/>
                </a:moveTo>
                <a:cubicBezTo>
                  <a:pt x="6002" y="12216"/>
                  <a:pt x="6026" y="12278"/>
                  <a:pt x="6052" y="12353"/>
                </a:cubicBezTo>
                <a:cubicBezTo>
                  <a:pt x="6099" y="12489"/>
                  <a:pt x="6181" y="12603"/>
                  <a:pt x="6251" y="12725"/>
                </a:cubicBezTo>
                <a:cubicBezTo>
                  <a:pt x="6315" y="12836"/>
                  <a:pt x="6392" y="12934"/>
                  <a:pt x="6449" y="13047"/>
                </a:cubicBezTo>
              </a:path>
              <a:path w="3102" h="1068">
                <a:moveTo>
                  <a:pt x="6474" y="12179"/>
                </a:moveTo>
                <a:cubicBezTo>
                  <a:pt x="6391" y="12295"/>
                  <a:pt x="6319" y="12405"/>
                  <a:pt x="6251" y="12526"/>
                </a:cubicBezTo>
                <a:cubicBezTo>
                  <a:pt x="6194" y="12629"/>
                  <a:pt x="6119" y="12717"/>
                  <a:pt x="6077" y="12824"/>
                </a:cubicBezTo>
                <a:cubicBezTo>
                  <a:pt x="6049" y="12897"/>
                  <a:pt x="6016" y="12971"/>
                  <a:pt x="6003" y="13047"/>
                </a:cubicBezTo>
              </a:path>
              <a:path w="3102" h="1068">
                <a:moveTo>
                  <a:pt x="6474" y="12576"/>
                </a:moveTo>
                <a:cubicBezTo>
                  <a:pt x="6577" y="12571"/>
                  <a:pt x="6671" y="12559"/>
                  <a:pt x="6772" y="12551"/>
                </a:cubicBezTo>
              </a:path>
              <a:path w="3102" h="1068">
                <a:moveTo>
                  <a:pt x="6995" y="12328"/>
                </a:moveTo>
                <a:cubicBezTo>
                  <a:pt x="7100" y="12296"/>
                  <a:pt x="7149" y="12300"/>
                  <a:pt x="7243" y="12353"/>
                </a:cubicBezTo>
                <a:cubicBezTo>
                  <a:pt x="7341" y="12408"/>
                  <a:pt x="7374" y="12427"/>
                  <a:pt x="7317" y="12551"/>
                </a:cubicBezTo>
                <a:cubicBezTo>
                  <a:pt x="7298" y="12593"/>
                  <a:pt x="7202" y="12660"/>
                  <a:pt x="7169" y="12700"/>
                </a:cubicBezTo>
                <a:cubicBezTo>
                  <a:pt x="7110" y="12771"/>
                  <a:pt x="7043" y="12789"/>
                  <a:pt x="6995" y="12874"/>
                </a:cubicBezTo>
                <a:cubicBezTo>
                  <a:pt x="6961" y="12934"/>
                  <a:pt x="6946" y="13054"/>
                  <a:pt x="7020" y="13097"/>
                </a:cubicBezTo>
                <a:cubicBezTo>
                  <a:pt x="7093" y="13140"/>
                  <a:pt x="7261" y="13142"/>
                  <a:pt x="7342" y="13122"/>
                </a:cubicBezTo>
                <a:cubicBezTo>
                  <a:pt x="7386" y="13100"/>
                  <a:pt x="7398" y="13097"/>
                  <a:pt x="7417" y="13072"/>
                </a:cubicBezTo>
              </a:path>
              <a:path w="3102" h="1068">
                <a:moveTo>
                  <a:pt x="7764" y="12650"/>
                </a:moveTo>
                <a:cubicBezTo>
                  <a:pt x="7857" y="12650"/>
                  <a:pt x="7907" y="12632"/>
                  <a:pt x="7987" y="12626"/>
                </a:cubicBezTo>
                <a:cubicBezTo>
                  <a:pt x="7995" y="12626"/>
                  <a:pt x="8004" y="12626"/>
                  <a:pt x="8012" y="12626"/>
                </a:cubicBezTo>
              </a:path>
              <a:path w="3102" h="1068">
                <a:moveTo>
                  <a:pt x="7764" y="12774"/>
                </a:moveTo>
                <a:cubicBezTo>
                  <a:pt x="7822" y="12816"/>
                  <a:pt x="7859" y="12881"/>
                  <a:pt x="7938" y="12898"/>
                </a:cubicBezTo>
                <a:cubicBezTo>
                  <a:pt x="8012" y="12898"/>
                  <a:pt x="8053" y="12898"/>
                  <a:pt x="8111" y="12898"/>
                </a:cubicBezTo>
              </a:path>
              <a:path w="3102" h="1068">
                <a:moveTo>
                  <a:pt x="8483" y="12526"/>
                </a:moveTo>
                <a:cubicBezTo>
                  <a:pt x="8419" y="12565"/>
                  <a:pt x="8378" y="12550"/>
                  <a:pt x="8334" y="12626"/>
                </a:cubicBezTo>
                <a:cubicBezTo>
                  <a:pt x="8285" y="12709"/>
                  <a:pt x="8324" y="12763"/>
                  <a:pt x="8334" y="12849"/>
                </a:cubicBezTo>
                <a:cubicBezTo>
                  <a:pt x="8347" y="12963"/>
                  <a:pt x="8432" y="13052"/>
                  <a:pt x="8508" y="13146"/>
                </a:cubicBezTo>
                <a:cubicBezTo>
                  <a:pt x="8558" y="13208"/>
                  <a:pt x="8651" y="13243"/>
                  <a:pt x="8731" y="13221"/>
                </a:cubicBezTo>
                <a:cubicBezTo>
                  <a:pt x="8794" y="13203"/>
                  <a:pt x="8851" y="13154"/>
                  <a:pt x="8905" y="13122"/>
                </a:cubicBezTo>
                <a:cubicBezTo>
                  <a:pt x="8968" y="13084"/>
                  <a:pt x="9040" y="13002"/>
                  <a:pt x="9054" y="12923"/>
                </a:cubicBezTo>
                <a:cubicBezTo>
                  <a:pt x="9066" y="12853"/>
                  <a:pt x="9069" y="12714"/>
                  <a:pt x="9029" y="12650"/>
                </a:cubicBezTo>
                <a:cubicBezTo>
                  <a:pt x="8954" y="12530"/>
                  <a:pt x="8829" y="12457"/>
                  <a:pt x="8706" y="12402"/>
                </a:cubicBezTo>
                <a:cubicBezTo>
                  <a:pt x="8644" y="12371"/>
                  <a:pt x="8613" y="12363"/>
                  <a:pt x="8558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Ink 13"/>
          <p:cNvSpPr/>
          <p:nvPr/>
        </p:nvSpPr>
        <p:spPr>
          <a:xfrm>
            <a:off x="5133960" y="3902040"/>
            <a:ext cx="1822320" cy="741240"/>
          </a:xfrm>
          <a:custGeom>
            <a:avLst/>
            <a:gdLst/>
            <a:ahLst/>
            <a:rect l="l" t="t" r="r" b="b"/>
            <a:pathLst>
              <a:path w="5061" h="2059">
                <a:moveTo>
                  <a:pt x="14362" y="11485"/>
                </a:moveTo>
                <a:cubicBezTo>
                  <a:pt x="14409" y="11598"/>
                  <a:pt x="14473" y="11658"/>
                  <a:pt x="14536" y="11757"/>
                </a:cubicBezTo>
                <a:cubicBezTo>
                  <a:pt x="14610" y="11873"/>
                  <a:pt x="14642" y="12010"/>
                  <a:pt x="14709" y="12129"/>
                </a:cubicBezTo>
                <a:cubicBezTo>
                  <a:pt x="14765" y="12228"/>
                  <a:pt x="14805" y="12328"/>
                  <a:pt x="14858" y="12427"/>
                </a:cubicBezTo>
                <a:cubicBezTo>
                  <a:pt x="14901" y="12470"/>
                  <a:pt x="14932" y="12489"/>
                  <a:pt x="14982" y="12502"/>
                </a:cubicBezTo>
              </a:path>
              <a:path w="5061" h="2059">
                <a:moveTo>
                  <a:pt x="14858" y="11361"/>
                </a:moveTo>
                <a:cubicBezTo>
                  <a:pt x="14790" y="11467"/>
                  <a:pt x="14738" y="11569"/>
                  <a:pt x="14684" y="11683"/>
                </a:cubicBezTo>
                <a:cubicBezTo>
                  <a:pt x="14522" y="12025"/>
                  <a:pt x="14391" y="12387"/>
                  <a:pt x="14288" y="12750"/>
                </a:cubicBezTo>
                <a:cubicBezTo>
                  <a:pt x="14280" y="12775"/>
                  <a:pt x="14271" y="12799"/>
                  <a:pt x="14263" y="12824"/>
                </a:cubicBezTo>
              </a:path>
              <a:path w="5061" h="2059">
                <a:moveTo>
                  <a:pt x="15106" y="11708"/>
                </a:moveTo>
                <a:cubicBezTo>
                  <a:pt x="15114" y="11820"/>
                  <a:pt x="15131" y="11914"/>
                  <a:pt x="15131" y="12030"/>
                </a:cubicBezTo>
                <a:cubicBezTo>
                  <a:pt x="15131" y="12152"/>
                  <a:pt x="15144" y="12259"/>
                  <a:pt x="15156" y="12378"/>
                </a:cubicBezTo>
                <a:cubicBezTo>
                  <a:pt x="15164" y="12455"/>
                  <a:pt x="15168" y="12535"/>
                  <a:pt x="15180" y="12601"/>
                </a:cubicBezTo>
                <a:cubicBezTo>
                  <a:pt x="15180" y="12617"/>
                  <a:pt x="15180" y="12634"/>
                  <a:pt x="15180" y="12650"/>
                </a:cubicBezTo>
              </a:path>
              <a:path w="5061" h="2059">
                <a:moveTo>
                  <a:pt x="14908" y="12030"/>
                </a:moveTo>
                <a:cubicBezTo>
                  <a:pt x="15073" y="11989"/>
                  <a:pt x="15188" y="11962"/>
                  <a:pt x="15354" y="11956"/>
                </a:cubicBezTo>
                <a:cubicBezTo>
                  <a:pt x="15371" y="11956"/>
                  <a:pt x="15387" y="11956"/>
                  <a:pt x="15404" y="11956"/>
                </a:cubicBezTo>
              </a:path>
              <a:path w="5061" h="2059">
                <a:moveTo>
                  <a:pt x="15925" y="11336"/>
                </a:moveTo>
                <a:cubicBezTo>
                  <a:pt x="16002" y="11336"/>
                  <a:pt x="16055" y="11358"/>
                  <a:pt x="16123" y="11361"/>
                </a:cubicBezTo>
                <a:cubicBezTo>
                  <a:pt x="16201" y="11364"/>
                  <a:pt x="16283" y="11374"/>
                  <a:pt x="16346" y="11336"/>
                </a:cubicBezTo>
              </a:path>
              <a:path w="5061" h="2059">
                <a:moveTo>
                  <a:pt x="15850" y="11385"/>
                </a:moveTo>
                <a:cubicBezTo>
                  <a:pt x="15785" y="11515"/>
                  <a:pt x="15732" y="11595"/>
                  <a:pt x="15726" y="11733"/>
                </a:cubicBezTo>
                <a:cubicBezTo>
                  <a:pt x="15721" y="11852"/>
                  <a:pt x="15582" y="12080"/>
                  <a:pt x="15701" y="12080"/>
                </a:cubicBezTo>
                <a:cubicBezTo>
                  <a:pt x="15741" y="12080"/>
                  <a:pt x="15740" y="11930"/>
                  <a:pt x="15751" y="11906"/>
                </a:cubicBezTo>
                <a:cubicBezTo>
                  <a:pt x="15781" y="11842"/>
                  <a:pt x="15878" y="11774"/>
                  <a:pt x="15925" y="11733"/>
                </a:cubicBezTo>
                <a:cubicBezTo>
                  <a:pt x="15959" y="11704"/>
                  <a:pt x="16051" y="11690"/>
                  <a:pt x="16098" y="11708"/>
                </a:cubicBezTo>
                <a:cubicBezTo>
                  <a:pt x="16132" y="11721"/>
                  <a:pt x="16198" y="11826"/>
                  <a:pt x="16222" y="11857"/>
                </a:cubicBezTo>
                <a:cubicBezTo>
                  <a:pt x="16307" y="11969"/>
                  <a:pt x="16338" y="12088"/>
                  <a:pt x="16321" y="12229"/>
                </a:cubicBezTo>
                <a:cubicBezTo>
                  <a:pt x="16309" y="12328"/>
                  <a:pt x="16202" y="12445"/>
                  <a:pt x="16148" y="12526"/>
                </a:cubicBezTo>
                <a:cubicBezTo>
                  <a:pt x="16080" y="12628"/>
                  <a:pt x="16012" y="12712"/>
                  <a:pt x="15925" y="12799"/>
                </a:cubicBezTo>
                <a:cubicBezTo>
                  <a:pt x="15886" y="12838"/>
                  <a:pt x="15838" y="12871"/>
                  <a:pt x="15801" y="12898"/>
                </a:cubicBezTo>
              </a:path>
              <a:path w="5061" h="2059">
                <a:moveTo>
                  <a:pt x="16619" y="11658"/>
                </a:moveTo>
                <a:cubicBezTo>
                  <a:pt x="16708" y="11688"/>
                  <a:pt x="16802" y="11670"/>
                  <a:pt x="16892" y="11708"/>
                </a:cubicBezTo>
                <a:cubicBezTo>
                  <a:pt x="16948" y="11732"/>
                  <a:pt x="16999" y="11749"/>
                  <a:pt x="17066" y="11757"/>
                </a:cubicBezTo>
              </a:path>
              <a:path w="5061" h="2059">
                <a:moveTo>
                  <a:pt x="16842" y="12030"/>
                </a:moveTo>
                <a:cubicBezTo>
                  <a:pt x="16908" y="12021"/>
                  <a:pt x="16945" y="11985"/>
                  <a:pt x="17016" y="11981"/>
                </a:cubicBezTo>
                <a:cubicBezTo>
                  <a:pt x="17072" y="11978"/>
                  <a:pt x="17096" y="11979"/>
                  <a:pt x="17140" y="12005"/>
                </a:cubicBezTo>
                <a:cubicBezTo>
                  <a:pt x="17168" y="11978"/>
                  <a:pt x="17182" y="11970"/>
                  <a:pt x="17214" y="11981"/>
                </a:cubicBezTo>
              </a:path>
              <a:path w="5061" h="2059">
                <a:moveTo>
                  <a:pt x="18231" y="10914"/>
                </a:moveTo>
                <a:cubicBezTo>
                  <a:pt x="18231" y="10983"/>
                  <a:pt x="18235" y="11076"/>
                  <a:pt x="18207" y="11137"/>
                </a:cubicBezTo>
                <a:cubicBezTo>
                  <a:pt x="18179" y="11198"/>
                  <a:pt x="18175" y="11267"/>
                  <a:pt x="18157" y="11336"/>
                </a:cubicBezTo>
                <a:cubicBezTo>
                  <a:pt x="18136" y="11417"/>
                  <a:pt x="18132" y="11475"/>
                  <a:pt x="18132" y="11559"/>
                </a:cubicBezTo>
                <a:cubicBezTo>
                  <a:pt x="18132" y="11567"/>
                  <a:pt x="18132" y="11576"/>
                  <a:pt x="18132" y="11584"/>
                </a:cubicBezTo>
              </a:path>
              <a:path w="5061" h="2059">
                <a:moveTo>
                  <a:pt x="17810" y="11336"/>
                </a:moveTo>
                <a:cubicBezTo>
                  <a:pt x="17908" y="11336"/>
                  <a:pt x="17994" y="11323"/>
                  <a:pt x="18083" y="11311"/>
                </a:cubicBezTo>
                <a:cubicBezTo>
                  <a:pt x="18169" y="11300"/>
                  <a:pt x="18242" y="11286"/>
                  <a:pt x="18331" y="11286"/>
                </a:cubicBezTo>
                <a:cubicBezTo>
                  <a:pt x="18380" y="11286"/>
                  <a:pt x="18397" y="11286"/>
                  <a:pt x="18430" y="11286"/>
                </a:cubicBezTo>
              </a:path>
              <a:path w="5061" h="2059">
                <a:moveTo>
                  <a:pt x="17611" y="11981"/>
                </a:moveTo>
                <a:cubicBezTo>
                  <a:pt x="17676" y="12006"/>
                  <a:pt x="17757" y="11968"/>
                  <a:pt x="17835" y="11956"/>
                </a:cubicBezTo>
                <a:cubicBezTo>
                  <a:pt x="17941" y="11940"/>
                  <a:pt x="18094" y="11940"/>
                  <a:pt x="18182" y="11981"/>
                </a:cubicBezTo>
                <a:cubicBezTo>
                  <a:pt x="18246" y="12011"/>
                  <a:pt x="18253" y="12056"/>
                  <a:pt x="18306" y="12030"/>
                </a:cubicBezTo>
              </a:path>
              <a:path w="5061" h="2059">
                <a:moveTo>
                  <a:pt x="19174" y="10840"/>
                </a:moveTo>
                <a:cubicBezTo>
                  <a:pt x="19103" y="10957"/>
                  <a:pt x="19033" y="11065"/>
                  <a:pt x="18976" y="11187"/>
                </a:cubicBezTo>
                <a:cubicBezTo>
                  <a:pt x="18919" y="11308"/>
                  <a:pt x="18863" y="11403"/>
                  <a:pt x="18827" y="11534"/>
                </a:cubicBezTo>
                <a:cubicBezTo>
                  <a:pt x="18791" y="11665"/>
                  <a:pt x="18802" y="11795"/>
                  <a:pt x="18802" y="11931"/>
                </a:cubicBezTo>
                <a:cubicBezTo>
                  <a:pt x="18802" y="12016"/>
                  <a:pt x="18824" y="12064"/>
                  <a:pt x="18876" y="12129"/>
                </a:cubicBezTo>
                <a:cubicBezTo>
                  <a:pt x="18931" y="12197"/>
                  <a:pt x="19013" y="12227"/>
                  <a:pt x="19100" y="12204"/>
                </a:cubicBezTo>
                <a:cubicBezTo>
                  <a:pt x="19158" y="12188"/>
                  <a:pt x="19208" y="12120"/>
                  <a:pt x="19248" y="12080"/>
                </a:cubicBezTo>
                <a:cubicBezTo>
                  <a:pt x="19290" y="12038"/>
                  <a:pt x="19376" y="11983"/>
                  <a:pt x="19323" y="11906"/>
                </a:cubicBezTo>
                <a:cubicBezTo>
                  <a:pt x="19302" y="11875"/>
                  <a:pt x="19233" y="11862"/>
                  <a:pt x="19199" y="11857"/>
                </a:cubicBezTo>
                <a:cubicBezTo>
                  <a:pt x="19078" y="11837"/>
                  <a:pt x="19055" y="11888"/>
                  <a:pt x="18976" y="11956"/>
                </a:cubicBezTo>
                <a:cubicBezTo>
                  <a:pt x="18855" y="12060"/>
                  <a:pt x="18708" y="12185"/>
                  <a:pt x="18628" y="12328"/>
                </a:cubicBezTo>
                <a:cubicBezTo>
                  <a:pt x="18578" y="12418"/>
                  <a:pt x="18541" y="12529"/>
                  <a:pt x="18504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Ink 14"/>
          <p:cNvSpPr/>
          <p:nvPr/>
        </p:nvSpPr>
        <p:spPr>
          <a:xfrm>
            <a:off x="5438880" y="5133960"/>
            <a:ext cx="276120" cy="376200"/>
          </a:xfrm>
          <a:custGeom>
            <a:avLst/>
            <a:gdLst/>
            <a:ahLst/>
            <a:rect l="l" t="t" r="r" b="b"/>
            <a:pathLst>
              <a:path w="770" h="1042">
                <a:moveTo>
                  <a:pt x="15156" y="14412"/>
                </a:moveTo>
                <a:cubicBezTo>
                  <a:pt x="15031" y="14350"/>
                  <a:pt x="15248" y="14409"/>
                  <a:pt x="15280" y="14412"/>
                </a:cubicBezTo>
              </a:path>
              <a:path w="770" h="1042">
                <a:moveTo>
                  <a:pt x="15776" y="14263"/>
                </a:moveTo>
                <a:cubicBezTo>
                  <a:pt x="15827" y="14263"/>
                  <a:pt x="15846" y="14264"/>
                  <a:pt x="15875" y="14288"/>
                </a:cubicBezTo>
              </a:path>
              <a:path w="770" h="1042">
                <a:moveTo>
                  <a:pt x="15677" y="14263"/>
                </a:moveTo>
                <a:cubicBezTo>
                  <a:pt x="15635" y="14300"/>
                  <a:pt x="15570" y="14353"/>
                  <a:pt x="15553" y="14412"/>
                </a:cubicBezTo>
                <a:cubicBezTo>
                  <a:pt x="15535" y="14475"/>
                  <a:pt x="15492" y="14545"/>
                  <a:pt x="15478" y="14610"/>
                </a:cubicBezTo>
                <a:cubicBezTo>
                  <a:pt x="15466" y="14663"/>
                  <a:pt x="15479" y="14695"/>
                  <a:pt x="15503" y="14734"/>
                </a:cubicBezTo>
                <a:cubicBezTo>
                  <a:pt x="15522" y="14701"/>
                  <a:pt x="15565" y="14598"/>
                  <a:pt x="15602" y="14585"/>
                </a:cubicBezTo>
                <a:cubicBezTo>
                  <a:pt x="15675" y="14559"/>
                  <a:pt x="15764" y="14591"/>
                  <a:pt x="15801" y="14660"/>
                </a:cubicBezTo>
                <a:cubicBezTo>
                  <a:pt x="15847" y="14746"/>
                  <a:pt x="15832" y="14870"/>
                  <a:pt x="15801" y="14957"/>
                </a:cubicBezTo>
                <a:cubicBezTo>
                  <a:pt x="15764" y="15060"/>
                  <a:pt x="15727" y="15156"/>
                  <a:pt x="15677" y="15255"/>
                </a:cubicBezTo>
                <a:cubicBezTo>
                  <a:pt x="15669" y="15271"/>
                  <a:pt x="15660" y="15288"/>
                  <a:pt x="15652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Ink 15"/>
          <p:cNvSpPr/>
          <p:nvPr/>
        </p:nvSpPr>
        <p:spPr>
          <a:xfrm>
            <a:off x="5938920" y="5099040"/>
            <a:ext cx="268200" cy="492120"/>
          </a:xfrm>
          <a:custGeom>
            <a:avLst/>
            <a:gdLst/>
            <a:ahLst/>
            <a:rect l="l" t="t" r="r" b="b"/>
            <a:pathLst>
              <a:path w="745" h="1366">
                <a:moveTo>
                  <a:pt x="16495" y="14486"/>
                </a:moveTo>
                <a:cubicBezTo>
                  <a:pt x="16553" y="14509"/>
                  <a:pt x="16620" y="14481"/>
                  <a:pt x="16694" y="14461"/>
                </a:cubicBezTo>
              </a:path>
              <a:path w="745" h="1366">
                <a:moveTo>
                  <a:pt x="17041" y="14238"/>
                </a:moveTo>
                <a:cubicBezTo>
                  <a:pt x="17113" y="14212"/>
                  <a:pt x="17170" y="14173"/>
                  <a:pt x="17239" y="14163"/>
                </a:cubicBezTo>
              </a:path>
              <a:path w="745" h="1366">
                <a:moveTo>
                  <a:pt x="16942" y="14337"/>
                </a:moveTo>
                <a:cubicBezTo>
                  <a:pt x="16921" y="14427"/>
                  <a:pt x="16882" y="14522"/>
                  <a:pt x="16867" y="14610"/>
                </a:cubicBezTo>
                <a:cubicBezTo>
                  <a:pt x="16855" y="14679"/>
                  <a:pt x="16842" y="14735"/>
                  <a:pt x="16842" y="14808"/>
                </a:cubicBezTo>
                <a:cubicBezTo>
                  <a:pt x="16909" y="14799"/>
                  <a:pt x="16918" y="14783"/>
                  <a:pt x="16966" y="14734"/>
                </a:cubicBezTo>
                <a:cubicBezTo>
                  <a:pt x="17018" y="14681"/>
                  <a:pt x="17027" y="14675"/>
                  <a:pt x="17090" y="14709"/>
                </a:cubicBezTo>
                <a:cubicBezTo>
                  <a:pt x="17144" y="14738"/>
                  <a:pt x="17201" y="14762"/>
                  <a:pt x="17190" y="14833"/>
                </a:cubicBezTo>
                <a:cubicBezTo>
                  <a:pt x="17168" y="14980"/>
                  <a:pt x="17105" y="15046"/>
                  <a:pt x="17016" y="15156"/>
                </a:cubicBezTo>
                <a:cubicBezTo>
                  <a:pt x="16935" y="15257"/>
                  <a:pt x="16864" y="15392"/>
                  <a:pt x="16768" y="15478"/>
                </a:cubicBezTo>
                <a:cubicBezTo>
                  <a:pt x="16724" y="15500"/>
                  <a:pt x="16713" y="15503"/>
                  <a:pt x="16694" y="155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Ink 16"/>
          <p:cNvSpPr/>
          <p:nvPr/>
        </p:nvSpPr>
        <p:spPr>
          <a:xfrm>
            <a:off x="7456320" y="5106960"/>
            <a:ext cx="9864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20712" y="14337"/>
                </a:moveTo>
                <a:cubicBezTo>
                  <a:pt x="20796" y="14253"/>
                  <a:pt x="20871" y="14233"/>
                  <a:pt x="20985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Ink 17"/>
          <p:cNvSpPr/>
          <p:nvPr/>
        </p:nvSpPr>
        <p:spPr>
          <a:xfrm>
            <a:off x="7705800" y="4938840"/>
            <a:ext cx="196920" cy="419040"/>
          </a:xfrm>
          <a:custGeom>
            <a:avLst/>
            <a:gdLst/>
            <a:ahLst/>
            <a:rect l="l" t="t" r="r" b="b"/>
            <a:pathLst>
              <a:path w="547" h="1167">
                <a:moveTo>
                  <a:pt x="21679" y="13841"/>
                </a:moveTo>
                <a:cubicBezTo>
                  <a:pt x="21742" y="13794"/>
                  <a:pt x="21789" y="13790"/>
                  <a:pt x="21853" y="13742"/>
                </a:cubicBezTo>
                <a:cubicBezTo>
                  <a:pt x="21861" y="13734"/>
                  <a:pt x="21870" y="13725"/>
                  <a:pt x="21878" y="13717"/>
                </a:cubicBezTo>
              </a:path>
              <a:path w="547" h="1167">
                <a:moveTo>
                  <a:pt x="21580" y="13841"/>
                </a:moveTo>
                <a:cubicBezTo>
                  <a:pt x="21510" y="13955"/>
                  <a:pt x="21462" y="14026"/>
                  <a:pt x="21431" y="14139"/>
                </a:cubicBezTo>
                <a:cubicBezTo>
                  <a:pt x="21411" y="14199"/>
                  <a:pt x="21392" y="14214"/>
                  <a:pt x="21431" y="14238"/>
                </a:cubicBezTo>
                <a:cubicBezTo>
                  <a:pt x="21524" y="14179"/>
                  <a:pt x="21599" y="14107"/>
                  <a:pt x="21704" y="14064"/>
                </a:cubicBezTo>
                <a:cubicBezTo>
                  <a:pt x="21759" y="14041"/>
                  <a:pt x="21867" y="14064"/>
                  <a:pt x="21927" y="14064"/>
                </a:cubicBezTo>
                <a:cubicBezTo>
                  <a:pt x="21959" y="14174"/>
                  <a:pt x="21892" y="14250"/>
                  <a:pt x="21853" y="14362"/>
                </a:cubicBezTo>
                <a:cubicBezTo>
                  <a:pt x="21797" y="14525"/>
                  <a:pt x="21670" y="14663"/>
                  <a:pt x="21630" y="14833"/>
                </a:cubicBezTo>
                <a:cubicBezTo>
                  <a:pt x="21630" y="14850"/>
                  <a:pt x="21630" y="14866"/>
                  <a:pt x="21630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Ink 18"/>
          <p:cNvSpPr/>
          <p:nvPr/>
        </p:nvSpPr>
        <p:spPr>
          <a:xfrm>
            <a:off x="8126280" y="5027760"/>
            <a:ext cx="98640" cy="172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22572" y="13965"/>
                </a:moveTo>
                <a:cubicBezTo>
                  <a:pt x="22690" y="14005"/>
                  <a:pt x="22727" y="14015"/>
                  <a:pt x="22845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Ink 19"/>
          <p:cNvSpPr/>
          <p:nvPr/>
        </p:nvSpPr>
        <p:spPr>
          <a:xfrm>
            <a:off x="8402760" y="4919760"/>
            <a:ext cx="161640" cy="447480"/>
          </a:xfrm>
          <a:custGeom>
            <a:avLst/>
            <a:gdLst/>
            <a:ahLst/>
            <a:rect l="l" t="t" r="r" b="b"/>
            <a:pathLst>
              <a:path w="448" h="1242">
                <a:moveTo>
                  <a:pt x="23564" y="13692"/>
                </a:moveTo>
                <a:cubicBezTo>
                  <a:pt x="23639" y="13692"/>
                  <a:pt x="23663" y="13692"/>
                  <a:pt x="23713" y="13692"/>
                </a:cubicBezTo>
              </a:path>
              <a:path w="448" h="1242">
                <a:moveTo>
                  <a:pt x="23515" y="13667"/>
                </a:moveTo>
                <a:cubicBezTo>
                  <a:pt x="23433" y="13761"/>
                  <a:pt x="23348" y="13836"/>
                  <a:pt x="23341" y="13965"/>
                </a:cubicBezTo>
                <a:cubicBezTo>
                  <a:pt x="23337" y="14038"/>
                  <a:pt x="23374" y="14060"/>
                  <a:pt x="23440" y="14064"/>
                </a:cubicBezTo>
                <a:cubicBezTo>
                  <a:pt x="23525" y="14069"/>
                  <a:pt x="23612" y="14046"/>
                  <a:pt x="23688" y="14089"/>
                </a:cubicBezTo>
                <a:cubicBezTo>
                  <a:pt x="23774" y="14138"/>
                  <a:pt x="23806" y="14190"/>
                  <a:pt x="23788" y="14288"/>
                </a:cubicBezTo>
                <a:cubicBezTo>
                  <a:pt x="23759" y="14451"/>
                  <a:pt x="23673" y="14501"/>
                  <a:pt x="23589" y="14635"/>
                </a:cubicBezTo>
                <a:cubicBezTo>
                  <a:pt x="23522" y="14742"/>
                  <a:pt x="23456" y="14817"/>
                  <a:pt x="23366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Ink 20"/>
          <p:cNvSpPr/>
          <p:nvPr/>
        </p:nvSpPr>
        <p:spPr>
          <a:xfrm>
            <a:off x="7804080" y="5518080"/>
            <a:ext cx="384120" cy="35712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21679" y="15602"/>
                </a:moveTo>
                <a:cubicBezTo>
                  <a:pt x="21703" y="15707"/>
                  <a:pt x="21771" y="15757"/>
                  <a:pt x="21828" y="15850"/>
                </a:cubicBezTo>
                <a:cubicBezTo>
                  <a:pt x="21882" y="15938"/>
                  <a:pt x="21887" y="16042"/>
                  <a:pt x="21952" y="16123"/>
                </a:cubicBezTo>
              </a:path>
              <a:path w="1068" h="993">
                <a:moveTo>
                  <a:pt x="22051" y="15329"/>
                </a:moveTo>
                <a:cubicBezTo>
                  <a:pt x="21972" y="15496"/>
                  <a:pt x="21902" y="15654"/>
                  <a:pt x="21828" y="15825"/>
                </a:cubicBezTo>
                <a:cubicBezTo>
                  <a:pt x="21754" y="15997"/>
                  <a:pt x="21693" y="16133"/>
                  <a:pt x="21679" y="16321"/>
                </a:cubicBezTo>
              </a:path>
              <a:path w="1068" h="993">
                <a:moveTo>
                  <a:pt x="22126" y="15701"/>
                </a:moveTo>
                <a:cubicBezTo>
                  <a:pt x="22187" y="15724"/>
                  <a:pt x="22237" y="15747"/>
                  <a:pt x="22299" y="15751"/>
                </a:cubicBezTo>
                <a:cubicBezTo>
                  <a:pt x="22368" y="15755"/>
                  <a:pt x="22406" y="15744"/>
                  <a:pt x="22473" y="15726"/>
                </a:cubicBezTo>
              </a:path>
              <a:path w="1068" h="993">
                <a:moveTo>
                  <a:pt x="22423" y="16024"/>
                </a:moveTo>
                <a:cubicBezTo>
                  <a:pt x="22497" y="15999"/>
                  <a:pt x="22575" y="15998"/>
                  <a:pt x="22647" y="15974"/>
                </a:cubicBezTo>
                <a:cubicBezTo>
                  <a:pt x="22695" y="15950"/>
                  <a:pt x="22709" y="15941"/>
                  <a:pt x="22746" y="159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Ink 21"/>
          <p:cNvSpPr/>
          <p:nvPr/>
        </p:nvSpPr>
        <p:spPr>
          <a:xfrm>
            <a:off x="8447040" y="5367240"/>
            <a:ext cx="250920" cy="500040"/>
          </a:xfrm>
          <a:custGeom>
            <a:avLst/>
            <a:gdLst/>
            <a:ahLst/>
            <a:rect l="l" t="t" r="r" b="b"/>
            <a:pathLst>
              <a:path w="696" h="1390">
                <a:moveTo>
                  <a:pt x="23465" y="15478"/>
                </a:moveTo>
                <a:cubicBezTo>
                  <a:pt x="23571" y="15546"/>
                  <a:pt x="23612" y="15553"/>
                  <a:pt x="23738" y="15553"/>
                </a:cubicBezTo>
              </a:path>
              <a:path w="696" h="1390">
                <a:moveTo>
                  <a:pt x="24036" y="15354"/>
                </a:moveTo>
                <a:cubicBezTo>
                  <a:pt x="24008" y="15521"/>
                  <a:pt x="23985" y="15684"/>
                  <a:pt x="23961" y="15850"/>
                </a:cubicBezTo>
                <a:cubicBezTo>
                  <a:pt x="23940" y="15995"/>
                  <a:pt x="23912" y="16124"/>
                  <a:pt x="23912" y="16272"/>
                </a:cubicBezTo>
                <a:cubicBezTo>
                  <a:pt x="23912" y="16280"/>
                  <a:pt x="23912" y="16289"/>
                  <a:pt x="23912" y="16297"/>
                </a:cubicBezTo>
              </a:path>
              <a:path w="696" h="1390">
                <a:moveTo>
                  <a:pt x="24160" y="14908"/>
                </a:moveTo>
                <a:cubicBezTo>
                  <a:pt x="24140" y="15109"/>
                  <a:pt x="24116" y="15285"/>
                  <a:pt x="24061" y="15478"/>
                </a:cubicBezTo>
                <a:cubicBezTo>
                  <a:pt x="23999" y="15698"/>
                  <a:pt x="23965" y="15893"/>
                  <a:pt x="23961" y="16123"/>
                </a:cubicBezTo>
                <a:cubicBezTo>
                  <a:pt x="23961" y="16164"/>
                  <a:pt x="23961" y="16206"/>
                  <a:pt x="23961" y="162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Ink 22"/>
          <p:cNvSpPr/>
          <p:nvPr/>
        </p:nvSpPr>
        <p:spPr>
          <a:xfrm>
            <a:off x="5616720" y="5643720"/>
            <a:ext cx="447480" cy="455400"/>
          </a:xfrm>
          <a:custGeom>
            <a:avLst/>
            <a:gdLst/>
            <a:ahLst/>
            <a:rect l="l" t="t" r="r" b="b"/>
            <a:pathLst>
              <a:path w="1241" h="1266">
                <a:moveTo>
                  <a:pt x="15701" y="15875"/>
                </a:moveTo>
                <a:cubicBezTo>
                  <a:pt x="15656" y="16102"/>
                  <a:pt x="15646" y="16126"/>
                  <a:pt x="15701" y="16321"/>
                </a:cubicBezTo>
              </a:path>
              <a:path w="1241" h="1266">
                <a:moveTo>
                  <a:pt x="15627" y="15925"/>
                </a:moveTo>
                <a:cubicBezTo>
                  <a:pt x="15615" y="16010"/>
                  <a:pt x="15601" y="16114"/>
                  <a:pt x="15652" y="16197"/>
                </a:cubicBezTo>
                <a:cubicBezTo>
                  <a:pt x="15707" y="16287"/>
                  <a:pt x="15741" y="16365"/>
                  <a:pt x="15776" y="16470"/>
                </a:cubicBezTo>
                <a:cubicBezTo>
                  <a:pt x="15802" y="16547"/>
                  <a:pt x="15808" y="16651"/>
                  <a:pt x="15850" y="16718"/>
                </a:cubicBezTo>
                <a:cubicBezTo>
                  <a:pt x="15858" y="16726"/>
                  <a:pt x="15867" y="16735"/>
                  <a:pt x="15875" y="16743"/>
                </a:cubicBezTo>
              </a:path>
              <a:path w="1241" h="1266">
                <a:moveTo>
                  <a:pt x="15825" y="15701"/>
                </a:moveTo>
                <a:cubicBezTo>
                  <a:pt x="15780" y="15829"/>
                  <a:pt x="15759" y="15965"/>
                  <a:pt x="15726" y="16098"/>
                </a:cubicBezTo>
                <a:cubicBezTo>
                  <a:pt x="15684" y="16269"/>
                  <a:pt x="15650" y="16424"/>
                  <a:pt x="15627" y="16594"/>
                </a:cubicBezTo>
                <a:cubicBezTo>
                  <a:pt x="15605" y="16726"/>
                  <a:pt x="15597" y="16758"/>
                  <a:pt x="15602" y="16842"/>
                </a:cubicBezTo>
              </a:path>
              <a:path w="1241" h="1266">
                <a:moveTo>
                  <a:pt x="15999" y="16173"/>
                </a:moveTo>
                <a:cubicBezTo>
                  <a:pt x="16062" y="16192"/>
                  <a:pt x="16142" y="16236"/>
                  <a:pt x="16197" y="16247"/>
                </a:cubicBezTo>
                <a:cubicBezTo>
                  <a:pt x="16242" y="16256"/>
                  <a:pt x="16300" y="16247"/>
                  <a:pt x="16346" y="16247"/>
                </a:cubicBezTo>
              </a:path>
              <a:path w="1241" h="1266">
                <a:moveTo>
                  <a:pt x="16272" y="16321"/>
                </a:moveTo>
                <a:cubicBezTo>
                  <a:pt x="16368" y="16232"/>
                  <a:pt x="16394" y="16193"/>
                  <a:pt x="16520" y="16173"/>
                </a:cubicBezTo>
              </a:path>
              <a:path w="1241" h="1266">
                <a:moveTo>
                  <a:pt x="16768" y="15677"/>
                </a:moveTo>
                <a:cubicBezTo>
                  <a:pt x="16768" y="15945"/>
                  <a:pt x="16734" y="16230"/>
                  <a:pt x="16743" y="16495"/>
                </a:cubicBezTo>
                <a:cubicBezTo>
                  <a:pt x="16748" y="16652"/>
                  <a:pt x="16794" y="16796"/>
                  <a:pt x="16842" y="169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EXAMPLES: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+ 2x – 15 = 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Ink 4"/>
          <p:cNvSpPr/>
          <p:nvPr/>
        </p:nvSpPr>
        <p:spPr>
          <a:xfrm>
            <a:off x="866880" y="2419200"/>
            <a:ext cx="4840200" cy="1179720"/>
          </a:xfrm>
          <a:custGeom>
            <a:avLst/>
            <a:gdLst/>
            <a:ahLst/>
            <a:rect l="l" t="t" r="r" b="b"/>
            <a:pathLst>
              <a:path w="13445" h="3275">
                <a:moveTo>
                  <a:pt x="3051" y="6747"/>
                </a:moveTo>
                <a:cubicBezTo>
                  <a:pt x="2931" y="6860"/>
                  <a:pt x="2822" y="6980"/>
                  <a:pt x="2729" y="7119"/>
                </a:cubicBezTo>
                <a:cubicBezTo>
                  <a:pt x="2648" y="7240"/>
                  <a:pt x="2578" y="7427"/>
                  <a:pt x="2530" y="7565"/>
                </a:cubicBezTo>
                <a:cubicBezTo>
                  <a:pt x="2452" y="7787"/>
                  <a:pt x="2397" y="8053"/>
                  <a:pt x="2406" y="8285"/>
                </a:cubicBezTo>
                <a:cubicBezTo>
                  <a:pt x="2413" y="8459"/>
                  <a:pt x="2487" y="8660"/>
                  <a:pt x="2580" y="8806"/>
                </a:cubicBezTo>
                <a:cubicBezTo>
                  <a:pt x="2654" y="8921"/>
                  <a:pt x="2731" y="9014"/>
                  <a:pt x="2828" y="9103"/>
                </a:cubicBezTo>
                <a:cubicBezTo>
                  <a:pt x="2887" y="9157"/>
                  <a:pt x="2945" y="9254"/>
                  <a:pt x="3026" y="9277"/>
                </a:cubicBezTo>
                <a:cubicBezTo>
                  <a:pt x="3043" y="9277"/>
                  <a:pt x="3059" y="9277"/>
                  <a:pt x="3076" y="9277"/>
                </a:cubicBezTo>
              </a:path>
              <a:path w="13445" h="3275">
                <a:moveTo>
                  <a:pt x="7119" y="6945"/>
                </a:moveTo>
                <a:cubicBezTo>
                  <a:pt x="7209" y="7133"/>
                  <a:pt x="7318" y="7315"/>
                  <a:pt x="7367" y="7516"/>
                </a:cubicBezTo>
                <a:cubicBezTo>
                  <a:pt x="7411" y="7694"/>
                  <a:pt x="7459" y="7881"/>
                  <a:pt x="7466" y="8062"/>
                </a:cubicBezTo>
                <a:cubicBezTo>
                  <a:pt x="7475" y="8301"/>
                  <a:pt x="7445" y="8503"/>
                  <a:pt x="7367" y="8731"/>
                </a:cubicBezTo>
                <a:cubicBezTo>
                  <a:pt x="7311" y="8894"/>
                  <a:pt x="7189" y="8991"/>
                  <a:pt x="7069" y="9103"/>
                </a:cubicBezTo>
                <a:cubicBezTo>
                  <a:pt x="6977" y="9189"/>
                  <a:pt x="6885" y="9248"/>
                  <a:pt x="6796" y="9327"/>
                </a:cubicBezTo>
                <a:cubicBezTo>
                  <a:pt x="6682" y="9429"/>
                  <a:pt x="6647" y="9494"/>
                  <a:pt x="6648" y="9351"/>
                </a:cubicBezTo>
              </a:path>
              <a:path w="13445" h="3275">
                <a:moveTo>
                  <a:pt x="8161" y="7045"/>
                </a:moveTo>
                <a:cubicBezTo>
                  <a:pt x="8150" y="7055"/>
                  <a:pt x="8030" y="7175"/>
                  <a:pt x="7987" y="7243"/>
                </a:cubicBezTo>
                <a:cubicBezTo>
                  <a:pt x="7881" y="7410"/>
                  <a:pt x="7784" y="7587"/>
                  <a:pt x="7714" y="7764"/>
                </a:cubicBezTo>
                <a:cubicBezTo>
                  <a:pt x="7642" y="7948"/>
                  <a:pt x="7558" y="8081"/>
                  <a:pt x="7541" y="8285"/>
                </a:cubicBezTo>
                <a:cubicBezTo>
                  <a:pt x="7528" y="8449"/>
                  <a:pt x="7536" y="8620"/>
                  <a:pt x="7565" y="8781"/>
                </a:cubicBezTo>
                <a:cubicBezTo>
                  <a:pt x="7597" y="8956"/>
                  <a:pt x="7674" y="9162"/>
                  <a:pt x="7789" y="9302"/>
                </a:cubicBezTo>
                <a:cubicBezTo>
                  <a:pt x="7863" y="9392"/>
                  <a:pt x="7939" y="9488"/>
                  <a:pt x="8012" y="9575"/>
                </a:cubicBezTo>
                <a:cubicBezTo>
                  <a:pt x="8061" y="9634"/>
                  <a:pt x="8045" y="9608"/>
                  <a:pt x="8111" y="9599"/>
                </a:cubicBezTo>
              </a:path>
              <a:path w="13445" h="3275">
                <a:moveTo>
                  <a:pt x="12278" y="6722"/>
                </a:moveTo>
                <a:cubicBezTo>
                  <a:pt x="12514" y="6811"/>
                  <a:pt x="12523" y="6844"/>
                  <a:pt x="12650" y="7045"/>
                </a:cubicBezTo>
                <a:cubicBezTo>
                  <a:pt x="12778" y="7247"/>
                  <a:pt x="12815" y="7457"/>
                  <a:pt x="12874" y="7689"/>
                </a:cubicBezTo>
                <a:cubicBezTo>
                  <a:pt x="12929" y="7907"/>
                  <a:pt x="13008" y="8107"/>
                  <a:pt x="13022" y="8334"/>
                </a:cubicBezTo>
                <a:cubicBezTo>
                  <a:pt x="13035" y="8533"/>
                  <a:pt x="13026" y="8760"/>
                  <a:pt x="12973" y="8954"/>
                </a:cubicBezTo>
                <a:cubicBezTo>
                  <a:pt x="12920" y="9148"/>
                  <a:pt x="12810" y="9335"/>
                  <a:pt x="12700" y="9500"/>
                </a:cubicBezTo>
                <a:cubicBezTo>
                  <a:pt x="12633" y="9600"/>
                  <a:pt x="12522" y="9697"/>
                  <a:pt x="12427" y="9773"/>
                </a:cubicBezTo>
                <a:cubicBezTo>
                  <a:pt x="12359" y="9827"/>
                  <a:pt x="12285" y="9832"/>
                  <a:pt x="12229" y="9897"/>
                </a:cubicBezTo>
                <a:cubicBezTo>
                  <a:pt x="12217" y="9910"/>
                  <a:pt x="12143" y="10054"/>
                  <a:pt x="12179" y="9971"/>
                </a:cubicBezTo>
                <a:cubicBezTo>
                  <a:pt x="12187" y="9955"/>
                  <a:pt x="12196" y="9938"/>
                  <a:pt x="12204" y="9922"/>
                </a:cubicBezTo>
              </a:path>
              <a:path w="13445" h="3275">
                <a:moveTo>
                  <a:pt x="13370" y="8657"/>
                </a:moveTo>
                <a:cubicBezTo>
                  <a:pt x="13520" y="8628"/>
                  <a:pt x="13619" y="8608"/>
                  <a:pt x="13767" y="8632"/>
                </a:cubicBezTo>
                <a:cubicBezTo>
                  <a:pt x="13808" y="8640"/>
                  <a:pt x="13850" y="8649"/>
                  <a:pt x="13891" y="8657"/>
                </a:cubicBezTo>
              </a:path>
              <a:path w="13445" h="3275">
                <a:moveTo>
                  <a:pt x="13395" y="8905"/>
                </a:moveTo>
                <a:cubicBezTo>
                  <a:pt x="13537" y="8952"/>
                  <a:pt x="13664" y="8975"/>
                  <a:pt x="13816" y="8979"/>
                </a:cubicBezTo>
                <a:cubicBezTo>
                  <a:pt x="13849" y="8979"/>
                  <a:pt x="13882" y="8979"/>
                  <a:pt x="13915" y="8979"/>
                </a:cubicBezTo>
              </a:path>
              <a:path w="13445" h="3275">
                <a:moveTo>
                  <a:pt x="14908" y="8111"/>
                </a:moveTo>
                <a:cubicBezTo>
                  <a:pt x="14843" y="8200"/>
                  <a:pt x="14758" y="8284"/>
                  <a:pt x="14709" y="8384"/>
                </a:cubicBezTo>
                <a:cubicBezTo>
                  <a:pt x="14648" y="8509"/>
                  <a:pt x="14616" y="8671"/>
                  <a:pt x="14610" y="8806"/>
                </a:cubicBezTo>
                <a:cubicBezTo>
                  <a:pt x="14604" y="8934"/>
                  <a:pt x="14635" y="9084"/>
                  <a:pt x="14684" y="9203"/>
                </a:cubicBezTo>
                <a:cubicBezTo>
                  <a:pt x="14733" y="9322"/>
                  <a:pt x="14838" y="9463"/>
                  <a:pt x="14932" y="9550"/>
                </a:cubicBezTo>
                <a:cubicBezTo>
                  <a:pt x="15026" y="9637"/>
                  <a:pt x="15175" y="9710"/>
                  <a:pt x="15304" y="9723"/>
                </a:cubicBezTo>
                <a:cubicBezTo>
                  <a:pt x="15429" y="9736"/>
                  <a:pt x="15563" y="9727"/>
                  <a:pt x="15652" y="9624"/>
                </a:cubicBezTo>
                <a:cubicBezTo>
                  <a:pt x="15792" y="9462"/>
                  <a:pt x="15837" y="9309"/>
                  <a:pt x="15850" y="9103"/>
                </a:cubicBezTo>
                <a:cubicBezTo>
                  <a:pt x="15861" y="8917"/>
                  <a:pt x="15849" y="8754"/>
                  <a:pt x="15776" y="8582"/>
                </a:cubicBezTo>
                <a:cubicBezTo>
                  <a:pt x="15721" y="8454"/>
                  <a:pt x="15647" y="8292"/>
                  <a:pt x="15528" y="8210"/>
                </a:cubicBezTo>
                <a:cubicBezTo>
                  <a:pt x="15425" y="8140"/>
                  <a:pt x="15227" y="8070"/>
                  <a:pt x="15106" y="8086"/>
                </a:cubicBezTo>
                <a:cubicBezTo>
                  <a:pt x="14876" y="8116"/>
                  <a:pt x="14827" y="8207"/>
                  <a:pt x="14709" y="8384"/>
                </a:cubicBezTo>
              </a:path>
              <a:path w="13445" h="3275">
                <a:moveTo>
                  <a:pt x="2902" y="7764"/>
                </a:moveTo>
                <a:cubicBezTo>
                  <a:pt x="2937" y="7859"/>
                  <a:pt x="2974" y="7930"/>
                  <a:pt x="3026" y="8012"/>
                </a:cubicBezTo>
                <a:cubicBezTo>
                  <a:pt x="3105" y="8138"/>
                  <a:pt x="3179" y="8268"/>
                  <a:pt x="3274" y="8384"/>
                </a:cubicBezTo>
                <a:cubicBezTo>
                  <a:pt x="3353" y="8480"/>
                  <a:pt x="3453" y="8602"/>
                  <a:pt x="3547" y="8682"/>
                </a:cubicBezTo>
                <a:cubicBezTo>
                  <a:pt x="3626" y="8749"/>
                  <a:pt x="3685" y="8843"/>
                  <a:pt x="3770" y="8905"/>
                </a:cubicBezTo>
                <a:cubicBezTo>
                  <a:pt x="3823" y="8943"/>
                  <a:pt x="3828" y="8950"/>
                  <a:pt x="3870" y="8930"/>
                </a:cubicBezTo>
              </a:path>
              <a:path w="13445" h="3275">
                <a:moveTo>
                  <a:pt x="3621" y="7590"/>
                </a:moveTo>
                <a:cubicBezTo>
                  <a:pt x="3447" y="7829"/>
                  <a:pt x="3257" y="8064"/>
                  <a:pt x="3101" y="8310"/>
                </a:cubicBezTo>
                <a:cubicBezTo>
                  <a:pt x="3043" y="8401"/>
                  <a:pt x="2978" y="8486"/>
                  <a:pt x="2927" y="8582"/>
                </a:cubicBezTo>
                <a:cubicBezTo>
                  <a:pt x="2896" y="8642"/>
                  <a:pt x="2902" y="8690"/>
                  <a:pt x="2902" y="8756"/>
                </a:cubicBezTo>
              </a:path>
              <a:path w="13445" h="3275">
                <a:moveTo>
                  <a:pt x="7987" y="7913"/>
                </a:moveTo>
                <a:cubicBezTo>
                  <a:pt x="8041" y="7974"/>
                  <a:pt x="8085" y="8028"/>
                  <a:pt x="8136" y="8086"/>
                </a:cubicBezTo>
                <a:cubicBezTo>
                  <a:pt x="8260" y="8226"/>
                  <a:pt x="8399" y="8381"/>
                  <a:pt x="8533" y="8508"/>
                </a:cubicBezTo>
                <a:cubicBezTo>
                  <a:pt x="8639" y="8608"/>
                  <a:pt x="8759" y="8693"/>
                  <a:pt x="8855" y="8806"/>
                </a:cubicBezTo>
                <a:cubicBezTo>
                  <a:pt x="8933" y="8899"/>
                  <a:pt x="9017" y="8968"/>
                  <a:pt x="9103" y="9054"/>
                </a:cubicBezTo>
                <a:cubicBezTo>
                  <a:pt x="9123" y="9074"/>
                  <a:pt x="9237" y="9188"/>
                  <a:pt x="9277" y="9153"/>
                </a:cubicBezTo>
                <a:cubicBezTo>
                  <a:pt x="9277" y="9136"/>
                  <a:pt x="9277" y="9120"/>
                  <a:pt x="9277" y="9103"/>
                </a:cubicBezTo>
              </a:path>
              <a:path w="13445" h="3275">
                <a:moveTo>
                  <a:pt x="8756" y="8012"/>
                </a:moveTo>
                <a:cubicBezTo>
                  <a:pt x="8660" y="8115"/>
                  <a:pt x="8564" y="8218"/>
                  <a:pt x="8483" y="8334"/>
                </a:cubicBezTo>
                <a:cubicBezTo>
                  <a:pt x="8410" y="8439"/>
                  <a:pt x="8303" y="8528"/>
                  <a:pt x="8235" y="8632"/>
                </a:cubicBezTo>
                <a:cubicBezTo>
                  <a:pt x="8176" y="8723"/>
                  <a:pt x="8132" y="8807"/>
                  <a:pt x="8086" y="8905"/>
                </a:cubicBezTo>
                <a:cubicBezTo>
                  <a:pt x="8049" y="8985"/>
                  <a:pt x="7999" y="9011"/>
                  <a:pt x="7987" y="9103"/>
                </a:cubicBezTo>
              </a:path>
              <a:path w="13445" h="3275">
                <a:moveTo>
                  <a:pt x="5978" y="7615"/>
                </a:moveTo>
                <a:cubicBezTo>
                  <a:pt x="6025" y="7577"/>
                  <a:pt x="6073" y="7545"/>
                  <a:pt x="6127" y="7516"/>
                </a:cubicBezTo>
                <a:cubicBezTo>
                  <a:pt x="6201" y="7477"/>
                  <a:pt x="6267" y="7470"/>
                  <a:pt x="6350" y="7466"/>
                </a:cubicBezTo>
                <a:cubicBezTo>
                  <a:pt x="6409" y="7463"/>
                  <a:pt x="6459" y="7503"/>
                  <a:pt x="6474" y="7565"/>
                </a:cubicBezTo>
                <a:cubicBezTo>
                  <a:pt x="6497" y="7660"/>
                  <a:pt x="6486" y="7714"/>
                  <a:pt x="6449" y="7813"/>
                </a:cubicBezTo>
                <a:cubicBezTo>
                  <a:pt x="6409" y="7918"/>
                  <a:pt x="6332" y="7974"/>
                  <a:pt x="6251" y="8037"/>
                </a:cubicBezTo>
                <a:cubicBezTo>
                  <a:pt x="6190" y="8085"/>
                  <a:pt x="6125" y="8126"/>
                  <a:pt x="6052" y="8136"/>
                </a:cubicBezTo>
                <a:cubicBezTo>
                  <a:pt x="6148" y="8110"/>
                  <a:pt x="6190" y="8109"/>
                  <a:pt x="6276" y="8136"/>
                </a:cubicBezTo>
                <a:cubicBezTo>
                  <a:pt x="6403" y="8176"/>
                  <a:pt x="6411" y="8205"/>
                  <a:pt x="6474" y="8310"/>
                </a:cubicBezTo>
                <a:cubicBezTo>
                  <a:pt x="6535" y="8410"/>
                  <a:pt x="6580" y="8465"/>
                  <a:pt x="6548" y="8582"/>
                </a:cubicBezTo>
                <a:cubicBezTo>
                  <a:pt x="6516" y="8697"/>
                  <a:pt x="6472" y="8803"/>
                  <a:pt x="6375" y="8880"/>
                </a:cubicBezTo>
                <a:cubicBezTo>
                  <a:pt x="6340" y="8908"/>
                  <a:pt x="6219" y="8938"/>
                  <a:pt x="6176" y="8930"/>
                </a:cubicBezTo>
                <a:cubicBezTo>
                  <a:pt x="6090" y="8914"/>
                  <a:pt x="6067" y="8896"/>
                  <a:pt x="6003" y="8855"/>
                </a:cubicBezTo>
                <a:cubicBezTo>
                  <a:pt x="5934" y="8810"/>
                  <a:pt x="5915" y="8812"/>
                  <a:pt x="5904" y="8731"/>
                </a:cubicBezTo>
              </a:path>
              <a:path w="13445" h="3275">
                <a:moveTo>
                  <a:pt x="10889" y="7764"/>
                </a:moveTo>
                <a:cubicBezTo>
                  <a:pt x="10993" y="7722"/>
                  <a:pt x="11076" y="7693"/>
                  <a:pt x="11187" y="7689"/>
                </a:cubicBezTo>
                <a:cubicBezTo>
                  <a:pt x="11294" y="7685"/>
                  <a:pt x="11398" y="7714"/>
                  <a:pt x="11509" y="7714"/>
                </a:cubicBezTo>
                <a:cubicBezTo>
                  <a:pt x="11573" y="7714"/>
                  <a:pt x="11599" y="7711"/>
                  <a:pt x="11658" y="7689"/>
                </a:cubicBezTo>
              </a:path>
              <a:path w="13445" h="3275">
                <a:moveTo>
                  <a:pt x="11038" y="7962"/>
                </a:moveTo>
                <a:cubicBezTo>
                  <a:pt x="10997" y="8054"/>
                  <a:pt x="10926" y="8173"/>
                  <a:pt x="10964" y="8285"/>
                </a:cubicBezTo>
                <a:cubicBezTo>
                  <a:pt x="10972" y="8293"/>
                  <a:pt x="10980" y="8302"/>
                  <a:pt x="10988" y="8310"/>
                </a:cubicBezTo>
                <a:cubicBezTo>
                  <a:pt x="11041" y="8284"/>
                  <a:pt x="11106" y="8223"/>
                  <a:pt x="11162" y="8210"/>
                </a:cubicBezTo>
                <a:cubicBezTo>
                  <a:pt x="11237" y="8192"/>
                  <a:pt x="11286" y="8209"/>
                  <a:pt x="11336" y="8260"/>
                </a:cubicBezTo>
                <a:cubicBezTo>
                  <a:pt x="11427" y="8352"/>
                  <a:pt x="11487" y="8435"/>
                  <a:pt x="11534" y="8558"/>
                </a:cubicBezTo>
                <a:cubicBezTo>
                  <a:pt x="11573" y="8661"/>
                  <a:pt x="11605" y="8771"/>
                  <a:pt x="11609" y="8880"/>
                </a:cubicBezTo>
                <a:cubicBezTo>
                  <a:pt x="11613" y="8981"/>
                  <a:pt x="11572" y="9054"/>
                  <a:pt x="11509" y="9128"/>
                </a:cubicBezTo>
                <a:cubicBezTo>
                  <a:pt x="11451" y="9196"/>
                  <a:pt x="11345" y="9213"/>
                  <a:pt x="11261" y="9203"/>
                </a:cubicBezTo>
                <a:cubicBezTo>
                  <a:pt x="11185" y="9194"/>
                  <a:pt x="10992" y="9149"/>
                  <a:pt x="10939" y="9103"/>
                </a:cubicBezTo>
                <a:cubicBezTo>
                  <a:pt x="10899" y="9068"/>
                  <a:pt x="10835" y="9032"/>
                  <a:pt x="10840" y="8979"/>
                </a:cubicBezTo>
                <a:cubicBezTo>
                  <a:pt x="10848" y="8971"/>
                  <a:pt x="10856" y="8962"/>
                  <a:pt x="10864" y="8954"/>
                </a:cubicBezTo>
              </a:path>
              <a:path w="13445" h="3275">
                <a:moveTo>
                  <a:pt x="4242" y="8161"/>
                </a:moveTo>
                <a:cubicBezTo>
                  <a:pt x="4361" y="8161"/>
                  <a:pt x="4471" y="8145"/>
                  <a:pt x="4589" y="8136"/>
                </a:cubicBezTo>
                <a:cubicBezTo>
                  <a:pt x="4747" y="8124"/>
                  <a:pt x="4917" y="8154"/>
                  <a:pt x="5060" y="8111"/>
                </a:cubicBezTo>
                <a:cubicBezTo>
                  <a:pt x="5068" y="8111"/>
                  <a:pt x="5077" y="8111"/>
                  <a:pt x="5085" y="8111"/>
                </a:cubicBezTo>
              </a:path>
              <a:path w="13445" h="3275">
                <a:moveTo>
                  <a:pt x="9773" y="8062"/>
                </a:moveTo>
                <a:cubicBezTo>
                  <a:pt x="9750" y="8177"/>
                  <a:pt x="9708" y="8291"/>
                  <a:pt x="9723" y="8409"/>
                </a:cubicBezTo>
                <a:cubicBezTo>
                  <a:pt x="9737" y="8517"/>
                  <a:pt x="9770" y="8653"/>
                  <a:pt x="9798" y="8756"/>
                </a:cubicBezTo>
                <a:cubicBezTo>
                  <a:pt x="9812" y="8807"/>
                  <a:pt x="9838" y="8851"/>
                  <a:pt x="9847" y="8905"/>
                </a:cubicBezTo>
              </a:path>
              <a:path w="13445" h="3275">
                <a:moveTo>
                  <a:pt x="9451" y="8384"/>
                </a:moveTo>
                <a:cubicBezTo>
                  <a:pt x="9603" y="8384"/>
                  <a:pt x="9749" y="8400"/>
                  <a:pt x="9897" y="8409"/>
                </a:cubicBezTo>
                <a:cubicBezTo>
                  <a:pt x="10036" y="8417"/>
                  <a:pt x="10179" y="8409"/>
                  <a:pt x="10319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Ink 5"/>
          <p:cNvSpPr/>
          <p:nvPr/>
        </p:nvSpPr>
        <p:spPr>
          <a:xfrm>
            <a:off x="911160" y="3606840"/>
            <a:ext cx="3741840" cy="608040"/>
          </a:xfrm>
          <a:custGeom>
            <a:avLst/>
            <a:gdLst/>
            <a:ahLst/>
            <a:rect l="l" t="t" r="r" b="b"/>
            <a:pathLst>
              <a:path w="10394" h="1688">
                <a:moveTo>
                  <a:pt x="2530" y="10145"/>
                </a:moveTo>
                <a:cubicBezTo>
                  <a:pt x="2570" y="10224"/>
                  <a:pt x="2625" y="10313"/>
                  <a:pt x="2654" y="10393"/>
                </a:cubicBezTo>
                <a:cubicBezTo>
                  <a:pt x="2715" y="10562"/>
                  <a:pt x="2810" y="10638"/>
                  <a:pt x="2877" y="10790"/>
                </a:cubicBezTo>
                <a:cubicBezTo>
                  <a:pt x="2939" y="10932"/>
                  <a:pt x="3037" y="10997"/>
                  <a:pt x="3175" y="11063"/>
                </a:cubicBezTo>
                <a:cubicBezTo>
                  <a:pt x="3223" y="11087"/>
                  <a:pt x="3237" y="11095"/>
                  <a:pt x="3274" y="11088"/>
                </a:cubicBezTo>
              </a:path>
              <a:path w="10394" h="1688">
                <a:moveTo>
                  <a:pt x="2902" y="10021"/>
                </a:moveTo>
                <a:cubicBezTo>
                  <a:pt x="2850" y="10153"/>
                  <a:pt x="2790" y="10255"/>
                  <a:pt x="2753" y="10393"/>
                </a:cubicBezTo>
                <a:cubicBezTo>
                  <a:pt x="2721" y="10511"/>
                  <a:pt x="2698" y="10622"/>
                  <a:pt x="2679" y="10740"/>
                </a:cubicBezTo>
                <a:cubicBezTo>
                  <a:pt x="2664" y="10835"/>
                  <a:pt x="2606" y="10910"/>
                  <a:pt x="2654" y="10988"/>
                </a:cubicBezTo>
              </a:path>
              <a:path w="10394" h="1688">
                <a:moveTo>
                  <a:pt x="3101" y="10542"/>
                </a:moveTo>
                <a:cubicBezTo>
                  <a:pt x="3226" y="10564"/>
                  <a:pt x="3323" y="10587"/>
                  <a:pt x="3448" y="10592"/>
                </a:cubicBezTo>
                <a:cubicBezTo>
                  <a:pt x="3464" y="10592"/>
                  <a:pt x="3481" y="10592"/>
                  <a:pt x="3497" y="10592"/>
                </a:cubicBezTo>
              </a:path>
              <a:path w="10394" h="1688">
                <a:moveTo>
                  <a:pt x="3795" y="10170"/>
                </a:moveTo>
                <a:cubicBezTo>
                  <a:pt x="3852" y="10148"/>
                  <a:pt x="3930" y="10127"/>
                  <a:pt x="3994" y="10145"/>
                </a:cubicBezTo>
                <a:cubicBezTo>
                  <a:pt x="4081" y="10169"/>
                  <a:pt x="4143" y="10161"/>
                  <a:pt x="4192" y="10244"/>
                </a:cubicBezTo>
                <a:cubicBezTo>
                  <a:pt x="4230" y="10308"/>
                  <a:pt x="4258" y="10402"/>
                  <a:pt x="4217" y="10468"/>
                </a:cubicBezTo>
                <a:cubicBezTo>
                  <a:pt x="4158" y="10563"/>
                  <a:pt x="4108" y="10565"/>
                  <a:pt x="4018" y="10616"/>
                </a:cubicBezTo>
                <a:cubicBezTo>
                  <a:pt x="3963" y="10647"/>
                  <a:pt x="3909" y="10696"/>
                  <a:pt x="3845" y="10716"/>
                </a:cubicBezTo>
                <a:cubicBezTo>
                  <a:pt x="3837" y="10716"/>
                  <a:pt x="3828" y="10716"/>
                  <a:pt x="3820" y="10716"/>
                </a:cubicBezTo>
                <a:cubicBezTo>
                  <a:pt x="3927" y="10716"/>
                  <a:pt x="4043" y="10701"/>
                  <a:pt x="4142" y="10740"/>
                </a:cubicBezTo>
                <a:cubicBezTo>
                  <a:pt x="4230" y="10775"/>
                  <a:pt x="4276" y="10836"/>
                  <a:pt x="4341" y="10889"/>
                </a:cubicBezTo>
                <a:cubicBezTo>
                  <a:pt x="4385" y="10925"/>
                  <a:pt x="4431" y="11016"/>
                  <a:pt x="4415" y="11088"/>
                </a:cubicBezTo>
                <a:cubicBezTo>
                  <a:pt x="4397" y="11169"/>
                  <a:pt x="4329" y="11206"/>
                  <a:pt x="4266" y="11237"/>
                </a:cubicBezTo>
                <a:cubicBezTo>
                  <a:pt x="4207" y="11266"/>
                  <a:pt x="4049" y="11281"/>
                  <a:pt x="3994" y="11237"/>
                </a:cubicBezTo>
                <a:cubicBezTo>
                  <a:pt x="3971" y="11219"/>
                  <a:pt x="3895" y="11108"/>
                  <a:pt x="3894" y="11088"/>
                </a:cubicBezTo>
                <a:cubicBezTo>
                  <a:pt x="3902" y="11047"/>
                  <a:pt x="3911" y="11005"/>
                  <a:pt x="3919" y="10964"/>
                </a:cubicBezTo>
              </a:path>
              <a:path w="10394" h="1688">
                <a:moveTo>
                  <a:pt x="4713" y="10567"/>
                </a:moveTo>
                <a:cubicBezTo>
                  <a:pt x="4829" y="10582"/>
                  <a:pt x="4922" y="10592"/>
                  <a:pt x="5035" y="10592"/>
                </a:cubicBezTo>
              </a:path>
              <a:path w="10394" h="1688">
                <a:moveTo>
                  <a:pt x="4762" y="10815"/>
                </a:moveTo>
                <a:cubicBezTo>
                  <a:pt x="4936" y="10865"/>
                  <a:pt x="4994" y="10878"/>
                  <a:pt x="5159" y="10864"/>
                </a:cubicBezTo>
              </a:path>
              <a:path w="10394" h="1688">
                <a:moveTo>
                  <a:pt x="5655" y="10244"/>
                </a:moveTo>
                <a:cubicBezTo>
                  <a:pt x="5594" y="10341"/>
                  <a:pt x="5538" y="10437"/>
                  <a:pt x="5507" y="10542"/>
                </a:cubicBezTo>
                <a:cubicBezTo>
                  <a:pt x="5468" y="10674"/>
                  <a:pt x="5440" y="10784"/>
                  <a:pt x="5482" y="10914"/>
                </a:cubicBezTo>
                <a:cubicBezTo>
                  <a:pt x="5521" y="11036"/>
                  <a:pt x="5543" y="11092"/>
                  <a:pt x="5655" y="11162"/>
                </a:cubicBezTo>
                <a:cubicBezTo>
                  <a:pt x="5770" y="11233"/>
                  <a:pt x="5890" y="11288"/>
                  <a:pt x="6028" y="11261"/>
                </a:cubicBezTo>
                <a:cubicBezTo>
                  <a:pt x="6108" y="11246"/>
                  <a:pt x="6232" y="11184"/>
                  <a:pt x="6276" y="11112"/>
                </a:cubicBezTo>
                <a:cubicBezTo>
                  <a:pt x="6335" y="11014"/>
                  <a:pt x="6371" y="10902"/>
                  <a:pt x="6375" y="10790"/>
                </a:cubicBezTo>
                <a:cubicBezTo>
                  <a:pt x="6379" y="10662"/>
                  <a:pt x="6331" y="10555"/>
                  <a:pt x="6276" y="10443"/>
                </a:cubicBezTo>
                <a:cubicBezTo>
                  <a:pt x="6207" y="10301"/>
                  <a:pt x="6139" y="10213"/>
                  <a:pt x="6003" y="10145"/>
                </a:cubicBezTo>
                <a:cubicBezTo>
                  <a:pt x="5925" y="10106"/>
                  <a:pt x="5824" y="10042"/>
                  <a:pt x="5730" y="10071"/>
                </a:cubicBezTo>
                <a:cubicBezTo>
                  <a:pt x="5688" y="10084"/>
                  <a:pt x="5649" y="10163"/>
                  <a:pt x="5631" y="10195"/>
                </a:cubicBezTo>
              </a:path>
              <a:path w="10394" h="1688">
                <a:moveTo>
                  <a:pt x="7069" y="10616"/>
                </a:moveTo>
                <a:cubicBezTo>
                  <a:pt x="6990" y="10719"/>
                  <a:pt x="6970" y="10723"/>
                  <a:pt x="6970" y="10840"/>
                </a:cubicBezTo>
                <a:cubicBezTo>
                  <a:pt x="6970" y="10947"/>
                  <a:pt x="6980" y="11035"/>
                  <a:pt x="7045" y="11112"/>
                </a:cubicBezTo>
                <a:cubicBezTo>
                  <a:pt x="7124" y="11206"/>
                  <a:pt x="7213" y="11244"/>
                  <a:pt x="7293" y="11162"/>
                </a:cubicBezTo>
                <a:cubicBezTo>
                  <a:pt x="7353" y="11101"/>
                  <a:pt x="7342" y="11045"/>
                  <a:pt x="7342" y="10964"/>
                </a:cubicBezTo>
                <a:cubicBezTo>
                  <a:pt x="7342" y="10873"/>
                  <a:pt x="7333" y="10756"/>
                  <a:pt x="7317" y="10666"/>
                </a:cubicBezTo>
                <a:cubicBezTo>
                  <a:pt x="7301" y="10575"/>
                  <a:pt x="7278" y="10531"/>
                  <a:pt x="7317" y="10443"/>
                </a:cubicBezTo>
                <a:cubicBezTo>
                  <a:pt x="7325" y="10426"/>
                  <a:pt x="7334" y="10410"/>
                  <a:pt x="7342" y="10393"/>
                </a:cubicBezTo>
                <a:cubicBezTo>
                  <a:pt x="7429" y="10433"/>
                  <a:pt x="7500" y="10473"/>
                  <a:pt x="7541" y="10567"/>
                </a:cubicBezTo>
                <a:cubicBezTo>
                  <a:pt x="7586" y="10672"/>
                  <a:pt x="7640" y="10762"/>
                  <a:pt x="7689" y="10864"/>
                </a:cubicBezTo>
                <a:cubicBezTo>
                  <a:pt x="7733" y="10955"/>
                  <a:pt x="7752" y="11045"/>
                  <a:pt x="7838" y="11112"/>
                </a:cubicBezTo>
                <a:cubicBezTo>
                  <a:pt x="7874" y="11140"/>
                  <a:pt x="7923" y="11164"/>
                  <a:pt x="7962" y="11187"/>
                </a:cubicBezTo>
              </a:path>
              <a:path w="10394" h="1688">
                <a:moveTo>
                  <a:pt x="8558" y="10368"/>
                </a:moveTo>
                <a:cubicBezTo>
                  <a:pt x="8591" y="10471"/>
                  <a:pt x="8651" y="10542"/>
                  <a:pt x="8682" y="10641"/>
                </a:cubicBezTo>
                <a:cubicBezTo>
                  <a:pt x="8724" y="10774"/>
                  <a:pt x="8818" y="10874"/>
                  <a:pt x="8905" y="10988"/>
                </a:cubicBezTo>
                <a:cubicBezTo>
                  <a:pt x="9006" y="11120"/>
                  <a:pt x="9126" y="11253"/>
                  <a:pt x="9252" y="11361"/>
                </a:cubicBezTo>
                <a:cubicBezTo>
                  <a:pt x="9354" y="11437"/>
                  <a:pt x="9390" y="11463"/>
                  <a:pt x="9475" y="11485"/>
                </a:cubicBezTo>
              </a:path>
              <a:path w="10394" h="1688">
                <a:moveTo>
                  <a:pt x="9079" y="10294"/>
                </a:moveTo>
                <a:cubicBezTo>
                  <a:pt x="8995" y="10427"/>
                  <a:pt x="8911" y="10557"/>
                  <a:pt x="8830" y="10691"/>
                </a:cubicBezTo>
                <a:cubicBezTo>
                  <a:pt x="8756" y="10814"/>
                  <a:pt x="8668" y="10933"/>
                  <a:pt x="8607" y="11063"/>
                </a:cubicBezTo>
                <a:cubicBezTo>
                  <a:pt x="8582" y="11116"/>
                  <a:pt x="8498" y="11197"/>
                  <a:pt x="8508" y="11261"/>
                </a:cubicBezTo>
                <a:cubicBezTo>
                  <a:pt x="8533" y="11286"/>
                  <a:pt x="8541" y="11294"/>
                  <a:pt x="8558" y="11261"/>
                </a:cubicBezTo>
              </a:path>
              <a:path w="10394" h="1688">
                <a:moveTo>
                  <a:pt x="9525" y="10468"/>
                </a:moveTo>
                <a:cubicBezTo>
                  <a:pt x="9545" y="10593"/>
                  <a:pt x="9540" y="10720"/>
                  <a:pt x="9575" y="10840"/>
                </a:cubicBezTo>
                <a:cubicBezTo>
                  <a:pt x="9601" y="10929"/>
                  <a:pt x="9600" y="11025"/>
                  <a:pt x="9624" y="11112"/>
                </a:cubicBezTo>
                <a:cubicBezTo>
                  <a:pt x="9646" y="11156"/>
                  <a:pt x="9649" y="11168"/>
                  <a:pt x="9674" y="11187"/>
                </a:cubicBezTo>
              </a:path>
              <a:path w="10394" h="1688">
                <a:moveTo>
                  <a:pt x="9376" y="10864"/>
                </a:moveTo>
                <a:cubicBezTo>
                  <a:pt x="9446" y="10823"/>
                  <a:pt x="9541" y="10851"/>
                  <a:pt x="9624" y="10864"/>
                </a:cubicBezTo>
                <a:cubicBezTo>
                  <a:pt x="9763" y="10886"/>
                  <a:pt x="9859" y="10896"/>
                  <a:pt x="9996" y="10864"/>
                </a:cubicBezTo>
              </a:path>
              <a:path w="10394" h="1688">
                <a:moveTo>
                  <a:pt x="10244" y="10269"/>
                </a:moveTo>
                <a:cubicBezTo>
                  <a:pt x="10377" y="10244"/>
                  <a:pt x="10508" y="10211"/>
                  <a:pt x="10641" y="10195"/>
                </a:cubicBezTo>
                <a:cubicBezTo>
                  <a:pt x="10658" y="10195"/>
                  <a:pt x="10674" y="10195"/>
                  <a:pt x="10691" y="10195"/>
                </a:cubicBezTo>
              </a:path>
              <a:path w="10394" h="1688">
                <a:moveTo>
                  <a:pt x="10344" y="10220"/>
                </a:moveTo>
                <a:cubicBezTo>
                  <a:pt x="10234" y="10265"/>
                  <a:pt x="10130" y="10287"/>
                  <a:pt x="10096" y="10418"/>
                </a:cubicBezTo>
                <a:cubicBezTo>
                  <a:pt x="10079" y="10482"/>
                  <a:pt x="10134" y="10574"/>
                  <a:pt x="10195" y="10592"/>
                </a:cubicBezTo>
                <a:cubicBezTo>
                  <a:pt x="10314" y="10627"/>
                  <a:pt x="10457" y="10558"/>
                  <a:pt x="10567" y="10616"/>
                </a:cubicBezTo>
                <a:cubicBezTo>
                  <a:pt x="10652" y="10661"/>
                  <a:pt x="10709" y="10708"/>
                  <a:pt x="10765" y="10790"/>
                </a:cubicBezTo>
                <a:cubicBezTo>
                  <a:pt x="10828" y="10883"/>
                  <a:pt x="10830" y="11031"/>
                  <a:pt x="10815" y="11137"/>
                </a:cubicBezTo>
                <a:cubicBezTo>
                  <a:pt x="10796" y="11272"/>
                  <a:pt x="10671" y="11383"/>
                  <a:pt x="10542" y="11410"/>
                </a:cubicBezTo>
                <a:cubicBezTo>
                  <a:pt x="10473" y="11424"/>
                  <a:pt x="10398" y="11413"/>
                  <a:pt x="10344" y="11385"/>
                </a:cubicBezTo>
                <a:cubicBezTo>
                  <a:pt x="10258" y="11340"/>
                  <a:pt x="10254" y="11333"/>
                  <a:pt x="10244" y="11237"/>
                </a:cubicBezTo>
              </a:path>
              <a:path w="10394" h="1688">
                <a:moveTo>
                  <a:pt x="11112" y="10864"/>
                </a:moveTo>
                <a:cubicBezTo>
                  <a:pt x="11271" y="10885"/>
                  <a:pt x="11338" y="10876"/>
                  <a:pt x="11485" y="10864"/>
                </a:cubicBezTo>
              </a:path>
              <a:path w="10394" h="1688">
                <a:moveTo>
                  <a:pt x="11187" y="11038"/>
                </a:moveTo>
                <a:cubicBezTo>
                  <a:pt x="11337" y="11094"/>
                  <a:pt x="11374" y="11112"/>
                  <a:pt x="11534" y="11112"/>
                </a:cubicBezTo>
              </a:path>
              <a:path w="10394" h="1688">
                <a:moveTo>
                  <a:pt x="12179" y="10567"/>
                </a:moveTo>
                <a:cubicBezTo>
                  <a:pt x="12108" y="10630"/>
                  <a:pt x="12045" y="10711"/>
                  <a:pt x="12030" y="10815"/>
                </a:cubicBezTo>
                <a:cubicBezTo>
                  <a:pt x="12014" y="10928"/>
                  <a:pt x="12043" y="11030"/>
                  <a:pt x="12055" y="11137"/>
                </a:cubicBezTo>
                <a:cubicBezTo>
                  <a:pt x="12068" y="11257"/>
                  <a:pt x="12130" y="11362"/>
                  <a:pt x="12204" y="11460"/>
                </a:cubicBezTo>
                <a:cubicBezTo>
                  <a:pt x="12265" y="11540"/>
                  <a:pt x="12361" y="11618"/>
                  <a:pt x="12452" y="11658"/>
                </a:cubicBezTo>
                <a:cubicBezTo>
                  <a:pt x="12549" y="11701"/>
                  <a:pt x="12682" y="11741"/>
                  <a:pt x="12774" y="11658"/>
                </a:cubicBezTo>
                <a:cubicBezTo>
                  <a:pt x="12856" y="11584"/>
                  <a:pt x="12846" y="11480"/>
                  <a:pt x="12874" y="11385"/>
                </a:cubicBezTo>
                <a:cubicBezTo>
                  <a:pt x="12926" y="11208"/>
                  <a:pt x="12921" y="11113"/>
                  <a:pt x="12874" y="10939"/>
                </a:cubicBezTo>
                <a:cubicBezTo>
                  <a:pt x="12842" y="10821"/>
                  <a:pt x="12828" y="10696"/>
                  <a:pt x="12725" y="10616"/>
                </a:cubicBezTo>
                <a:cubicBezTo>
                  <a:pt x="12659" y="10565"/>
                  <a:pt x="12498" y="10452"/>
                  <a:pt x="12402" y="10468"/>
                </a:cubicBezTo>
                <a:cubicBezTo>
                  <a:pt x="12306" y="10484"/>
                  <a:pt x="12258" y="10549"/>
                  <a:pt x="12179" y="10592"/>
                </a:cubicBezTo>
                <a:cubicBezTo>
                  <a:pt x="12162" y="10600"/>
                  <a:pt x="12146" y="10608"/>
                  <a:pt x="12129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Ink 6"/>
          <p:cNvSpPr/>
          <p:nvPr/>
        </p:nvSpPr>
        <p:spPr>
          <a:xfrm>
            <a:off x="1224000" y="4179960"/>
            <a:ext cx="347760" cy="249120"/>
          </a:xfrm>
          <a:custGeom>
            <a:avLst/>
            <a:gdLst/>
            <a:ahLst/>
            <a:rect l="l" t="t" r="r" b="b"/>
            <a:pathLst>
              <a:path w="969" h="695">
                <a:moveTo>
                  <a:pt x="3621" y="11633"/>
                </a:moveTo>
                <a:cubicBezTo>
                  <a:pt x="3621" y="11802"/>
                  <a:pt x="3630" y="11961"/>
                  <a:pt x="3646" y="12129"/>
                </a:cubicBezTo>
                <a:cubicBezTo>
                  <a:pt x="3646" y="12146"/>
                  <a:pt x="3646" y="12162"/>
                  <a:pt x="3646" y="12179"/>
                </a:cubicBezTo>
              </a:path>
              <a:path w="969" h="695">
                <a:moveTo>
                  <a:pt x="3398" y="11757"/>
                </a:moveTo>
                <a:cubicBezTo>
                  <a:pt x="3461" y="11799"/>
                  <a:pt x="3544" y="11821"/>
                  <a:pt x="3621" y="11832"/>
                </a:cubicBezTo>
                <a:cubicBezTo>
                  <a:pt x="3696" y="11832"/>
                  <a:pt x="3738" y="11837"/>
                  <a:pt x="3795" y="11857"/>
                </a:cubicBezTo>
              </a:path>
              <a:path w="969" h="695">
                <a:moveTo>
                  <a:pt x="4018" y="11633"/>
                </a:moveTo>
                <a:cubicBezTo>
                  <a:pt x="4083" y="11602"/>
                  <a:pt x="4200" y="11603"/>
                  <a:pt x="4266" y="11658"/>
                </a:cubicBezTo>
                <a:cubicBezTo>
                  <a:pt x="4315" y="11699"/>
                  <a:pt x="4328" y="11761"/>
                  <a:pt x="4291" y="11807"/>
                </a:cubicBezTo>
                <a:cubicBezTo>
                  <a:pt x="4264" y="11840"/>
                  <a:pt x="4204" y="11882"/>
                  <a:pt x="4167" y="11906"/>
                </a:cubicBezTo>
                <a:cubicBezTo>
                  <a:pt x="4116" y="11939"/>
                  <a:pt x="4067" y="11931"/>
                  <a:pt x="4018" y="11956"/>
                </a:cubicBezTo>
                <a:cubicBezTo>
                  <a:pt x="4087" y="11965"/>
                  <a:pt x="4153" y="11977"/>
                  <a:pt x="4217" y="12005"/>
                </a:cubicBezTo>
                <a:cubicBezTo>
                  <a:pt x="4286" y="12036"/>
                  <a:pt x="4349" y="12103"/>
                  <a:pt x="4366" y="12179"/>
                </a:cubicBezTo>
                <a:cubicBezTo>
                  <a:pt x="4386" y="12267"/>
                  <a:pt x="4321" y="12316"/>
                  <a:pt x="4242" y="12303"/>
                </a:cubicBezTo>
                <a:cubicBezTo>
                  <a:pt x="4187" y="12294"/>
                  <a:pt x="4052" y="12248"/>
                  <a:pt x="4018" y="12204"/>
                </a:cubicBezTo>
                <a:cubicBezTo>
                  <a:pt x="3991" y="12148"/>
                  <a:pt x="3983" y="12126"/>
                  <a:pt x="3994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Ink 7"/>
          <p:cNvSpPr/>
          <p:nvPr/>
        </p:nvSpPr>
        <p:spPr>
          <a:xfrm>
            <a:off x="1919160" y="4187880"/>
            <a:ext cx="366840" cy="268200"/>
          </a:xfrm>
          <a:custGeom>
            <a:avLst/>
            <a:gdLst/>
            <a:ahLst/>
            <a:rect l="l" t="t" r="r" b="b"/>
            <a:pathLst>
              <a:path w="1018" h="746">
                <a:moveTo>
                  <a:pt x="5531" y="11658"/>
                </a:moveTo>
                <a:cubicBezTo>
                  <a:pt x="5513" y="11771"/>
                  <a:pt x="5507" y="11868"/>
                  <a:pt x="5507" y="11981"/>
                </a:cubicBezTo>
                <a:cubicBezTo>
                  <a:pt x="5507" y="12066"/>
                  <a:pt x="5523" y="12121"/>
                  <a:pt x="5581" y="12179"/>
                </a:cubicBezTo>
              </a:path>
              <a:path w="1018" h="746">
                <a:moveTo>
                  <a:pt x="5333" y="11857"/>
                </a:moveTo>
                <a:cubicBezTo>
                  <a:pt x="5407" y="11866"/>
                  <a:pt x="5484" y="11889"/>
                  <a:pt x="5556" y="11906"/>
                </a:cubicBezTo>
                <a:cubicBezTo>
                  <a:pt x="5629" y="11930"/>
                  <a:pt x="5653" y="11939"/>
                  <a:pt x="5705" y="11931"/>
                </a:cubicBezTo>
              </a:path>
              <a:path w="1018" h="746">
                <a:moveTo>
                  <a:pt x="6052" y="11633"/>
                </a:moveTo>
                <a:cubicBezTo>
                  <a:pt x="6129" y="11633"/>
                  <a:pt x="6185" y="11637"/>
                  <a:pt x="6251" y="11683"/>
                </a:cubicBezTo>
                <a:cubicBezTo>
                  <a:pt x="6296" y="11714"/>
                  <a:pt x="6333" y="11816"/>
                  <a:pt x="6276" y="11857"/>
                </a:cubicBezTo>
                <a:cubicBezTo>
                  <a:pt x="6218" y="11898"/>
                  <a:pt x="6133" y="11898"/>
                  <a:pt x="6077" y="11931"/>
                </a:cubicBezTo>
                <a:cubicBezTo>
                  <a:pt x="6129" y="11957"/>
                  <a:pt x="6216" y="11981"/>
                  <a:pt x="6251" y="12030"/>
                </a:cubicBezTo>
                <a:cubicBezTo>
                  <a:pt x="6292" y="12087"/>
                  <a:pt x="6363" y="12179"/>
                  <a:pt x="6350" y="12254"/>
                </a:cubicBezTo>
                <a:cubicBezTo>
                  <a:pt x="6324" y="12402"/>
                  <a:pt x="6197" y="12388"/>
                  <a:pt x="6077" y="12353"/>
                </a:cubicBezTo>
                <a:cubicBezTo>
                  <a:pt x="6012" y="12334"/>
                  <a:pt x="5944" y="12300"/>
                  <a:pt x="5879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Ink 8"/>
          <p:cNvSpPr/>
          <p:nvPr/>
        </p:nvSpPr>
        <p:spPr>
          <a:xfrm>
            <a:off x="1384200" y="4633920"/>
            <a:ext cx="615960" cy="403200"/>
          </a:xfrm>
          <a:custGeom>
            <a:avLst/>
            <a:gdLst/>
            <a:ahLst/>
            <a:rect l="l" t="t" r="r" b="b"/>
            <a:pathLst>
              <a:path w="1712" h="1117">
                <a:moveTo>
                  <a:pt x="3894" y="12898"/>
                </a:moveTo>
                <a:cubicBezTo>
                  <a:pt x="3875" y="12985"/>
                  <a:pt x="3897" y="13125"/>
                  <a:pt x="3944" y="13221"/>
                </a:cubicBezTo>
                <a:cubicBezTo>
                  <a:pt x="4019" y="13375"/>
                  <a:pt x="4125" y="13542"/>
                  <a:pt x="4242" y="13667"/>
                </a:cubicBezTo>
                <a:cubicBezTo>
                  <a:pt x="4324" y="13750"/>
                  <a:pt x="4340" y="13767"/>
                  <a:pt x="4390" y="13816"/>
                </a:cubicBezTo>
              </a:path>
              <a:path w="1712" h="1117">
                <a:moveTo>
                  <a:pt x="4341" y="12874"/>
                </a:moveTo>
                <a:cubicBezTo>
                  <a:pt x="4225" y="13004"/>
                  <a:pt x="4110" y="13149"/>
                  <a:pt x="4018" y="13295"/>
                </a:cubicBezTo>
                <a:cubicBezTo>
                  <a:pt x="3958" y="13390"/>
                  <a:pt x="3914" y="13490"/>
                  <a:pt x="3870" y="13593"/>
                </a:cubicBezTo>
                <a:cubicBezTo>
                  <a:pt x="3849" y="13643"/>
                  <a:pt x="3845" y="13663"/>
                  <a:pt x="3845" y="13717"/>
                </a:cubicBezTo>
              </a:path>
              <a:path w="1712" h="1117">
                <a:moveTo>
                  <a:pt x="4564" y="13097"/>
                </a:moveTo>
                <a:cubicBezTo>
                  <a:pt x="4622" y="13097"/>
                  <a:pt x="4680" y="13097"/>
                  <a:pt x="4738" y="13097"/>
                </a:cubicBezTo>
              </a:path>
              <a:path w="1712" h="1117">
                <a:moveTo>
                  <a:pt x="4440" y="13395"/>
                </a:moveTo>
                <a:cubicBezTo>
                  <a:pt x="4571" y="13447"/>
                  <a:pt x="4605" y="13434"/>
                  <a:pt x="4738" y="13419"/>
                </a:cubicBezTo>
              </a:path>
              <a:path w="1712" h="1117">
                <a:moveTo>
                  <a:pt x="5135" y="12973"/>
                </a:moveTo>
                <a:cubicBezTo>
                  <a:pt x="5263" y="12938"/>
                  <a:pt x="5285" y="12961"/>
                  <a:pt x="5407" y="13022"/>
                </a:cubicBezTo>
                <a:cubicBezTo>
                  <a:pt x="5473" y="13055"/>
                  <a:pt x="5513" y="13081"/>
                  <a:pt x="5482" y="13146"/>
                </a:cubicBezTo>
                <a:cubicBezTo>
                  <a:pt x="5442" y="13230"/>
                  <a:pt x="5363" y="13237"/>
                  <a:pt x="5283" y="13271"/>
                </a:cubicBezTo>
                <a:cubicBezTo>
                  <a:pt x="5230" y="13293"/>
                  <a:pt x="5188" y="13300"/>
                  <a:pt x="5135" y="13320"/>
                </a:cubicBezTo>
                <a:cubicBezTo>
                  <a:pt x="5198" y="13357"/>
                  <a:pt x="5301" y="13360"/>
                  <a:pt x="5358" y="13395"/>
                </a:cubicBezTo>
                <a:cubicBezTo>
                  <a:pt x="5447" y="13449"/>
                  <a:pt x="5468" y="13500"/>
                  <a:pt x="5507" y="13593"/>
                </a:cubicBezTo>
                <a:cubicBezTo>
                  <a:pt x="5552" y="13699"/>
                  <a:pt x="5548" y="13736"/>
                  <a:pt x="5531" y="13841"/>
                </a:cubicBezTo>
                <a:cubicBezTo>
                  <a:pt x="5512" y="13959"/>
                  <a:pt x="5481" y="13984"/>
                  <a:pt x="5358" y="13990"/>
                </a:cubicBezTo>
                <a:cubicBezTo>
                  <a:pt x="5275" y="13994"/>
                  <a:pt x="5166" y="14018"/>
                  <a:pt x="5110" y="13940"/>
                </a:cubicBezTo>
                <a:cubicBezTo>
                  <a:pt x="5087" y="13908"/>
                  <a:pt x="4990" y="13856"/>
                  <a:pt x="4986" y="13841"/>
                </a:cubicBezTo>
                <a:cubicBezTo>
                  <a:pt x="4986" y="13816"/>
                  <a:pt x="4986" y="13792"/>
                  <a:pt x="4986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Ink 9"/>
          <p:cNvSpPr/>
          <p:nvPr/>
        </p:nvSpPr>
        <p:spPr>
          <a:xfrm>
            <a:off x="3394080" y="4205160"/>
            <a:ext cx="411120" cy="277920"/>
          </a:xfrm>
          <a:custGeom>
            <a:avLst/>
            <a:gdLst/>
            <a:ahLst/>
            <a:rect l="l" t="t" r="r" b="b"/>
            <a:pathLst>
              <a:path w="1142" h="770">
                <a:moveTo>
                  <a:pt x="9426" y="11807"/>
                </a:moveTo>
                <a:cubicBezTo>
                  <a:pt x="9517" y="11776"/>
                  <a:pt x="9601" y="11782"/>
                  <a:pt x="9699" y="11782"/>
                </a:cubicBezTo>
                <a:cubicBezTo>
                  <a:pt x="9798" y="11782"/>
                  <a:pt x="9848" y="11782"/>
                  <a:pt x="9922" y="11782"/>
                </a:cubicBezTo>
              </a:path>
              <a:path w="1142" h="770">
                <a:moveTo>
                  <a:pt x="10344" y="11683"/>
                </a:moveTo>
                <a:cubicBezTo>
                  <a:pt x="10476" y="11702"/>
                  <a:pt x="10492" y="11710"/>
                  <a:pt x="10567" y="11708"/>
                </a:cubicBezTo>
              </a:path>
              <a:path w="1142" h="770">
                <a:moveTo>
                  <a:pt x="10220" y="11708"/>
                </a:moveTo>
                <a:cubicBezTo>
                  <a:pt x="10212" y="11727"/>
                  <a:pt x="10111" y="11907"/>
                  <a:pt x="10195" y="11931"/>
                </a:cubicBezTo>
                <a:cubicBezTo>
                  <a:pt x="10282" y="11955"/>
                  <a:pt x="10331" y="11938"/>
                  <a:pt x="10418" y="11981"/>
                </a:cubicBezTo>
                <a:cubicBezTo>
                  <a:pt x="10531" y="12036"/>
                  <a:pt x="10513" y="12077"/>
                  <a:pt x="10542" y="12179"/>
                </a:cubicBezTo>
                <a:cubicBezTo>
                  <a:pt x="10568" y="12269"/>
                  <a:pt x="10574" y="12325"/>
                  <a:pt x="10492" y="12402"/>
                </a:cubicBezTo>
                <a:cubicBezTo>
                  <a:pt x="10431" y="12460"/>
                  <a:pt x="10345" y="12452"/>
                  <a:pt x="10269" y="12452"/>
                </a:cubicBezTo>
                <a:cubicBezTo>
                  <a:pt x="10236" y="12452"/>
                  <a:pt x="10083" y="12445"/>
                  <a:pt x="10071" y="12402"/>
                </a:cubicBezTo>
                <a:cubicBezTo>
                  <a:pt x="10071" y="12329"/>
                  <a:pt x="10070" y="12306"/>
                  <a:pt x="10120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Ink 10"/>
          <p:cNvSpPr/>
          <p:nvPr/>
        </p:nvSpPr>
        <p:spPr>
          <a:xfrm>
            <a:off x="4214880" y="4259160"/>
            <a:ext cx="366480" cy="349200"/>
          </a:xfrm>
          <a:custGeom>
            <a:avLst/>
            <a:gdLst/>
            <a:ahLst/>
            <a:rect l="l" t="t" r="r" b="b"/>
            <a:pathLst>
              <a:path w="1018" h="968">
                <a:moveTo>
                  <a:pt x="11708" y="12055"/>
                </a:moveTo>
                <a:cubicBezTo>
                  <a:pt x="11865" y="12055"/>
                  <a:pt x="11906" y="12055"/>
                  <a:pt x="12005" y="12055"/>
                </a:cubicBezTo>
              </a:path>
              <a:path w="1018" h="968">
                <a:moveTo>
                  <a:pt x="12402" y="11832"/>
                </a:moveTo>
                <a:cubicBezTo>
                  <a:pt x="12513" y="11839"/>
                  <a:pt x="12612" y="11857"/>
                  <a:pt x="12725" y="11857"/>
                </a:cubicBezTo>
              </a:path>
              <a:path w="1018" h="968">
                <a:moveTo>
                  <a:pt x="12278" y="11956"/>
                </a:moveTo>
                <a:cubicBezTo>
                  <a:pt x="12290" y="12105"/>
                  <a:pt x="12278" y="12056"/>
                  <a:pt x="12378" y="12105"/>
                </a:cubicBezTo>
                <a:cubicBezTo>
                  <a:pt x="12442" y="12136"/>
                  <a:pt x="12509" y="12172"/>
                  <a:pt x="12576" y="12204"/>
                </a:cubicBezTo>
                <a:cubicBezTo>
                  <a:pt x="12675" y="12251"/>
                  <a:pt x="12650" y="12329"/>
                  <a:pt x="12650" y="12427"/>
                </a:cubicBezTo>
                <a:cubicBezTo>
                  <a:pt x="12650" y="12563"/>
                  <a:pt x="12643" y="12666"/>
                  <a:pt x="12526" y="12750"/>
                </a:cubicBezTo>
                <a:cubicBezTo>
                  <a:pt x="12454" y="12801"/>
                  <a:pt x="12377" y="12781"/>
                  <a:pt x="12303" y="12774"/>
                </a:cubicBezTo>
                <a:cubicBezTo>
                  <a:pt x="12238" y="12768"/>
                  <a:pt x="12192" y="12748"/>
                  <a:pt x="12129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Ink 11"/>
          <p:cNvSpPr/>
          <p:nvPr/>
        </p:nvSpPr>
        <p:spPr>
          <a:xfrm>
            <a:off x="3456000" y="4741920"/>
            <a:ext cx="795240" cy="446040"/>
          </a:xfrm>
          <a:custGeom>
            <a:avLst/>
            <a:gdLst/>
            <a:ahLst/>
            <a:rect l="l" t="t" r="r" b="b"/>
            <a:pathLst>
              <a:path w="2209" h="1242">
                <a:moveTo>
                  <a:pt x="9723" y="13444"/>
                </a:moveTo>
                <a:cubicBezTo>
                  <a:pt x="9793" y="13615"/>
                  <a:pt x="9861" y="13843"/>
                  <a:pt x="10021" y="13965"/>
                </a:cubicBezTo>
                <a:cubicBezTo>
                  <a:pt x="10054" y="13982"/>
                  <a:pt x="10087" y="13998"/>
                  <a:pt x="10120" y="14015"/>
                </a:cubicBezTo>
              </a:path>
              <a:path w="2209" h="1242">
                <a:moveTo>
                  <a:pt x="10220" y="13171"/>
                </a:moveTo>
                <a:cubicBezTo>
                  <a:pt x="10082" y="13275"/>
                  <a:pt x="9947" y="13400"/>
                  <a:pt x="9847" y="13543"/>
                </a:cubicBezTo>
                <a:cubicBezTo>
                  <a:pt x="9773" y="13648"/>
                  <a:pt x="9713" y="13779"/>
                  <a:pt x="9649" y="13891"/>
                </a:cubicBezTo>
                <a:cubicBezTo>
                  <a:pt x="9614" y="13953"/>
                  <a:pt x="9599" y="13994"/>
                  <a:pt x="9599" y="14064"/>
                </a:cubicBezTo>
              </a:path>
              <a:path w="2209" h="1242">
                <a:moveTo>
                  <a:pt x="10368" y="13494"/>
                </a:moveTo>
                <a:cubicBezTo>
                  <a:pt x="10512" y="13529"/>
                  <a:pt x="10538" y="13506"/>
                  <a:pt x="10592" y="13568"/>
                </a:cubicBezTo>
              </a:path>
              <a:path w="2209" h="1242">
                <a:moveTo>
                  <a:pt x="10319" y="13816"/>
                </a:moveTo>
                <a:cubicBezTo>
                  <a:pt x="10402" y="13844"/>
                  <a:pt x="10477" y="13841"/>
                  <a:pt x="10567" y="13841"/>
                </a:cubicBezTo>
              </a:path>
              <a:path w="2209" h="1242">
                <a:moveTo>
                  <a:pt x="10914" y="13667"/>
                </a:moveTo>
                <a:cubicBezTo>
                  <a:pt x="11056" y="13667"/>
                  <a:pt x="11109" y="13669"/>
                  <a:pt x="11237" y="13643"/>
                </a:cubicBezTo>
              </a:path>
              <a:path w="2209" h="1242">
                <a:moveTo>
                  <a:pt x="11509" y="13444"/>
                </a:moveTo>
                <a:cubicBezTo>
                  <a:pt x="11613" y="13470"/>
                  <a:pt x="11699" y="13469"/>
                  <a:pt x="11807" y="13469"/>
                </a:cubicBezTo>
              </a:path>
              <a:path w="2209" h="1242">
                <a:moveTo>
                  <a:pt x="11311" y="13469"/>
                </a:moveTo>
                <a:cubicBezTo>
                  <a:pt x="11294" y="13520"/>
                  <a:pt x="11270" y="13622"/>
                  <a:pt x="11311" y="13667"/>
                </a:cubicBezTo>
                <a:cubicBezTo>
                  <a:pt x="11345" y="13704"/>
                  <a:pt x="11459" y="13717"/>
                  <a:pt x="11509" y="13742"/>
                </a:cubicBezTo>
                <a:cubicBezTo>
                  <a:pt x="11579" y="13777"/>
                  <a:pt x="11644" y="13826"/>
                  <a:pt x="11683" y="13891"/>
                </a:cubicBezTo>
                <a:cubicBezTo>
                  <a:pt x="11756" y="14015"/>
                  <a:pt x="11737" y="14154"/>
                  <a:pt x="11708" y="14288"/>
                </a:cubicBezTo>
                <a:cubicBezTo>
                  <a:pt x="11691" y="14364"/>
                  <a:pt x="11646" y="14427"/>
                  <a:pt x="11559" y="14412"/>
                </a:cubicBezTo>
                <a:cubicBezTo>
                  <a:pt x="11449" y="14393"/>
                  <a:pt x="11381" y="14337"/>
                  <a:pt x="11311" y="14263"/>
                </a:cubicBezTo>
                <a:cubicBezTo>
                  <a:pt x="11265" y="14217"/>
                  <a:pt x="11253" y="14202"/>
                  <a:pt x="11212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Ink 12"/>
          <p:cNvSpPr/>
          <p:nvPr/>
        </p:nvSpPr>
        <p:spPr>
          <a:xfrm>
            <a:off x="1027080" y="64911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853" y="18033"/>
                </a:moveTo>
                <a:cubicBezTo>
                  <a:pt x="2853" y="18050"/>
                  <a:pt x="2853" y="18066"/>
                  <a:pt x="2853" y="180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15x + 54 = 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Ink 4"/>
          <p:cNvSpPr/>
          <p:nvPr/>
        </p:nvSpPr>
        <p:spPr>
          <a:xfrm>
            <a:off x="1108080" y="2463840"/>
            <a:ext cx="436680" cy="573120"/>
          </a:xfrm>
          <a:custGeom>
            <a:avLst/>
            <a:gdLst/>
            <a:ahLst/>
            <a:rect l="l" t="t" r="r" b="b"/>
            <a:pathLst>
              <a:path w="1216" h="1589">
                <a:moveTo>
                  <a:pt x="3423" y="6846"/>
                </a:moveTo>
                <a:cubicBezTo>
                  <a:pt x="3322" y="6984"/>
                  <a:pt x="3280" y="7092"/>
                  <a:pt x="3200" y="7243"/>
                </a:cubicBezTo>
                <a:cubicBezTo>
                  <a:pt x="3103" y="7426"/>
                  <a:pt x="3076" y="7588"/>
                  <a:pt x="3076" y="7789"/>
                </a:cubicBezTo>
                <a:cubicBezTo>
                  <a:pt x="3076" y="7920"/>
                  <a:pt x="3109" y="8024"/>
                  <a:pt x="3175" y="8136"/>
                </a:cubicBezTo>
                <a:cubicBezTo>
                  <a:pt x="3255" y="8272"/>
                  <a:pt x="3317" y="8343"/>
                  <a:pt x="3448" y="8434"/>
                </a:cubicBezTo>
              </a:path>
              <a:path w="1216" h="1589">
                <a:moveTo>
                  <a:pt x="3621" y="7541"/>
                </a:moveTo>
                <a:cubicBezTo>
                  <a:pt x="3694" y="7692"/>
                  <a:pt x="3765" y="7873"/>
                  <a:pt x="3894" y="7987"/>
                </a:cubicBezTo>
                <a:cubicBezTo>
                  <a:pt x="3978" y="8061"/>
                  <a:pt x="4056" y="8138"/>
                  <a:pt x="4142" y="8210"/>
                </a:cubicBezTo>
                <a:cubicBezTo>
                  <a:pt x="4199" y="8267"/>
                  <a:pt x="4225" y="8283"/>
                  <a:pt x="4291" y="8260"/>
                </a:cubicBezTo>
              </a:path>
              <a:path w="1216" h="1589">
                <a:moveTo>
                  <a:pt x="4192" y="7491"/>
                </a:moveTo>
                <a:cubicBezTo>
                  <a:pt x="4111" y="7617"/>
                  <a:pt x="4029" y="7733"/>
                  <a:pt x="3944" y="7863"/>
                </a:cubicBezTo>
                <a:cubicBezTo>
                  <a:pt x="3842" y="8019"/>
                  <a:pt x="3713" y="8163"/>
                  <a:pt x="3646" y="8334"/>
                </a:cubicBezTo>
                <a:cubicBezTo>
                  <a:pt x="3646" y="8342"/>
                  <a:pt x="3646" y="8351"/>
                  <a:pt x="3646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Ink 5"/>
          <p:cNvSpPr/>
          <p:nvPr/>
        </p:nvSpPr>
        <p:spPr>
          <a:xfrm>
            <a:off x="1820880" y="2527200"/>
            <a:ext cx="652320" cy="500040"/>
          </a:xfrm>
          <a:custGeom>
            <a:avLst/>
            <a:gdLst/>
            <a:ahLst/>
            <a:rect l="l" t="t" r="r" b="b"/>
            <a:pathLst>
              <a:path w="1812" h="1390">
                <a:moveTo>
                  <a:pt x="6821" y="7367"/>
                </a:moveTo>
                <a:cubicBezTo>
                  <a:pt x="6841" y="7314"/>
                  <a:pt x="6884" y="7227"/>
                  <a:pt x="6871" y="7169"/>
                </a:cubicBezTo>
                <a:cubicBezTo>
                  <a:pt x="6845" y="7054"/>
                  <a:pt x="6808" y="7024"/>
                  <a:pt x="6697" y="7020"/>
                </a:cubicBezTo>
                <a:cubicBezTo>
                  <a:pt x="6594" y="7016"/>
                  <a:pt x="6444" y="7050"/>
                  <a:pt x="6350" y="7094"/>
                </a:cubicBezTo>
                <a:cubicBezTo>
                  <a:pt x="6209" y="7160"/>
                  <a:pt x="6091" y="7291"/>
                  <a:pt x="6077" y="7441"/>
                </a:cubicBezTo>
                <a:cubicBezTo>
                  <a:pt x="6066" y="7557"/>
                  <a:pt x="6139" y="7596"/>
                  <a:pt x="6226" y="7640"/>
                </a:cubicBezTo>
                <a:cubicBezTo>
                  <a:pt x="6286" y="7670"/>
                  <a:pt x="6382" y="7683"/>
                  <a:pt x="6449" y="7665"/>
                </a:cubicBezTo>
                <a:cubicBezTo>
                  <a:pt x="6539" y="7641"/>
                  <a:pt x="6596" y="7580"/>
                  <a:pt x="6672" y="7541"/>
                </a:cubicBezTo>
                <a:cubicBezTo>
                  <a:pt x="6790" y="7480"/>
                  <a:pt x="6772" y="7472"/>
                  <a:pt x="6821" y="7367"/>
                </a:cubicBezTo>
                <a:cubicBezTo>
                  <a:pt x="6829" y="7359"/>
                  <a:pt x="6838" y="7350"/>
                  <a:pt x="6846" y="7342"/>
                </a:cubicBezTo>
                <a:cubicBezTo>
                  <a:pt x="6821" y="7441"/>
                  <a:pt x="6799" y="7538"/>
                  <a:pt x="6796" y="7640"/>
                </a:cubicBezTo>
                <a:cubicBezTo>
                  <a:pt x="6789" y="7852"/>
                  <a:pt x="6735" y="8194"/>
                  <a:pt x="6772" y="8384"/>
                </a:cubicBezTo>
                <a:cubicBezTo>
                  <a:pt x="6780" y="8392"/>
                  <a:pt x="6788" y="8401"/>
                  <a:pt x="6796" y="8409"/>
                </a:cubicBezTo>
              </a:path>
              <a:path w="1812" h="1390">
                <a:moveTo>
                  <a:pt x="5085" y="7714"/>
                </a:moveTo>
                <a:cubicBezTo>
                  <a:pt x="5077" y="7722"/>
                  <a:pt x="5068" y="7731"/>
                  <a:pt x="5060" y="7739"/>
                </a:cubicBezTo>
                <a:cubicBezTo>
                  <a:pt x="5133" y="7812"/>
                  <a:pt x="5218" y="7789"/>
                  <a:pt x="5333" y="7789"/>
                </a:cubicBezTo>
                <a:cubicBezTo>
                  <a:pt x="5523" y="7789"/>
                  <a:pt x="5714" y="7789"/>
                  <a:pt x="5904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Ink 6"/>
          <p:cNvSpPr/>
          <p:nvPr/>
        </p:nvSpPr>
        <p:spPr>
          <a:xfrm>
            <a:off x="2652840" y="2428920"/>
            <a:ext cx="1133280" cy="696960"/>
          </a:xfrm>
          <a:custGeom>
            <a:avLst/>
            <a:gdLst/>
            <a:ahLst/>
            <a:rect l="l" t="t" r="r" b="b"/>
            <a:pathLst>
              <a:path w="3151" h="1936">
                <a:moveTo>
                  <a:pt x="7739" y="6747"/>
                </a:moveTo>
                <a:cubicBezTo>
                  <a:pt x="7781" y="6825"/>
                  <a:pt x="7854" y="6911"/>
                  <a:pt x="7888" y="6995"/>
                </a:cubicBezTo>
                <a:cubicBezTo>
                  <a:pt x="7978" y="7215"/>
                  <a:pt x="7964" y="7460"/>
                  <a:pt x="7938" y="7689"/>
                </a:cubicBezTo>
                <a:cubicBezTo>
                  <a:pt x="7918" y="7868"/>
                  <a:pt x="7868" y="8003"/>
                  <a:pt x="7789" y="8161"/>
                </a:cubicBezTo>
                <a:cubicBezTo>
                  <a:pt x="7720" y="8299"/>
                  <a:pt x="7666" y="8416"/>
                  <a:pt x="7565" y="8533"/>
                </a:cubicBezTo>
                <a:cubicBezTo>
                  <a:pt x="7526" y="8578"/>
                  <a:pt x="7462" y="8654"/>
                  <a:pt x="7392" y="8632"/>
                </a:cubicBezTo>
                <a:cubicBezTo>
                  <a:pt x="7384" y="8624"/>
                  <a:pt x="7375" y="8615"/>
                  <a:pt x="7367" y="8607"/>
                </a:cubicBezTo>
              </a:path>
              <a:path w="3151" h="1936">
                <a:moveTo>
                  <a:pt x="8508" y="6821"/>
                </a:moveTo>
                <a:cubicBezTo>
                  <a:pt x="8498" y="6925"/>
                  <a:pt x="8468" y="7026"/>
                  <a:pt x="8409" y="7119"/>
                </a:cubicBezTo>
                <a:cubicBezTo>
                  <a:pt x="8306" y="7282"/>
                  <a:pt x="8297" y="7413"/>
                  <a:pt x="8235" y="7590"/>
                </a:cubicBezTo>
                <a:cubicBezTo>
                  <a:pt x="8178" y="7754"/>
                  <a:pt x="8164" y="7912"/>
                  <a:pt x="8210" y="8086"/>
                </a:cubicBezTo>
                <a:cubicBezTo>
                  <a:pt x="8260" y="8276"/>
                  <a:pt x="8324" y="8479"/>
                  <a:pt x="8483" y="8607"/>
                </a:cubicBezTo>
                <a:cubicBezTo>
                  <a:pt x="8524" y="8632"/>
                  <a:pt x="8566" y="8657"/>
                  <a:pt x="8607" y="8682"/>
                </a:cubicBezTo>
              </a:path>
              <a:path w="3151" h="1936">
                <a:moveTo>
                  <a:pt x="8781" y="7665"/>
                </a:moveTo>
                <a:cubicBezTo>
                  <a:pt x="8817" y="7723"/>
                  <a:pt x="8834" y="7815"/>
                  <a:pt x="8855" y="7888"/>
                </a:cubicBezTo>
                <a:cubicBezTo>
                  <a:pt x="8887" y="8001"/>
                  <a:pt x="8967" y="8103"/>
                  <a:pt x="9054" y="8186"/>
                </a:cubicBezTo>
                <a:cubicBezTo>
                  <a:pt x="9136" y="8264"/>
                  <a:pt x="9222" y="8329"/>
                  <a:pt x="9302" y="8409"/>
                </a:cubicBezTo>
              </a:path>
              <a:path w="3151" h="1936">
                <a:moveTo>
                  <a:pt x="9203" y="7689"/>
                </a:moveTo>
                <a:cubicBezTo>
                  <a:pt x="9065" y="7927"/>
                  <a:pt x="8941" y="8097"/>
                  <a:pt x="8781" y="8310"/>
                </a:cubicBezTo>
                <a:cubicBezTo>
                  <a:pt x="8695" y="8424"/>
                  <a:pt x="8660" y="8472"/>
                  <a:pt x="8607" y="8558"/>
                </a:cubicBezTo>
              </a:path>
              <a:path w="3151" h="1936">
                <a:moveTo>
                  <a:pt x="9649" y="7913"/>
                </a:moveTo>
                <a:cubicBezTo>
                  <a:pt x="9779" y="7879"/>
                  <a:pt x="9914" y="7849"/>
                  <a:pt x="10046" y="7838"/>
                </a:cubicBezTo>
                <a:cubicBezTo>
                  <a:pt x="10201" y="7826"/>
                  <a:pt x="10362" y="7838"/>
                  <a:pt x="10517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Ink 7"/>
          <p:cNvSpPr/>
          <p:nvPr/>
        </p:nvSpPr>
        <p:spPr>
          <a:xfrm>
            <a:off x="3990960" y="2347920"/>
            <a:ext cx="1482840" cy="930240"/>
          </a:xfrm>
          <a:custGeom>
            <a:avLst/>
            <a:gdLst/>
            <a:ahLst/>
            <a:rect l="l" t="t" r="r" b="b"/>
            <a:pathLst>
              <a:path w="4118" h="2580">
                <a:moveTo>
                  <a:pt x="12576" y="6524"/>
                </a:moveTo>
                <a:cubicBezTo>
                  <a:pt x="12708" y="6646"/>
                  <a:pt x="12762" y="6740"/>
                  <a:pt x="12799" y="6921"/>
                </a:cubicBezTo>
                <a:cubicBezTo>
                  <a:pt x="12851" y="7173"/>
                  <a:pt x="12904" y="7433"/>
                  <a:pt x="12923" y="7689"/>
                </a:cubicBezTo>
                <a:cubicBezTo>
                  <a:pt x="12937" y="7884"/>
                  <a:pt x="12944" y="8119"/>
                  <a:pt x="12898" y="8310"/>
                </a:cubicBezTo>
                <a:cubicBezTo>
                  <a:pt x="12861" y="8464"/>
                  <a:pt x="12832" y="8669"/>
                  <a:pt x="12750" y="8806"/>
                </a:cubicBezTo>
                <a:cubicBezTo>
                  <a:pt x="12675" y="8932"/>
                  <a:pt x="12609" y="8978"/>
                  <a:pt x="12502" y="9054"/>
                </a:cubicBezTo>
                <a:cubicBezTo>
                  <a:pt x="12485" y="9070"/>
                  <a:pt x="12469" y="9087"/>
                  <a:pt x="12452" y="9103"/>
                </a:cubicBezTo>
              </a:path>
              <a:path w="4118" h="2580">
                <a:moveTo>
                  <a:pt x="13196" y="8086"/>
                </a:moveTo>
                <a:cubicBezTo>
                  <a:pt x="13378" y="8066"/>
                  <a:pt x="13411" y="8058"/>
                  <a:pt x="13519" y="8062"/>
                </a:cubicBezTo>
              </a:path>
              <a:path w="4118" h="2580">
                <a:moveTo>
                  <a:pt x="13419" y="8409"/>
                </a:moveTo>
                <a:cubicBezTo>
                  <a:pt x="13552" y="8409"/>
                  <a:pt x="13602" y="8408"/>
                  <a:pt x="13692" y="8384"/>
                </a:cubicBezTo>
              </a:path>
              <a:path w="4118" h="2580">
                <a:moveTo>
                  <a:pt x="14337" y="7813"/>
                </a:moveTo>
                <a:cubicBezTo>
                  <a:pt x="14280" y="7968"/>
                  <a:pt x="14192" y="8120"/>
                  <a:pt x="14188" y="8285"/>
                </a:cubicBezTo>
                <a:cubicBezTo>
                  <a:pt x="14184" y="8434"/>
                  <a:pt x="14189" y="8526"/>
                  <a:pt x="14238" y="8657"/>
                </a:cubicBezTo>
                <a:cubicBezTo>
                  <a:pt x="14306" y="8840"/>
                  <a:pt x="14448" y="9088"/>
                  <a:pt x="14684" y="9079"/>
                </a:cubicBezTo>
                <a:cubicBezTo>
                  <a:pt x="14786" y="9075"/>
                  <a:pt x="14900" y="9037"/>
                  <a:pt x="14982" y="8979"/>
                </a:cubicBezTo>
                <a:cubicBezTo>
                  <a:pt x="15077" y="8912"/>
                  <a:pt x="15114" y="8779"/>
                  <a:pt x="15156" y="8682"/>
                </a:cubicBezTo>
                <a:cubicBezTo>
                  <a:pt x="15222" y="8532"/>
                  <a:pt x="15235" y="8373"/>
                  <a:pt x="15180" y="8210"/>
                </a:cubicBezTo>
                <a:cubicBezTo>
                  <a:pt x="15143" y="8102"/>
                  <a:pt x="15070" y="8009"/>
                  <a:pt x="14982" y="7938"/>
                </a:cubicBezTo>
                <a:cubicBezTo>
                  <a:pt x="14890" y="7863"/>
                  <a:pt x="14805" y="7806"/>
                  <a:pt x="14684" y="7789"/>
                </a:cubicBezTo>
                <a:cubicBezTo>
                  <a:pt x="14659" y="7789"/>
                  <a:pt x="14635" y="7789"/>
                  <a:pt x="14610" y="7789"/>
                </a:cubicBezTo>
              </a:path>
              <a:path w="4118" h="2580">
                <a:moveTo>
                  <a:pt x="11361" y="7367"/>
                </a:moveTo>
                <a:cubicBezTo>
                  <a:pt x="11353" y="7435"/>
                  <a:pt x="11320" y="7557"/>
                  <a:pt x="11286" y="7615"/>
                </a:cubicBezTo>
                <a:cubicBezTo>
                  <a:pt x="11217" y="7734"/>
                  <a:pt x="11165" y="7820"/>
                  <a:pt x="11137" y="7962"/>
                </a:cubicBezTo>
                <a:cubicBezTo>
                  <a:pt x="11110" y="8097"/>
                  <a:pt x="11083" y="8202"/>
                  <a:pt x="11112" y="8334"/>
                </a:cubicBezTo>
                <a:cubicBezTo>
                  <a:pt x="11133" y="8429"/>
                  <a:pt x="11201" y="8533"/>
                  <a:pt x="11286" y="8582"/>
                </a:cubicBezTo>
                <a:cubicBezTo>
                  <a:pt x="11371" y="8632"/>
                  <a:pt x="11512" y="8666"/>
                  <a:pt x="11609" y="8657"/>
                </a:cubicBezTo>
                <a:cubicBezTo>
                  <a:pt x="11708" y="8648"/>
                  <a:pt x="11853" y="8630"/>
                  <a:pt x="11931" y="8558"/>
                </a:cubicBezTo>
                <a:cubicBezTo>
                  <a:pt x="11987" y="8506"/>
                  <a:pt x="12042" y="8409"/>
                  <a:pt x="11981" y="8334"/>
                </a:cubicBezTo>
                <a:cubicBezTo>
                  <a:pt x="11912" y="8249"/>
                  <a:pt x="11867" y="8254"/>
                  <a:pt x="11757" y="8285"/>
                </a:cubicBezTo>
                <a:cubicBezTo>
                  <a:pt x="11650" y="8315"/>
                  <a:pt x="11538" y="8384"/>
                  <a:pt x="11485" y="8483"/>
                </a:cubicBezTo>
                <a:cubicBezTo>
                  <a:pt x="11429" y="8588"/>
                  <a:pt x="11440" y="8691"/>
                  <a:pt x="11435" y="88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Ink 8"/>
          <p:cNvSpPr/>
          <p:nvPr/>
        </p:nvSpPr>
        <p:spPr>
          <a:xfrm>
            <a:off x="1374840" y="3411360"/>
            <a:ext cx="1170000" cy="589320"/>
          </a:xfrm>
          <a:custGeom>
            <a:avLst/>
            <a:gdLst/>
            <a:ahLst/>
            <a:rect l="l" t="t" r="r" b="b"/>
            <a:pathLst>
              <a:path w="3250" h="1638">
                <a:moveTo>
                  <a:pt x="3820" y="9475"/>
                </a:moveTo>
                <a:cubicBezTo>
                  <a:pt x="3857" y="9522"/>
                  <a:pt x="3899" y="9599"/>
                  <a:pt x="3919" y="9649"/>
                </a:cubicBezTo>
                <a:cubicBezTo>
                  <a:pt x="3969" y="9777"/>
                  <a:pt x="3965" y="9904"/>
                  <a:pt x="4043" y="10021"/>
                </a:cubicBezTo>
                <a:cubicBezTo>
                  <a:pt x="4117" y="10132"/>
                  <a:pt x="4197" y="10225"/>
                  <a:pt x="4291" y="10319"/>
                </a:cubicBezTo>
                <a:cubicBezTo>
                  <a:pt x="4361" y="10389"/>
                  <a:pt x="4392" y="10390"/>
                  <a:pt x="4490" y="10418"/>
                </a:cubicBezTo>
              </a:path>
              <a:path w="3250" h="1638">
                <a:moveTo>
                  <a:pt x="4291" y="9475"/>
                </a:moveTo>
                <a:cubicBezTo>
                  <a:pt x="4211" y="9635"/>
                  <a:pt x="4084" y="9827"/>
                  <a:pt x="4018" y="9996"/>
                </a:cubicBezTo>
                <a:cubicBezTo>
                  <a:pt x="3984" y="10083"/>
                  <a:pt x="3957" y="10202"/>
                  <a:pt x="3944" y="10294"/>
                </a:cubicBezTo>
                <a:cubicBezTo>
                  <a:pt x="3944" y="10339"/>
                  <a:pt x="3940" y="10352"/>
                  <a:pt x="3969" y="10368"/>
                </a:cubicBezTo>
              </a:path>
              <a:path w="3250" h="1638">
                <a:moveTo>
                  <a:pt x="4514" y="9847"/>
                </a:moveTo>
                <a:cubicBezTo>
                  <a:pt x="4588" y="9835"/>
                  <a:pt x="4684" y="9825"/>
                  <a:pt x="4762" y="9847"/>
                </a:cubicBezTo>
                <a:cubicBezTo>
                  <a:pt x="4779" y="9855"/>
                  <a:pt x="4795" y="9864"/>
                  <a:pt x="4812" y="9872"/>
                </a:cubicBezTo>
              </a:path>
              <a:path w="3250" h="1638">
                <a:moveTo>
                  <a:pt x="4539" y="9996"/>
                </a:moveTo>
                <a:cubicBezTo>
                  <a:pt x="4628" y="10036"/>
                  <a:pt x="4690" y="10046"/>
                  <a:pt x="4787" y="10046"/>
                </a:cubicBezTo>
                <a:cubicBezTo>
                  <a:pt x="4812" y="10046"/>
                  <a:pt x="4837" y="10046"/>
                  <a:pt x="4862" y="10046"/>
                </a:cubicBezTo>
              </a:path>
              <a:path w="3250" h="1638">
                <a:moveTo>
                  <a:pt x="5755" y="9699"/>
                </a:moveTo>
                <a:cubicBezTo>
                  <a:pt x="5677" y="9582"/>
                  <a:pt x="5656" y="9533"/>
                  <a:pt x="5507" y="9525"/>
                </a:cubicBezTo>
                <a:cubicBezTo>
                  <a:pt x="5439" y="9522"/>
                  <a:pt x="5351" y="9574"/>
                  <a:pt x="5308" y="9624"/>
                </a:cubicBezTo>
                <a:cubicBezTo>
                  <a:pt x="5243" y="9699"/>
                  <a:pt x="5330" y="9802"/>
                  <a:pt x="5407" y="9823"/>
                </a:cubicBezTo>
                <a:cubicBezTo>
                  <a:pt x="5500" y="9849"/>
                  <a:pt x="5590" y="9849"/>
                  <a:pt x="5680" y="9798"/>
                </a:cubicBezTo>
                <a:cubicBezTo>
                  <a:pt x="5706" y="9783"/>
                  <a:pt x="5734" y="9744"/>
                  <a:pt x="5755" y="9723"/>
                </a:cubicBezTo>
                <a:cubicBezTo>
                  <a:pt x="5717" y="9786"/>
                  <a:pt x="5716" y="9846"/>
                  <a:pt x="5705" y="9922"/>
                </a:cubicBezTo>
                <a:cubicBezTo>
                  <a:pt x="5689" y="10033"/>
                  <a:pt x="5701" y="10161"/>
                  <a:pt x="5680" y="10269"/>
                </a:cubicBezTo>
                <a:cubicBezTo>
                  <a:pt x="5666" y="10343"/>
                  <a:pt x="5648" y="10428"/>
                  <a:pt x="5631" y="10492"/>
                </a:cubicBezTo>
                <a:cubicBezTo>
                  <a:pt x="5631" y="10500"/>
                  <a:pt x="5631" y="10509"/>
                  <a:pt x="5631" y="10517"/>
                </a:cubicBezTo>
              </a:path>
              <a:path w="3250" h="1638">
                <a:moveTo>
                  <a:pt x="6003" y="10691"/>
                </a:moveTo>
                <a:cubicBezTo>
                  <a:pt x="5961" y="10836"/>
                  <a:pt x="5917" y="10968"/>
                  <a:pt x="5879" y="11112"/>
                </a:cubicBezTo>
              </a:path>
              <a:path w="3250" h="1638">
                <a:moveTo>
                  <a:pt x="6449" y="9575"/>
                </a:moveTo>
                <a:cubicBezTo>
                  <a:pt x="6406" y="9703"/>
                  <a:pt x="6342" y="9818"/>
                  <a:pt x="6300" y="9947"/>
                </a:cubicBezTo>
                <a:cubicBezTo>
                  <a:pt x="6274" y="10025"/>
                  <a:pt x="6241" y="10211"/>
                  <a:pt x="6276" y="10294"/>
                </a:cubicBezTo>
                <a:cubicBezTo>
                  <a:pt x="6317" y="10393"/>
                  <a:pt x="6400" y="10514"/>
                  <a:pt x="6474" y="10592"/>
                </a:cubicBezTo>
                <a:cubicBezTo>
                  <a:pt x="6549" y="10671"/>
                  <a:pt x="6633" y="10735"/>
                  <a:pt x="6747" y="10716"/>
                </a:cubicBezTo>
                <a:cubicBezTo>
                  <a:pt x="6829" y="10702"/>
                  <a:pt x="6944" y="10626"/>
                  <a:pt x="6995" y="10567"/>
                </a:cubicBezTo>
                <a:cubicBezTo>
                  <a:pt x="7078" y="10472"/>
                  <a:pt x="7054" y="10391"/>
                  <a:pt x="7020" y="10294"/>
                </a:cubicBezTo>
                <a:cubicBezTo>
                  <a:pt x="6862" y="10347"/>
                  <a:pt x="6665" y="10405"/>
                  <a:pt x="6648" y="10592"/>
                </a:cubicBezTo>
                <a:cubicBezTo>
                  <a:pt x="6648" y="10683"/>
                  <a:pt x="6648" y="10707"/>
                  <a:pt x="6648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24 = -5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Ink 4"/>
          <p:cNvSpPr/>
          <p:nvPr/>
        </p:nvSpPr>
        <p:spPr>
          <a:xfrm>
            <a:off x="1884240" y="2268360"/>
            <a:ext cx="633600" cy="23184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5556" y="6350"/>
                </a:moveTo>
                <a:cubicBezTo>
                  <a:pt x="5548" y="6446"/>
                  <a:pt x="5496" y="6697"/>
                  <a:pt x="5531" y="6821"/>
                </a:cubicBezTo>
                <a:cubicBezTo>
                  <a:pt x="5543" y="6862"/>
                  <a:pt x="5585" y="6908"/>
                  <a:pt x="5606" y="6945"/>
                </a:cubicBezTo>
              </a:path>
              <a:path w="1762" h="646">
                <a:moveTo>
                  <a:pt x="5234" y="6573"/>
                </a:moveTo>
                <a:cubicBezTo>
                  <a:pt x="5313" y="6583"/>
                  <a:pt x="5373" y="6598"/>
                  <a:pt x="5457" y="6598"/>
                </a:cubicBezTo>
                <a:cubicBezTo>
                  <a:pt x="5545" y="6598"/>
                  <a:pt x="5620" y="6582"/>
                  <a:pt x="5705" y="6573"/>
                </a:cubicBezTo>
              </a:path>
              <a:path w="1762" h="646">
                <a:moveTo>
                  <a:pt x="6028" y="6325"/>
                </a:moveTo>
                <a:cubicBezTo>
                  <a:pt x="6122" y="6316"/>
                  <a:pt x="6202" y="6300"/>
                  <a:pt x="6300" y="6300"/>
                </a:cubicBezTo>
                <a:cubicBezTo>
                  <a:pt x="6317" y="6300"/>
                  <a:pt x="6333" y="6300"/>
                  <a:pt x="6350" y="6300"/>
                </a:cubicBezTo>
              </a:path>
              <a:path w="1762" h="646">
                <a:moveTo>
                  <a:pt x="6028" y="6325"/>
                </a:moveTo>
                <a:cubicBezTo>
                  <a:pt x="5966" y="6356"/>
                  <a:pt x="5795" y="6415"/>
                  <a:pt x="5904" y="6524"/>
                </a:cubicBezTo>
                <a:cubicBezTo>
                  <a:pt x="5961" y="6581"/>
                  <a:pt x="6050" y="6533"/>
                  <a:pt x="6102" y="6524"/>
                </a:cubicBezTo>
                <a:cubicBezTo>
                  <a:pt x="6161" y="6513"/>
                  <a:pt x="6239" y="6520"/>
                  <a:pt x="6276" y="6573"/>
                </a:cubicBezTo>
                <a:cubicBezTo>
                  <a:pt x="6322" y="6639"/>
                  <a:pt x="6307" y="6709"/>
                  <a:pt x="6300" y="6772"/>
                </a:cubicBezTo>
                <a:cubicBezTo>
                  <a:pt x="6295" y="6817"/>
                  <a:pt x="6285" y="6904"/>
                  <a:pt x="6226" y="6921"/>
                </a:cubicBezTo>
                <a:cubicBezTo>
                  <a:pt x="6150" y="6943"/>
                  <a:pt x="6091" y="6933"/>
                  <a:pt x="6028" y="6921"/>
                </a:cubicBezTo>
                <a:cubicBezTo>
                  <a:pt x="5897" y="6896"/>
                  <a:pt x="5870" y="6914"/>
                  <a:pt x="5854" y="6772"/>
                </a:cubicBezTo>
              </a:path>
              <a:path w="1762" h="646">
                <a:moveTo>
                  <a:pt x="6400" y="6623"/>
                </a:moveTo>
                <a:cubicBezTo>
                  <a:pt x="6507" y="6808"/>
                  <a:pt x="6514" y="6873"/>
                  <a:pt x="6697" y="6921"/>
                </a:cubicBezTo>
                <a:cubicBezTo>
                  <a:pt x="6790" y="6945"/>
                  <a:pt x="6854" y="6959"/>
                  <a:pt x="6945" y="6921"/>
                </a:cubicBezTo>
                <a:cubicBezTo>
                  <a:pt x="6962" y="6913"/>
                  <a:pt x="6978" y="6904"/>
                  <a:pt x="6995" y="6896"/>
                </a:cubicBezTo>
              </a:path>
              <a:path w="1762" h="646">
                <a:moveTo>
                  <a:pt x="6796" y="6598"/>
                </a:moveTo>
                <a:cubicBezTo>
                  <a:pt x="6667" y="6686"/>
                  <a:pt x="6535" y="6796"/>
                  <a:pt x="6400" y="6871"/>
                </a:cubicBezTo>
                <a:cubicBezTo>
                  <a:pt x="6367" y="6888"/>
                  <a:pt x="6333" y="6904"/>
                  <a:pt x="6300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Ink 5"/>
          <p:cNvSpPr/>
          <p:nvPr/>
        </p:nvSpPr>
        <p:spPr>
          <a:xfrm>
            <a:off x="3857760" y="1874880"/>
            <a:ext cx="679320" cy="696960"/>
          </a:xfrm>
          <a:custGeom>
            <a:avLst/>
            <a:gdLst/>
            <a:ahLst/>
            <a:rect l="l" t="t" r="r" b="b"/>
            <a:pathLst>
              <a:path w="1886" h="1936">
                <a:moveTo>
                  <a:pt x="10914" y="6548"/>
                </a:moveTo>
                <a:cubicBezTo>
                  <a:pt x="10914" y="6681"/>
                  <a:pt x="10925" y="6794"/>
                  <a:pt x="10939" y="6921"/>
                </a:cubicBezTo>
                <a:cubicBezTo>
                  <a:pt x="10947" y="6993"/>
                  <a:pt x="10950" y="6990"/>
                  <a:pt x="10964" y="7045"/>
                </a:cubicBezTo>
              </a:path>
              <a:path w="1886" h="1936">
                <a:moveTo>
                  <a:pt x="10716" y="6722"/>
                </a:moveTo>
                <a:cubicBezTo>
                  <a:pt x="10822" y="6738"/>
                  <a:pt x="10887" y="6747"/>
                  <a:pt x="10988" y="6747"/>
                </a:cubicBezTo>
              </a:path>
              <a:path w="1886" h="1936">
                <a:moveTo>
                  <a:pt x="11336" y="6449"/>
                </a:moveTo>
                <a:cubicBezTo>
                  <a:pt x="11466" y="6449"/>
                  <a:pt x="11586" y="6433"/>
                  <a:pt x="11708" y="6424"/>
                </a:cubicBezTo>
                <a:cubicBezTo>
                  <a:pt x="11716" y="6424"/>
                  <a:pt x="11725" y="6424"/>
                  <a:pt x="11733" y="6424"/>
                </a:cubicBezTo>
              </a:path>
              <a:path w="1886" h="1936">
                <a:moveTo>
                  <a:pt x="11435" y="6424"/>
                </a:moveTo>
                <a:cubicBezTo>
                  <a:pt x="11368" y="6526"/>
                  <a:pt x="11248" y="6627"/>
                  <a:pt x="11336" y="6747"/>
                </a:cubicBezTo>
                <a:cubicBezTo>
                  <a:pt x="11385" y="6815"/>
                  <a:pt x="11453" y="6746"/>
                  <a:pt x="11485" y="6697"/>
                </a:cubicBezTo>
                <a:cubicBezTo>
                  <a:pt x="11518" y="6647"/>
                  <a:pt x="11598" y="6612"/>
                  <a:pt x="11658" y="6672"/>
                </a:cubicBezTo>
                <a:cubicBezTo>
                  <a:pt x="11710" y="6724"/>
                  <a:pt x="11751" y="6832"/>
                  <a:pt x="11782" y="6896"/>
                </a:cubicBezTo>
                <a:cubicBezTo>
                  <a:pt x="11827" y="6991"/>
                  <a:pt x="11748" y="7050"/>
                  <a:pt x="11683" y="7119"/>
                </a:cubicBezTo>
                <a:cubicBezTo>
                  <a:pt x="11627" y="7179"/>
                  <a:pt x="11478" y="7141"/>
                  <a:pt x="11410" y="7119"/>
                </a:cubicBezTo>
                <a:cubicBezTo>
                  <a:pt x="11321" y="7090"/>
                  <a:pt x="11318" y="7043"/>
                  <a:pt x="11336" y="6970"/>
                </a:cubicBezTo>
              </a:path>
              <a:path w="1886" h="1936">
                <a:moveTo>
                  <a:pt x="12030" y="6722"/>
                </a:moveTo>
                <a:cubicBezTo>
                  <a:pt x="12091" y="6867"/>
                  <a:pt x="12129" y="6951"/>
                  <a:pt x="12254" y="7045"/>
                </a:cubicBezTo>
                <a:cubicBezTo>
                  <a:pt x="12369" y="7131"/>
                  <a:pt x="12463" y="7119"/>
                  <a:pt x="12601" y="7119"/>
                </a:cubicBezTo>
              </a:path>
              <a:path w="1886" h="1936">
                <a:moveTo>
                  <a:pt x="12427" y="6747"/>
                </a:moveTo>
                <a:cubicBezTo>
                  <a:pt x="12262" y="6881"/>
                  <a:pt x="12095" y="7050"/>
                  <a:pt x="11906" y="7144"/>
                </a:cubicBezTo>
              </a:path>
              <a:path w="1886" h="1936">
                <a:moveTo>
                  <a:pt x="12055" y="5209"/>
                </a:moveTo>
                <a:cubicBezTo>
                  <a:pt x="11925" y="5443"/>
                  <a:pt x="11790" y="5672"/>
                  <a:pt x="11658" y="5904"/>
                </a:cubicBezTo>
                <a:cubicBezTo>
                  <a:pt x="11531" y="6127"/>
                  <a:pt x="11406" y="6348"/>
                  <a:pt x="11286" y="6573"/>
                </a:cubicBezTo>
                <a:cubicBezTo>
                  <a:pt x="11223" y="6692"/>
                  <a:pt x="11164" y="6797"/>
                  <a:pt x="11112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Ink 6"/>
          <p:cNvSpPr/>
          <p:nvPr/>
        </p:nvSpPr>
        <p:spPr>
          <a:xfrm>
            <a:off x="1143000" y="2697120"/>
            <a:ext cx="1751040" cy="544680"/>
          </a:xfrm>
          <a:custGeom>
            <a:avLst/>
            <a:gdLst/>
            <a:ahLst/>
            <a:rect l="l" t="t" r="r" b="b"/>
            <a:pathLst>
              <a:path w="4863" h="1514">
                <a:moveTo>
                  <a:pt x="3175" y="7863"/>
                </a:moveTo>
                <a:cubicBezTo>
                  <a:pt x="3246" y="8014"/>
                  <a:pt x="3322" y="8212"/>
                  <a:pt x="3448" y="8334"/>
                </a:cubicBezTo>
                <a:cubicBezTo>
                  <a:pt x="3562" y="8443"/>
                  <a:pt x="3680" y="8463"/>
                  <a:pt x="3820" y="8508"/>
                </a:cubicBezTo>
                <a:cubicBezTo>
                  <a:pt x="3903" y="8535"/>
                  <a:pt x="3942" y="8521"/>
                  <a:pt x="3994" y="8458"/>
                </a:cubicBezTo>
              </a:path>
              <a:path w="4863" h="1514">
                <a:moveTo>
                  <a:pt x="3671" y="7838"/>
                </a:moveTo>
                <a:cubicBezTo>
                  <a:pt x="3581" y="8037"/>
                  <a:pt x="3505" y="8250"/>
                  <a:pt x="3398" y="8434"/>
                </a:cubicBezTo>
                <a:cubicBezTo>
                  <a:pt x="3353" y="8512"/>
                  <a:pt x="3302" y="8587"/>
                  <a:pt x="3249" y="8657"/>
                </a:cubicBezTo>
                <a:cubicBezTo>
                  <a:pt x="3220" y="8687"/>
                  <a:pt x="3215" y="8689"/>
                  <a:pt x="3249" y="8632"/>
                </a:cubicBezTo>
              </a:path>
              <a:path w="4863" h="1514">
                <a:moveTo>
                  <a:pt x="3969" y="7516"/>
                </a:moveTo>
                <a:cubicBezTo>
                  <a:pt x="4006" y="7506"/>
                  <a:pt x="4142" y="7451"/>
                  <a:pt x="4167" y="7516"/>
                </a:cubicBezTo>
                <a:cubicBezTo>
                  <a:pt x="4187" y="7569"/>
                  <a:pt x="4168" y="7668"/>
                  <a:pt x="4142" y="7714"/>
                </a:cubicBezTo>
                <a:cubicBezTo>
                  <a:pt x="4125" y="7744"/>
                  <a:pt x="4028" y="7828"/>
                  <a:pt x="4018" y="7863"/>
                </a:cubicBezTo>
                <a:cubicBezTo>
                  <a:pt x="3995" y="7945"/>
                  <a:pt x="4111" y="7959"/>
                  <a:pt x="4167" y="7962"/>
                </a:cubicBezTo>
                <a:cubicBezTo>
                  <a:pt x="4226" y="7962"/>
                  <a:pt x="4252" y="7959"/>
                  <a:pt x="4291" y="7938"/>
                </a:cubicBezTo>
              </a:path>
              <a:path w="4863" h="1514">
                <a:moveTo>
                  <a:pt x="4614" y="7987"/>
                </a:moveTo>
                <a:cubicBezTo>
                  <a:pt x="4598" y="8111"/>
                  <a:pt x="4589" y="8212"/>
                  <a:pt x="4589" y="8334"/>
                </a:cubicBezTo>
                <a:cubicBezTo>
                  <a:pt x="4589" y="8390"/>
                  <a:pt x="4608" y="8462"/>
                  <a:pt x="4638" y="8483"/>
                </a:cubicBezTo>
              </a:path>
              <a:path w="4863" h="1514">
                <a:moveTo>
                  <a:pt x="4390" y="8161"/>
                </a:moveTo>
                <a:cubicBezTo>
                  <a:pt x="4501" y="8191"/>
                  <a:pt x="4530" y="8174"/>
                  <a:pt x="4638" y="8161"/>
                </a:cubicBezTo>
                <a:cubicBezTo>
                  <a:pt x="4713" y="8161"/>
                  <a:pt x="4737" y="8161"/>
                  <a:pt x="4787" y="8161"/>
                </a:cubicBezTo>
              </a:path>
              <a:path w="4863" h="1514">
                <a:moveTo>
                  <a:pt x="5259" y="7863"/>
                </a:moveTo>
                <a:cubicBezTo>
                  <a:pt x="5399" y="7863"/>
                  <a:pt x="5550" y="7882"/>
                  <a:pt x="5680" y="7838"/>
                </a:cubicBezTo>
              </a:path>
              <a:path w="4863" h="1514">
                <a:moveTo>
                  <a:pt x="5209" y="7813"/>
                </a:moveTo>
                <a:cubicBezTo>
                  <a:pt x="5136" y="7960"/>
                  <a:pt x="5085" y="8015"/>
                  <a:pt x="5085" y="8161"/>
                </a:cubicBezTo>
                <a:cubicBezTo>
                  <a:pt x="5085" y="8212"/>
                  <a:pt x="5086" y="8231"/>
                  <a:pt x="5110" y="8260"/>
                </a:cubicBezTo>
                <a:cubicBezTo>
                  <a:pt x="5187" y="8250"/>
                  <a:pt x="5199" y="8225"/>
                  <a:pt x="5259" y="8186"/>
                </a:cubicBezTo>
                <a:cubicBezTo>
                  <a:pt x="5341" y="8133"/>
                  <a:pt x="5425" y="8161"/>
                  <a:pt x="5482" y="8235"/>
                </a:cubicBezTo>
                <a:cubicBezTo>
                  <a:pt x="5519" y="8283"/>
                  <a:pt x="5549" y="8378"/>
                  <a:pt x="5556" y="8434"/>
                </a:cubicBezTo>
                <a:cubicBezTo>
                  <a:pt x="5567" y="8518"/>
                  <a:pt x="5530" y="8593"/>
                  <a:pt x="5482" y="8657"/>
                </a:cubicBezTo>
                <a:cubicBezTo>
                  <a:pt x="5438" y="8716"/>
                  <a:pt x="5350" y="8727"/>
                  <a:pt x="5283" y="8731"/>
                </a:cubicBezTo>
                <a:cubicBezTo>
                  <a:pt x="5229" y="8734"/>
                  <a:pt x="5150" y="8714"/>
                  <a:pt x="5110" y="8682"/>
                </a:cubicBezTo>
                <a:cubicBezTo>
                  <a:pt x="5059" y="8641"/>
                  <a:pt x="5092" y="8606"/>
                  <a:pt x="5110" y="8558"/>
                </a:cubicBezTo>
              </a:path>
              <a:path w="4863" h="1514">
                <a:moveTo>
                  <a:pt x="5854" y="8285"/>
                </a:moveTo>
                <a:cubicBezTo>
                  <a:pt x="5881" y="8408"/>
                  <a:pt x="5894" y="8514"/>
                  <a:pt x="5978" y="8607"/>
                </a:cubicBezTo>
                <a:cubicBezTo>
                  <a:pt x="6050" y="8687"/>
                  <a:pt x="6120" y="8724"/>
                  <a:pt x="6201" y="8781"/>
                </a:cubicBezTo>
                <a:cubicBezTo>
                  <a:pt x="6223" y="8797"/>
                  <a:pt x="6363" y="8895"/>
                  <a:pt x="6400" y="8855"/>
                </a:cubicBezTo>
                <a:cubicBezTo>
                  <a:pt x="6419" y="8798"/>
                  <a:pt x="6427" y="8791"/>
                  <a:pt x="6424" y="8756"/>
                </a:cubicBezTo>
              </a:path>
              <a:path w="4863" h="1514">
                <a:moveTo>
                  <a:pt x="6127" y="8210"/>
                </a:moveTo>
                <a:cubicBezTo>
                  <a:pt x="6044" y="8359"/>
                  <a:pt x="5964" y="8526"/>
                  <a:pt x="5854" y="8657"/>
                </a:cubicBezTo>
                <a:cubicBezTo>
                  <a:pt x="5818" y="8700"/>
                  <a:pt x="5689" y="8786"/>
                  <a:pt x="5730" y="8806"/>
                </a:cubicBezTo>
              </a:path>
              <a:path w="4863" h="1514">
                <a:moveTo>
                  <a:pt x="6499" y="8434"/>
                </a:moveTo>
                <a:cubicBezTo>
                  <a:pt x="6598" y="8434"/>
                  <a:pt x="6697" y="8434"/>
                  <a:pt x="6796" y="8434"/>
                </a:cubicBezTo>
              </a:path>
              <a:path w="4863" h="1514">
                <a:moveTo>
                  <a:pt x="6921" y="8062"/>
                </a:moveTo>
                <a:cubicBezTo>
                  <a:pt x="7012" y="8009"/>
                  <a:pt x="7054" y="7979"/>
                  <a:pt x="7169" y="7962"/>
                </a:cubicBezTo>
                <a:cubicBezTo>
                  <a:pt x="7227" y="7953"/>
                  <a:pt x="7299" y="7952"/>
                  <a:pt x="7342" y="7987"/>
                </a:cubicBezTo>
                <a:cubicBezTo>
                  <a:pt x="7414" y="8045"/>
                  <a:pt x="7380" y="8060"/>
                  <a:pt x="7367" y="8136"/>
                </a:cubicBezTo>
                <a:cubicBezTo>
                  <a:pt x="7351" y="8232"/>
                  <a:pt x="7313" y="8286"/>
                  <a:pt x="7243" y="8359"/>
                </a:cubicBezTo>
                <a:cubicBezTo>
                  <a:pt x="7169" y="8437"/>
                  <a:pt x="7105" y="8518"/>
                  <a:pt x="7045" y="8582"/>
                </a:cubicBezTo>
                <a:cubicBezTo>
                  <a:pt x="7006" y="8624"/>
                  <a:pt x="6936" y="8750"/>
                  <a:pt x="6921" y="8806"/>
                </a:cubicBezTo>
                <a:cubicBezTo>
                  <a:pt x="6921" y="8822"/>
                  <a:pt x="6921" y="8839"/>
                  <a:pt x="6921" y="8855"/>
                </a:cubicBezTo>
                <a:cubicBezTo>
                  <a:pt x="6974" y="8882"/>
                  <a:pt x="7076" y="8896"/>
                  <a:pt x="7144" y="8880"/>
                </a:cubicBezTo>
                <a:cubicBezTo>
                  <a:pt x="7214" y="8863"/>
                  <a:pt x="7281" y="8816"/>
                  <a:pt x="7342" y="8781"/>
                </a:cubicBezTo>
              </a:path>
              <a:path w="4863" h="1514">
                <a:moveTo>
                  <a:pt x="7640" y="8037"/>
                </a:moveTo>
                <a:cubicBezTo>
                  <a:pt x="7632" y="8125"/>
                  <a:pt x="7615" y="8194"/>
                  <a:pt x="7615" y="8285"/>
                </a:cubicBezTo>
                <a:cubicBezTo>
                  <a:pt x="7615" y="8375"/>
                  <a:pt x="7653" y="8407"/>
                  <a:pt x="7714" y="8458"/>
                </a:cubicBezTo>
                <a:cubicBezTo>
                  <a:pt x="7806" y="8535"/>
                  <a:pt x="7884" y="8483"/>
                  <a:pt x="7938" y="8409"/>
                </a:cubicBezTo>
              </a:path>
              <a:path w="4863" h="1514">
                <a:moveTo>
                  <a:pt x="8012" y="7764"/>
                </a:moveTo>
                <a:cubicBezTo>
                  <a:pt x="7976" y="7925"/>
                  <a:pt x="7942" y="8071"/>
                  <a:pt x="7938" y="8235"/>
                </a:cubicBezTo>
                <a:cubicBezTo>
                  <a:pt x="7936" y="8329"/>
                  <a:pt x="7867" y="8945"/>
                  <a:pt x="7962" y="9004"/>
                </a:cubicBezTo>
                <a:cubicBezTo>
                  <a:pt x="8014" y="9004"/>
                  <a:pt x="8032" y="9002"/>
                  <a:pt x="8037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Ink 7"/>
          <p:cNvSpPr/>
          <p:nvPr/>
        </p:nvSpPr>
        <p:spPr>
          <a:xfrm>
            <a:off x="3116160" y="301788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8657" y="8384"/>
                </a:moveTo>
                <a:cubicBezTo>
                  <a:pt x="8764" y="8403"/>
                  <a:pt x="8847" y="8409"/>
                  <a:pt x="8954" y="8409"/>
                </a:cubicBezTo>
                <a:cubicBezTo>
                  <a:pt x="8996" y="8409"/>
                  <a:pt x="9004" y="8409"/>
                  <a:pt x="9029" y="8409"/>
                </a:cubicBezTo>
              </a:path>
              <a:path w="398" h="299">
                <a:moveTo>
                  <a:pt x="8657" y="8582"/>
                </a:moveTo>
                <a:cubicBezTo>
                  <a:pt x="8726" y="8669"/>
                  <a:pt x="8759" y="8703"/>
                  <a:pt x="8880" y="8682"/>
                </a:cubicBezTo>
                <a:cubicBezTo>
                  <a:pt x="8970" y="8659"/>
                  <a:pt x="8994" y="8651"/>
                  <a:pt x="9054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Ink 8"/>
          <p:cNvSpPr/>
          <p:nvPr/>
        </p:nvSpPr>
        <p:spPr>
          <a:xfrm>
            <a:off x="3473280" y="2884320"/>
            <a:ext cx="312840" cy="384480"/>
          </a:xfrm>
          <a:custGeom>
            <a:avLst/>
            <a:gdLst/>
            <a:ahLst/>
            <a:rect l="l" t="t" r="r" b="b"/>
            <a:pathLst>
              <a:path w="869" h="1068">
                <a:moveTo>
                  <a:pt x="9897" y="8260"/>
                </a:moveTo>
                <a:cubicBezTo>
                  <a:pt x="9809" y="8384"/>
                  <a:pt x="9740" y="8521"/>
                  <a:pt x="9674" y="8657"/>
                </a:cubicBezTo>
                <a:cubicBezTo>
                  <a:pt x="9636" y="8735"/>
                  <a:pt x="9630" y="8854"/>
                  <a:pt x="9674" y="8930"/>
                </a:cubicBezTo>
                <a:cubicBezTo>
                  <a:pt x="9702" y="8979"/>
                  <a:pt x="9771" y="9032"/>
                  <a:pt x="9823" y="9054"/>
                </a:cubicBezTo>
                <a:cubicBezTo>
                  <a:pt x="9918" y="9093"/>
                  <a:pt x="10000" y="9083"/>
                  <a:pt x="10096" y="9054"/>
                </a:cubicBezTo>
                <a:cubicBezTo>
                  <a:pt x="10257" y="9006"/>
                  <a:pt x="10330" y="8888"/>
                  <a:pt x="10418" y="8756"/>
                </a:cubicBezTo>
                <a:cubicBezTo>
                  <a:pt x="10472" y="8675"/>
                  <a:pt x="10549" y="8512"/>
                  <a:pt x="10517" y="8409"/>
                </a:cubicBezTo>
                <a:cubicBezTo>
                  <a:pt x="10487" y="8315"/>
                  <a:pt x="10381" y="8204"/>
                  <a:pt x="10294" y="8161"/>
                </a:cubicBezTo>
                <a:cubicBezTo>
                  <a:pt x="10199" y="8113"/>
                  <a:pt x="10186" y="8102"/>
                  <a:pt x="10120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Ink 9"/>
          <p:cNvSpPr/>
          <p:nvPr/>
        </p:nvSpPr>
        <p:spPr>
          <a:xfrm>
            <a:off x="750960" y="3205080"/>
            <a:ext cx="2241360" cy="760320"/>
          </a:xfrm>
          <a:custGeom>
            <a:avLst/>
            <a:gdLst/>
            <a:ahLst/>
            <a:rect l="l" t="t" r="r" b="b"/>
            <a:pathLst>
              <a:path w="6227" h="2109">
                <a:moveTo>
                  <a:pt x="2555" y="8905"/>
                </a:moveTo>
                <a:cubicBezTo>
                  <a:pt x="2410" y="9002"/>
                  <a:pt x="2330" y="9090"/>
                  <a:pt x="2257" y="9252"/>
                </a:cubicBezTo>
                <a:cubicBezTo>
                  <a:pt x="2140" y="9510"/>
                  <a:pt x="2093" y="9763"/>
                  <a:pt x="2084" y="10046"/>
                </a:cubicBezTo>
                <a:cubicBezTo>
                  <a:pt x="2078" y="10222"/>
                  <a:pt x="2101" y="10386"/>
                  <a:pt x="2232" y="10517"/>
                </a:cubicBezTo>
                <a:cubicBezTo>
                  <a:pt x="2313" y="10571"/>
                  <a:pt x="2344" y="10590"/>
                  <a:pt x="2406" y="10616"/>
                </a:cubicBezTo>
              </a:path>
              <a:path w="6227" h="2109">
                <a:moveTo>
                  <a:pt x="5507" y="9128"/>
                </a:moveTo>
                <a:cubicBezTo>
                  <a:pt x="5615" y="9312"/>
                  <a:pt x="5710" y="9458"/>
                  <a:pt x="5755" y="9674"/>
                </a:cubicBezTo>
                <a:cubicBezTo>
                  <a:pt x="5828" y="10023"/>
                  <a:pt x="5699" y="10242"/>
                  <a:pt x="5531" y="10542"/>
                </a:cubicBezTo>
                <a:cubicBezTo>
                  <a:pt x="5457" y="10674"/>
                  <a:pt x="5335" y="10805"/>
                  <a:pt x="5209" y="10889"/>
                </a:cubicBezTo>
                <a:cubicBezTo>
                  <a:pt x="5175" y="10912"/>
                  <a:pt x="5140" y="10924"/>
                  <a:pt x="5110" y="10939"/>
                </a:cubicBezTo>
              </a:path>
              <a:path w="6227" h="2109">
                <a:moveTo>
                  <a:pt x="5854" y="9550"/>
                </a:moveTo>
                <a:cubicBezTo>
                  <a:pt x="5755" y="9837"/>
                  <a:pt x="5617" y="10105"/>
                  <a:pt x="5680" y="10418"/>
                </a:cubicBezTo>
                <a:cubicBezTo>
                  <a:pt x="5720" y="10617"/>
                  <a:pt x="5817" y="10748"/>
                  <a:pt x="5953" y="10889"/>
                </a:cubicBezTo>
                <a:cubicBezTo>
                  <a:pt x="6034" y="10970"/>
                  <a:pt x="6068" y="10999"/>
                  <a:pt x="6152" y="11013"/>
                </a:cubicBezTo>
              </a:path>
              <a:path w="6227" h="2109">
                <a:moveTo>
                  <a:pt x="2431" y="9723"/>
                </a:moveTo>
                <a:cubicBezTo>
                  <a:pt x="2477" y="9861"/>
                  <a:pt x="2516" y="10002"/>
                  <a:pt x="2604" y="10120"/>
                </a:cubicBezTo>
                <a:cubicBezTo>
                  <a:pt x="2713" y="10266"/>
                  <a:pt x="2863" y="10396"/>
                  <a:pt x="3026" y="10468"/>
                </a:cubicBezTo>
              </a:path>
              <a:path w="6227" h="2109">
                <a:moveTo>
                  <a:pt x="2853" y="9699"/>
                </a:moveTo>
                <a:cubicBezTo>
                  <a:pt x="2733" y="9910"/>
                  <a:pt x="2619" y="10143"/>
                  <a:pt x="2530" y="10368"/>
                </a:cubicBezTo>
                <a:cubicBezTo>
                  <a:pt x="2501" y="10442"/>
                  <a:pt x="2499" y="10501"/>
                  <a:pt x="2456" y="10567"/>
                </a:cubicBezTo>
              </a:path>
              <a:path w="6227" h="2109">
                <a:moveTo>
                  <a:pt x="5928" y="10021"/>
                </a:moveTo>
                <a:cubicBezTo>
                  <a:pt x="5996" y="10195"/>
                  <a:pt x="6054" y="10372"/>
                  <a:pt x="6176" y="10517"/>
                </a:cubicBezTo>
                <a:cubicBezTo>
                  <a:pt x="6268" y="10627"/>
                  <a:pt x="6370" y="10708"/>
                  <a:pt x="6499" y="10765"/>
                </a:cubicBezTo>
                <a:cubicBezTo>
                  <a:pt x="6637" y="10825"/>
                  <a:pt x="6657" y="10850"/>
                  <a:pt x="6747" y="10840"/>
                </a:cubicBezTo>
              </a:path>
              <a:path w="6227" h="2109">
                <a:moveTo>
                  <a:pt x="6499" y="9971"/>
                </a:moveTo>
                <a:cubicBezTo>
                  <a:pt x="6345" y="10196"/>
                  <a:pt x="6204" y="10445"/>
                  <a:pt x="6052" y="10666"/>
                </a:cubicBezTo>
                <a:cubicBezTo>
                  <a:pt x="6011" y="10716"/>
                  <a:pt x="5969" y="10765"/>
                  <a:pt x="5928" y="10815"/>
                </a:cubicBezTo>
              </a:path>
              <a:path w="6227" h="2109">
                <a:moveTo>
                  <a:pt x="4762" y="9525"/>
                </a:moveTo>
                <a:cubicBezTo>
                  <a:pt x="4709" y="9498"/>
                  <a:pt x="4645" y="9497"/>
                  <a:pt x="4589" y="9525"/>
                </a:cubicBezTo>
                <a:cubicBezTo>
                  <a:pt x="4555" y="9542"/>
                  <a:pt x="4435" y="9618"/>
                  <a:pt x="4440" y="9674"/>
                </a:cubicBezTo>
                <a:cubicBezTo>
                  <a:pt x="4444" y="9719"/>
                  <a:pt x="4494" y="9779"/>
                  <a:pt x="4514" y="9823"/>
                </a:cubicBezTo>
                <a:cubicBezTo>
                  <a:pt x="4567" y="9941"/>
                  <a:pt x="4648" y="9992"/>
                  <a:pt x="4713" y="10096"/>
                </a:cubicBezTo>
                <a:cubicBezTo>
                  <a:pt x="4766" y="10181"/>
                  <a:pt x="4834" y="10283"/>
                  <a:pt x="4812" y="10393"/>
                </a:cubicBezTo>
                <a:cubicBezTo>
                  <a:pt x="4807" y="10419"/>
                  <a:pt x="4737" y="10517"/>
                  <a:pt x="4713" y="10517"/>
                </a:cubicBezTo>
                <a:cubicBezTo>
                  <a:pt x="4637" y="10517"/>
                  <a:pt x="4638" y="10466"/>
                  <a:pt x="4614" y="10418"/>
                </a:cubicBezTo>
                <a:cubicBezTo>
                  <a:pt x="4578" y="10347"/>
                  <a:pt x="4600" y="10341"/>
                  <a:pt x="4638" y="10269"/>
                </a:cubicBezTo>
                <a:cubicBezTo>
                  <a:pt x="4687" y="10177"/>
                  <a:pt x="4726" y="10053"/>
                  <a:pt x="4787" y="9971"/>
                </a:cubicBezTo>
                <a:cubicBezTo>
                  <a:pt x="4827" y="9917"/>
                  <a:pt x="4895" y="9843"/>
                  <a:pt x="4911" y="9773"/>
                </a:cubicBezTo>
                <a:cubicBezTo>
                  <a:pt x="4924" y="9716"/>
                  <a:pt x="4922" y="9697"/>
                  <a:pt x="4961" y="9649"/>
                </a:cubicBezTo>
              </a:path>
              <a:path w="6227" h="2109">
                <a:moveTo>
                  <a:pt x="7640" y="9649"/>
                </a:moveTo>
                <a:cubicBezTo>
                  <a:pt x="7707" y="9615"/>
                  <a:pt x="7763" y="9578"/>
                  <a:pt x="7838" y="9575"/>
                </a:cubicBezTo>
                <a:cubicBezTo>
                  <a:pt x="7909" y="9573"/>
                  <a:pt x="8021" y="9569"/>
                  <a:pt x="8086" y="9599"/>
                </a:cubicBezTo>
                <a:cubicBezTo>
                  <a:pt x="8151" y="9629"/>
                  <a:pt x="8149" y="9700"/>
                  <a:pt x="8111" y="9748"/>
                </a:cubicBezTo>
                <a:cubicBezTo>
                  <a:pt x="8057" y="9816"/>
                  <a:pt x="7958" y="9853"/>
                  <a:pt x="7888" y="9897"/>
                </a:cubicBezTo>
                <a:cubicBezTo>
                  <a:pt x="7825" y="9937"/>
                  <a:pt x="7754" y="9959"/>
                  <a:pt x="7689" y="9996"/>
                </a:cubicBezTo>
                <a:cubicBezTo>
                  <a:pt x="7758" y="9986"/>
                  <a:pt x="7810" y="9971"/>
                  <a:pt x="7888" y="9971"/>
                </a:cubicBezTo>
                <a:cubicBezTo>
                  <a:pt x="7943" y="9971"/>
                  <a:pt x="8040" y="9988"/>
                  <a:pt x="8086" y="10021"/>
                </a:cubicBezTo>
                <a:cubicBezTo>
                  <a:pt x="8172" y="10083"/>
                  <a:pt x="8225" y="10199"/>
                  <a:pt x="8260" y="10294"/>
                </a:cubicBezTo>
                <a:cubicBezTo>
                  <a:pt x="8306" y="10417"/>
                  <a:pt x="8325" y="10508"/>
                  <a:pt x="8260" y="10616"/>
                </a:cubicBezTo>
                <a:cubicBezTo>
                  <a:pt x="8194" y="10725"/>
                  <a:pt x="8165" y="10736"/>
                  <a:pt x="8037" y="10740"/>
                </a:cubicBezTo>
                <a:cubicBezTo>
                  <a:pt x="7942" y="10743"/>
                  <a:pt x="7850" y="10736"/>
                  <a:pt x="7764" y="10691"/>
                </a:cubicBezTo>
                <a:cubicBezTo>
                  <a:pt x="7739" y="10674"/>
                  <a:pt x="7714" y="10658"/>
                  <a:pt x="7689" y="10641"/>
                </a:cubicBezTo>
              </a:path>
              <a:path w="6227" h="2109">
                <a:moveTo>
                  <a:pt x="3646" y="9798"/>
                </a:moveTo>
                <a:cubicBezTo>
                  <a:pt x="3612" y="9917"/>
                  <a:pt x="3551" y="10070"/>
                  <a:pt x="3572" y="10195"/>
                </a:cubicBezTo>
                <a:cubicBezTo>
                  <a:pt x="3601" y="10251"/>
                  <a:pt x="3611" y="10275"/>
                  <a:pt x="3621" y="10319"/>
                </a:cubicBezTo>
              </a:path>
              <a:path w="6227" h="2109">
                <a:moveTo>
                  <a:pt x="3448" y="9996"/>
                </a:moveTo>
                <a:cubicBezTo>
                  <a:pt x="3531" y="10028"/>
                  <a:pt x="3605" y="10021"/>
                  <a:pt x="3696" y="10021"/>
                </a:cubicBezTo>
                <a:cubicBezTo>
                  <a:pt x="3795" y="10021"/>
                  <a:pt x="3828" y="10021"/>
                  <a:pt x="3894" y="10021"/>
                </a:cubicBezTo>
              </a:path>
              <a:path w="6227" h="2109">
                <a:moveTo>
                  <a:pt x="6995" y="10170"/>
                </a:moveTo>
                <a:cubicBezTo>
                  <a:pt x="7079" y="10163"/>
                  <a:pt x="7159" y="10152"/>
                  <a:pt x="7243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Ink 10"/>
          <p:cNvSpPr/>
          <p:nvPr/>
        </p:nvSpPr>
        <p:spPr>
          <a:xfrm>
            <a:off x="3197160" y="3367080"/>
            <a:ext cx="438120" cy="677880"/>
          </a:xfrm>
          <a:custGeom>
            <a:avLst/>
            <a:gdLst/>
            <a:ahLst/>
            <a:rect l="l" t="t" r="r" b="b"/>
            <a:pathLst>
              <a:path w="1217" h="1887">
                <a:moveTo>
                  <a:pt x="9029" y="9351"/>
                </a:moveTo>
                <a:cubicBezTo>
                  <a:pt x="9145" y="9490"/>
                  <a:pt x="9240" y="9591"/>
                  <a:pt x="9302" y="9773"/>
                </a:cubicBezTo>
                <a:cubicBezTo>
                  <a:pt x="9417" y="10115"/>
                  <a:pt x="9337" y="10513"/>
                  <a:pt x="9203" y="10840"/>
                </a:cubicBezTo>
                <a:cubicBezTo>
                  <a:pt x="9159" y="10948"/>
                  <a:pt x="9035" y="11076"/>
                  <a:pt x="8954" y="11162"/>
                </a:cubicBezTo>
                <a:cubicBezTo>
                  <a:pt x="8924" y="11194"/>
                  <a:pt x="8920" y="11196"/>
                  <a:pt x="8880" y="11212"/>
                </a:cubicBezTo>
              </a:path>
              <a:path w="1217" h="1887">
                <a:moveTo>
                  <a:pt x="9575" y="10368"/>
                </a:moveTo>
                <a:cubicBezTo>
                  <a:pt x="9682" y="10379"/>
                  <a:pt x="9896" y="10375"/>
                  <a:pt x="9996" y="10418"/>
                </a:cubicBezTo>
              </a:path>
              <a:path w="1217" h="1887">
                <a:moveTo>
                  <a:pt x="9624" y="10740"/>
                </a:moveTo>
                <a:cubicBezTo>
                  <a:pt x="9813" y="10811"/>
                  <a:pt x="9897" y="10815"/>
                  <a:pt x="10096" y="108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Ink 11"/>
          <p:cNvSpPr/>
          <p:nvPr/>
        </p:nvSpPr>
        <p:spPr>
          <a:xfrm>
            <a:off x="3857760" y="3616200"/>
            <a:ext cx="438120" cy="447840"/>
          </a:xfrm>
          <a:custGeom>
            <a:avLst/>
            <a:gdLst/>
            <a:ahLst/>
            <a:rect l="l" t="t" r="r" b="b"/>
            <a:pathLst>
              <a:path w="1216" h="1241">
                <a:moveTo>
                  <a:pt x="10964" y="10046"/>
                </a:moveTo>
                <a:cubicBezTo>
                  <a:pt x="10890" y="10193"/>
                  <a:pt x="10782" y="10305"/>
                  <a:pt x="10740" y="10468"/>
                </a:cubicBezTo>
                <a:cubicBezTo>
                  <a:pt x="10691" y="10657"/>
                  <a:pt x="10764" y="10812"/>
                  <a:pt x="10864" y="10964"/>
                </a:cubicBezTo>
                <a:cubicBezTo>
                  <a:pt x="10962" y="11112"/>
                  <a:pt x="11099" y="11190"/>
                  <a:pt x="11261" y="11261"/>
                </a:cubicBezTo>
                <a:cubicBezTo>
                  <a:pt x="11383" y="11315"/>
                  <a:pt x="11525" y="11248"/>
                  <a:pt x="11633" y="11187"/>
                </a:cubicBezTo>
                <a:cubicBezTo>
                  <a:pt x="11729" y="11133"/>
                  <a:pt x="11861" y="10992"/>
                  <a:pt x="11906" y="10889"/>
                </a:cubicBezTo>
                <a:cubicBezTo>
                  <a:pt x="11954" y="10778"/>
                  <a:pt x="11946" y="10603"/>
                  <a:pt x="11906" y="10492"/>
                </a:cubicBezTo>
                <a:cubicBezTo>
                  <a:pt x="11833" y="10288"/>
                  <a:pt x="11595" y="10198"/>
                  <a:pt x="11410" y="10120"/>
                </a:cubicBezTo>
                <a:cubicBezTo>
                  <a:pt x="11360" y="10104"/>
                  <a:pt x="11311" y="10087"/>
                  <a:pt x="11261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Ink 12"/>
          <p:cNvSpPr/>
          <p:nvPr/>
        </p:nvSpPr>
        <p:spPr>
          <a:xfrm>
            <a:off x="1027080" y="4375080"/>
            <a:ext cx="384120" cy="241200"/>
          </a:xfrm>
          <a:custGeom>
            <a:avLst/>
            <a:gdLst/>
            <a:ahLst/>
            <a:rect l="l" t="t" r="r" b="b"/>
            <a:pathLst>
              <a:path w="1067" h="671">
                <a:moveTo>
                  <a:pt x="2927" y="12179"/>
                </a:moveTo>
                <a:cubicBezTo>
                  <a:pt x="3042" y="12371"/>
                  <a:pt x="3146" y="12567"/>
                  <a:pt x="3274" y="12750"/>
                </a:cubicBezTo>
              </a:path>
              <a:path w="1067" h="671">
                <a:moveTo>
                  <a:pt x="3274" y="12154"/>
                </a:moveTo>
                <a:cubicBezTo>
                  <a:pt x="3167" y="12308"/>
                  <a:pt x="3023" y="12468"/>
                  <a:pt x="2927" y="12626"/>
                </a:cubicBezTo>
                <a:cubicBezTo>
                  <a:pt x="2894" y="12681"/>
                  <a:pt x="2861" y="12765"/>
                  <a:pt x="2853" y="12824"/>
                </a:cubicBezTo>
              </a:path>
              <a:path w="1067" h="671">
                <a:moveTo>
                  <a:pt x="3398" y="12254"/>
                </a:moveTo>
                <a:cubicBezTo>
                  <a:pt x="3522" y="12254"/>
                  <a:pt x="3646" y="12254"/>
                  <a:pt x="3770" y="12254"/>
                </a:cubicBezTo>
              </a:path>
              <a:path w="1067" h="671">
                <a:moveTo>
                  <a:pt x="3621" y="12427"/>
                </a:moveTo>
                <a:cubicBezTo>
                  <a:pt x="3739" y="12463"/>
                  <a:pt x="3808" y="12492"/>
                  <a:pt x="3919" y="125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Ink 13"/>
          <p:cNvSpPr/>
          <p:nvPr/>
        </p:nvSpPr>
        <p:spPr>
          <a:xfrm>
            <a:off x="1633680" y="4313160"/>
            <a:ext cx="822240" cy="500040"/>
          </a:xfrm>
          <a:custGeom>
            <a:avLst/>
            <a:gdLst/>
            <a:ahLst/>
            <a:rect l="l" t="t" r="r" b="b"/>
            <a:pathLst>
              <a:path w="2283" h="1390">
                <a:moveTo>
                  <a:pt x="4539" y="12229"/>
                </a:moveTo>
                <a:cubicBezTo>
                  <a:pt x="4649" y="12240"/>
                  <a:pt x="4749" y="12254"/>
                  <a:pt x="4862" y="12254"/>
                </a:cubicBezTo>
              </a:path>
              <a:path w="2283" h="1390">
                <a:moveTo>
                  <a:pt x="5631" y="12055"/>
                </a:moveTo>
                <a:cubicBezTo>
                  <a:pt x="5605" y="11976"/>
                  <a:pt x="5553" y="12005"/>
                  <a:pt x="5457" y="12005"/>
                </a:cubicBezTo>
                <a:cubicBezTo>
                  <a:pt x="5391" y="12005"/>
                  <a:pt x="5325" y="12005"/>
                  <a:pt x="5259" y="12005"/>
                </a:cubicBezTo>
                <a:cubicBezTo>
                  <a:pt x="5223" y="12065"/>
                  <a:pt x="5236" y="12118"/>
                  <a:pt x="5283" y="12179"/>
                </a:cubicBezTo>
                <a:cubicBezTo>
                  <a:pt x="5391" y="12322"/>
                  <a:pt x="5560" y="12458"/>
                  <a:pt x="5631" y="12626"/>
                </a:cubicBezTo>
                <a:cubicBezTo>
                  <a:pt x="5642" y="12651"/>
                  <a:pt x="5741" y="12898"/>
                  <a:pt x="5680" y="12948"/>
                </a:cubicBezTo>
                <a:cubicBezTo>
                  <a:pt x="5623" y="12995"/>
                  <a:pt x="5504" y="12961"/>
                  <a:pt x="5457" y="12923"/>
                </a:cubicBezTo>
                <a:cubicBezTo>
                  <a:pt x="5423" y="12895"/>
                  <a:pt x="5368" y="12820"/>
                  <a:pt x="5383" y="12774"/>
                </a:cubicBezTo>
                <a:cubicBezTo>
                  <a:pt x="5422" y="12657"/>
                  <a:pt x="5472" y="12547"/>
                  <a:pt x="5507" y="12427"/>
                </a:cubicBezTo>
                <a:cubicBezTo>
                  <a:pt x="5534" y="12335"/>
                  <a:pt x="5556" y="12243"/>
                  <a:pt x="5581" y="12154"/>
                </a:cubicBezTo>
                <a:cubicBezTo>
                  <a:pt x="5596" y="12099"/>
                  <a:pt x="5629" y="12025"/>
                  <a:pt x="5655" y="11981"/>
                </a:cubicBezTo>
              </a:path>
              <a:path w="2283" h="1390">
                <a:moveTo>
                  <a:pt x="6003" y="12799"/>
                </a:moveTo>
                <a:cubicBezTo>
                  <a:pt x="5997" y="13009"/>
                  <a:pt x="5982" y="13139"/>
                  <a:pt x="5953" y="13320"/>
                </a:cubicBezTo>
                <a:cubicBezTo>
                  <a:pt x="5953" y="13337"/>
                  <a:pt x="5953" y="13353"/>
                  <a:pt x="5953" y="13370"/>
                </a:cubicBezTo>
              </a:path>
              <a:path w="2283" h="1390">
                <a:moveTo>
                  <a:pt x="6300" y="12179"/>
                </a:moveTo>
                <a:cubicBezTo>
                  <a:pt x="6412" y="12109"/>
                  <a:pt x="6515" y="12019"/>
                  <a:pt x="6648" y="12129"/>
                </a:cubicBezTo>
                <a:cubicBezTo>
                  <a:pt x="6698" y="12170"/>
                  <a:pt x="6742" y="12230"/>
                  <a:pt x="6722" y="12303"/>
                </a:cubicBezTo>
                <a:cubicBezTo>
                  <a:pt x="6699" y="12385"/>
                  <a:pt x="6629" y="12406"/>
                  <a:pt x="6573" y="12452"/>
                </a:cubicBezTo>
                <a:cubicBezTo>
                  <a:pt x="6515" y="12500"/>
                  <a:pt x="6477" y="12499"/>
                  <a:pt x="6424" y="12551"/>
                </a:cubicBezTo>
                <a:cubicBezTo>
                  <a:pt x="6485" y="12581"/>
                  <a:pt x="6553" y="12592"/>
                  <a:pt x="6623" y="12626"/>
                </a:cubicBezTo>
                <a:cubicBezTo>
                  <a:pt x="6702" y="12665"/>
                  <a:pt x="6781" y="12732"/>
                  <a:pt x="6796" y="12824"/>
                </a:cubicBezTo>
                <a:cubicBezTo>
                  <a:pt x="6804" y="12874"/>
                  <a:pt x="6853" y="13057"/>
                  <a:pt x="6796" y="13097"/>
                </a:cubicBezTo>
                <a:cubicBezTo>
                  <a:pt x="6728" y="13145"/>
                  <a:pt x="6573" y="13118"/>
                  <a:pt x="6499" y="13097"/>
                </a:cubicBezTo>
                <a:cubicBezTo>
                  <a:pt x="6413" y="13073"/>
                  <a:pt x="6362" y="13028"/>
                  <a:pt x="6276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Ink 14"/>
          <p:cNvSpPr/>
          <p:nvPr/>
        </p:nvSpPr>
        <p:spPr>
          <a:xfrm>
            <a:off x="1000080" y="651816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2778" y="18107"/>
                </a:moveTo>
                <a:cubicBezTo>
                  <a:pt x="2801" y="18130"/>
                  <a:pt x="2809" y="18134"/>
                  <a:pt x="2803" y="181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4.  2x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 – 7x – 30 = 0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Ink 4"/>
          <p:cNvSpPr/>
          <p:nvPr/>
        </p:nvSpPr>
        <p:spPr>
          <a:xfrm>
            <a:off x="1724040" y="2438280"/>
            <a:ext cx="2017800" cy="936720"/>
          </a:xfrm>
          <a:custGeom>
            <a:avLst/>
            <a:gdLst/>
            <a:ahLst/>
            <a:rect l="l" t="t" r="r" b="b"/>
            <a:pathLst>
              <a:path w="5607" h="2605">
                <a:moveTo>
                  <a:pt x="4911" y="7045"/>
                </a:moveTo>
                <a:cubicBezTo>
                  <a:pt x="4911" y="7169"/>
                  <a:pt x="4925" y="6991"/>
                  <a:pt x="4936" y="6970"/>
                </a:cubicBezTo>
                <a:cubicBezTo>
                  <a:pt x="4956" y="6930"/>
                  <a:pt x="5019" y="6858"/>
                  <a:pt x="5060" y="6846"/>
                </a:cubicBezTo>
                <a:cubicBezTo>
                  <a:pt x="5134" y="6824"/>
                  <a:pt x="5178" y="6894"/>
                  <a:pt x="5209" y="6945"/>
                </a:cubicBezTo>
                <a:cubicBezTo>
                  <a:pt x="5245" y="7005"/>
                  <a:pt x="5245" y="7079"/>
                  <a:pt x="5259" y="7144"/>
                </a:cubicBezTo>
                <a:cubicBezTo>
                  <a:pt x="5281" y="7252"/>
                  <a:pt x="5268" y="7336"/>
                  <a:pt x="5234" y="7441"/>
                </a:cubicBezTo>
                <a:cubicBezTo>
                  <a:pt x="5215" y="7498"/>
                  <a:pt x="5168" y="7685"/>
                  <a:pt x="5110" y="7739"/>
                </a:cubicBezTo>
                <a:cubicBezTo>
                  <a:pt x="5060" y="7785"/>
                  <a:pt x="4986" y="7788"/>
                  <a:pt x="4936" y="7813"/>
                </a:cubicBezTo>
                <a:cubicBezTo>
                  <a:pt x="4915" y="7823"/>
                  <a:pt x="4801" y="7838"/>
                  <a:pt x="4787" y="7789"/>
                </a:cubicBezTo>
                <a:cubicBezTo>
                  <a:pt x="4770" y="7728"/>
                  <a:pt x="4782" y="7629"/>
                  <a:pt x="4837" y="7590"/>
                </a:cubicBezTo>
                <a:cubicBezTo>
                  <a:pt x="4890" y="7552"/>
                  <a:pt x="4970" y="7523"/>
                  <a:pt x="5035" y="7541"/>
                </a:cubicBezTo>
                <a:cubicBezTo>
                  <a:pt x="5089" y="7555"/>
                  <a:pt x="5122" y="7602"/>
                  <a:pt x="5159" y="7640"/>
                </a:cubicBezTo>
                <a:cubicBezTo>
                  <a:pt x="5210" y="7692"/>
                  <a:pt x="5233" y="7759"/>
                  <a:pt x="5283" y="7813"/>
                </a:cubicBezTo>
                <a:cubicBezTo>
                  <a:pt x="5328" y="7861"/>
                  <a:pt x="5356" y="7896"/>
                  <a:pt x="5407" y="7938"/>
                </a:cubicBezTo>
              </a:path>
              <a:path w="5607" h="2605">
                <a:moveTo>
                  <a:pt x="5655" y="7417"/>
                </a:moveTo>
                <a:cubicBezTo>
                  <a:pt x="5674" y="7481"/>
                  <a:pt x="5688" y="7591"/>
                  <a:pt x="5730" y="7640"/>
                </a:cubicBezTo>
                <a:cubicBezTo>
                  <a:pt x="5784" y="7703"/>
                  <a:pt x="5879" y="7779"/>
                  <a:pt x="5953" y="7813"/>
                </a:cubicBezTo>
                <a:cubicBezTo>
                  <a:pt x="6015" y="7841"/>
                  <a:pt x="6061" y="7838"/>
                  <a:pt x="6127" y="7838"/>
                </a:cubicBezTo>
              </a:path>
              <a:path w="5607" h="2605">
                <a:moveTo>
                  <a:pt x="5928" y="7392"/>
                </a:moveTo>
                <a:cubicBezTo>
                  <a:pt x="5788" y="7532"/>
                  <a:pt x="5722" y="7635"/>
                  <a:pt x="5606" y="7764"/>
                </a:cubicBezTo>
                <a:cubicBezTo>
                  <a:pt x="5559" y="7816"/>
                  <a:pt x="5538" y="7850"/>
                  <a:pt x="5507" y="7913"/>
                </a:cubicBezTo>
              </a:path>
              <a:path w="5607" h="2605">
                <a:moveTo>
                  <a:pt x="5159" y="8409"/>
                </a:moveTo>
                <a:cubicBezTo>
                  <a:pt x="5271" y="8560"/>
                  <a:pt x="5365" y="8653"/>
                  <a:pt x="5482" y="8781"/>
                </a:cubicBezTo>
                <a:cubicBezTo>
                  <a:pt x="5566" y="8873"/>
                  <a:pt x="5617" y="8901"/>
                  <a:pt x="5730" y="8954"/>
                </a:cubicBezTo>
                <a:cubicBezTo>
                  <a:pt x="5778" y="8978"/>
                  <a:pt x="5792" y="8987"/>
                  <a:pt x="5829" y="8979"/>
                </a:cubicBezTo>
              </a:path>
              <a:path w="5607" h="2605">
                <a:moveTo>
                  <a:pt x="5581" y="8458"/>
                </a:moveTo>
                <a:cubicBezTo>
                  <a:pt x="5469" y="8586"/>
                  <a:pt x="5339" y="8765"/>
                  <a:pt x="5209" y="8880"/>
                </a:cubicBezTo>
                <a:cubicBezTo>
                  <a:pt x="5147" y="8935"/>
                  <a:pt x="5151" y="8937"/>
                  <a:pt x="5110" y="9004"/>
                </a:cubicBezTo>
              </a:path>
              <a:path w="5607" h="2605">
                <a:moveTo>
                  <a:pt x="6821" y="7590"/>
                </a:moveTo>
                <a:cubicBezTo>
                  <a:pt x="6910" y="7679"/>
                  <a:pt x="6990" y="7746"/>
                  <a:pt x="7094" y="7813"/>
                </a:cubicBezTo>
                <a:cubicBezTo>
                  <a:pt x="7241" y="7907"/>
                  <a:pt x="7385" y="7987"/>
                  <a:pt x="7541" y="8062"/>
                </a:cubicBezTo>
                <a:cubicBezTo>
                  <a:pt x="7750" y="8162"/>
                  <a:pt x="7955" y="8251"/>
                  <a:pt x="8161" y="8359"/>
                </a:cubicBezTo>
                <a:cubicBezTo>
                  <a:pt x="8326" y="8446"/>
                  <a:pt x="8525" y="8509"/>
                  <a:pt x="8682" y="8607"/>
                </a:cubicBezTo>
                <a:cubicBezTo>
                  <a:pt x="8742" y="8644"/>
                  <a:pt x="8787" y="8676"/>
                  <a:pt x="8855" y="8706"/>
                </a:cubicBezTo>
              </a:path>
              <a:path w="5607" h="2605">
                <a:moveTo>
                  <a:pt x="6598" y="8607"/>
                </a:moveTo>
                <a:cubicBezTo>
                  <a:pt x="6807" y="8511"/>
                  <a:pt x="6953" y="8383"/>
                  <a:pt x="7144" y="8260"/>
                </a:cubicBezTo>
                <a:cubicBezTo>
                  <a:pt x="7346" y="8129"/>
                  <a:pt x="7556" y="8003"/>
                  <a:pt x="7764" y="7888"/>
                </a:cubicBezTo>
                <a:cubicBezTo>
                  <a:pt x="7907" y="7809"/>
                  <a:pt x="8035" y="7677"/>
                  <a:pt x="8186" y="7615"/>
                </a:cubicBezTo>
                <a:cubicBezTo>
                  <a:pt x="8278" y="7577"/>
                  <a:pt x="8344" y="7537"/>
                  <a:pt x="8434" y="7491"/>
                </a:cubicBezTo>
                <a:cubicBezTo>
                  <a:pt x="8477" y="7469"/>
                  <a:pt x="8489" y="7456"/>
                  <a:pt x="8508" y="7491"/>
                </a:cubicBezTo>
              </a:path>
              <a:path w="5607" h="2605">
                <a:moveTo>
                  <a:pt x="9550" y="6796"/>
                </a:moveTo>
                <a:cubicBezTo>
                  <a:pt x="9643" y="6789"/>
                  <a:pt x="9730" y="6772"/>
                  <a:pt x="9823" y="6772"/>
                </a:cubicBezTo>
                <a:cubicBezTo>
                  <a:pt x="9831" y="6772"/>
                  <a:pt x="9839" y="6772"/>
                  <a:pt x="9847" y="6772"/>
                </a:cubicBezTo>
              </a:path>
              <a:path w="5607" h="2605">
                <a:moveTo>
                  <a:pt x="9500" y="6846"/>
                </a:moveTo>
                <a:cubicBezTo>
                  <a:pt x="9449" y="6956"/>
                  <a:pt x="9409" y="7007"/>
                  <a:pt x="9451" y="7119"/>
                </a:cubicBezTo>
                <a:cubicBezTo>
                  <a:pt x="9513" y="7095"/>
                  <a:pt x="9592" y="7095"/>
                  <a:pt x="9649" y="7069"/>
                </a:cubicBezTo>
                <a:cubicBezTo>
                  <a:pt x="9701" y="7046"/>
                  <a:pt x="9765" y="7042"/>
                  <a:pt x="9823" y="7069"/>
                </a:cubicBezTo>
                <a:cubicBezTo>
                  <a:pt x="9924" y="7116"/>
                  <a:pt x="9966" y="7216"/>
                  <a:pt x="9971" y="7317"/>
                </a:cubicBezTo>
                <a:cubicBezTo>
                  <a:pt x="9975" y="7399"/>
                  <a:pt x="9986" y="7436"/>
                  <a:pt x="9897" y="7441"/>
                </a:cubicBezTo>
                <a:cubicBezTo>
                  <a:pt x="9794" y="7447"/>
                  <a:pt x="9726" y="7449"/>
                  <a:pt x="9624" y="7441"/>
                </a:cubicBezTo>
                <a:cubicBezTo>
                  <a:pt x="9583" y="7441"/>
                  <a:pt x="9541" y="7441"/>
                  <a:pt x="9500" y="7441"/>
                </a:cubicBezTo>
              </a:path>
              <a:path w="5607" h="2605">
                <a:moveTo>
                  <a:pt x="9773" y="8582"/>
                </a:moveTo>
                <a:cubicBezTo>
                  <a:pt x="9714" y="8679"/>
                  <a:pt x="9613" y="8808"/>
                  <a:pt x="9624" y="8930"/>
                </a:cubicBezTo>
                <a:cubicBezTo>
                  <a:pt x="9634" y="9037"/>
                  <a:pt x="9672" y="9064"/>
                  <a:pt x="9748" y="9128"/>
                </a:cubicBezTo>
                <a:cubicBezTo>
                  <a:pt x="9835" y="9201"/>
                  <a:pt x="9866" y="9218"/>
                  <a:pt x="9971" y="9252"/>
                </a:cubicBezTo>
                <a:cubicBezTo>
                  <a:pt x="10106" y="9295"/>
                  <a:pt x="10171" y="9244"/>
                  <a:pt x="10294" y="9178"/>
                </a:cubicBezTo>
                <a:cubicBezTo>
                  <a:pt x="10358" y="9143"/>
                  <a:pt x="10389" y="9099"/>
                  <a:pt x="10393" y="9029"/>
                </a:cubicBezTo>
                <a:cubicBezTo>
                  <a:pt x="10400" y="8911"/>
                  <a:pt x="10278" y="8929"/>
                  <a:pt x="10195" y="8954"/>
                </a:cubicBezTo>
                <a:cubicBezTo>
                  <a:pt x="10075" y="8990"/>
                  <a:pt x="9995" y="9051"/>
                  <a:pt x="9971" y="9178"/>
                </a:cubicBezTo>
                <a:cubicBezTo>
                  <a:pt x="9957" y="9248"/>
                  <a:pt x="9979" y="9310"/>
                  <a:pt x="9996" y="9376"/>
                </a:cubicBezTo>
              </a:path>
              <a:path w="5607" h="2605">
                <a:moveTo>
                  <a:pt x="9004" y="8434"/>
                </a:moveTo>
                <a:cubicBezTo>
                  <a:pt x="9096" y="8445"/>
                  <a:pt x="9180" y="8458"/>
                  <a:pt x="9277" y="8458"/>
                </a:cubicBezTo>
                <a:cubicBezTo>
                  <a:pt x="9329" y="8458"/>
                  <a:pt x="9347" y="8457"/>
                  <a:pt x="9376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Ink 5"/>
          <p:cNvSpPr/>
          <p:nvPr/>
        </p:nvSpPr>
        <p:spPr>
          <a:xfrm>
            <a:off x="4367160" y="2554200"/>
            <a:ext cx="812880" cy="1258920"/>
          </a:xfrm>
          <a:custGeom>
            <a:avLst/>
            <a:gdLst/>
            <a:ahLst/>
            <a:rect l="l" t="t" r="r" b="b"/>
            <a:pathLst>
              <a:path w="2259" h="3499">
                <a:moveTo>
                  <a:pt x="12129" y="8806"/>
                </a:moveTo>
                <a:cubicBezTo>
                  <a:pt x="12237" y="8806"/>
                  <a:pt x="12344" y="8806"/>
                  <a:pt x="12452" y="8806"/>
                </a:cubicBezTo>
              </a:path>
              <a:path w="2259" h="3499">
                <a:moveTo>
                  <a:pt x="12774" y="8657"/>
                </a:moveTo>
                <a:cubicBezTo>
                  <a:pt x="12731" y="8883"/>
                  <a:pt x="12706" y="8975"/>
                  <a:pt x="12725" y="9178"/>
                </a:cubicBezTo>
                <a:cubicBezTo>
                  <a:pt x="12735" y="9289"/>
                  <a:pt x="12757" y="9370"/>
                  <a:pt x="12799" y="9475"/>
                </a:cubicBezTo>
              </a:path>
              <a:path w="2259" h="3499">
                <a:moveTo>
                  <a:pt x="13047" y="8657"/>
                </a:moveTo>
                <a:cubicBezTo>
                  <a:pt x="13098" y="8649"/>
                  <a:pt x="13215" y="8620"/>
                  <a:pt x="13246" y="8706"/>
                </a:cubicBezTo>
                <a:cubicBezTo>
                  <a:pt x="13273" y="8781"/>
                  <a:pt x="13256" y="8825"/>
                  <a:pt x="13221" y="8905"/>
                </a:cubicBezTo>
                <a:cubicBezTo>
                  <a:pt x="13176" y="9008"/>
                  <a:pt x="13080" y="9065"/>
                  <a:pt x="13022" y="9153"/>
                </a:cubicBezTo>
                <a:cubicBezTo>
                  <a:pt x="13001" y="9186"/>
                  <a:pt x="12967" y="9327"/>
                  <a:pt x="13022" y="9351"/>
                </a:cubicBezTo>
                <a:cubicBezTo>
                  <a:pt x="13093" y="9382"/>
                  <a:pt x="13251" y="9356"/>
                  <a:pt x="13320" y="9327"/>
                </a:cubicBezTo>
                <a:cubicBezTo>
                  <a:pt x="13337" y="9319"/>
                  <a:pt x="13353" y="9310"/>
                  <a:pt x="13370" y="9302"/>
                </a:cubicBezTo>
              </a:path>
              <a:path w="2259" h="3499">
                <a:moveTo>
                  <a:pt x="13444" y="8954"/>
                </a:moveTo>
                <a:cubicBezTo>
                  <a:pt x="13501" y="9051"/>
                  <a:pt x="13538" y="9123"/>
                  <a:pt x="13618" y="9203"/>
                </a:cubicBezTo>
                <a:cubicBezTo>
                  <a:pt x="13711" y="9296"/>
                  <a:pt x="13799" y="9343"/>
                  <a:pt x="13915" y="9401"/>
                </a:cubicBezTo>
              </a:path>
              <a:path w="2259" h="3499">
                <a:moveTo>
                  <a:pt x="13816" y="8930"/>
                </a:moveTo>
                <a:cubicBezTo>
                  <a:pt x="13739" y="9007"/>
                  <a:pt x="13480" y="9218"/>
                  <a:pt x="13444" y="9351"/>
                </a:cubicBezTo>
                <a:cubicBezTo>
                  <a:pt x="13444" y="9434"/>
                  <a:pt x="13444" y="9450"/>
                  <a:pt x="13444" y="9500"/>
                </a:cubicBezTo>
              </a:path>
              <a:path w="2259" h="3499">
                <a:moveTo>
                  <a:pt x="12948" y="7144"/>
                </a:moveTo>
                <a:cubicBezTo>
                  <a:pt x="13031" y="7121"/>
                  <a:pt x="13116" y="7140"/>
                  <a:pt x="13196" y="7119"/>
                </a:cubicBezTo>
                <a:cubicBezTo>
                  <a:pt x="13213" y="7111"/>
                  <a:pt x="13229" y="7102"/>
                  <a:pt x="13246" y="7094"/>
                </a:cubicBezTo>
              </a:path>
              <a:path w="2259" h="3499">
                <a:moveTo>
                  <a:pt x="12824" y="7169"/>
                </a:moveTo>
                <a:cubicBezTo>
                  <a:pt x="12805" y="7277"/>
                  <a:pt x="12721" y="7405"/>
                  <a:pt x="12849" y="7466"/>
                </a:cubicBezTo>
                <a:cubicBezTo>
                  <a:pt x="12939" y="7509"/>
                  <a:pt x="13027" y="7480"/>
                  <a:pt x="13122" y="7491"/>
                </a:cubicBezTo>
                <a:cubicBezTo>
                  <a:pt x="13237" y="7505"/>
                  <a:pt x="13356" y="7543"/>
                  <a:pt x="13345" y="7689"/>
                </a:cubicBezTo>
                <a:cubicBezTo>
                  <a:pt x="13339" y="7770"/>
                  <a:pt x="13282" y="7942"/>
                  <a:pt x="13196" y="7987"/>
                </a:cubicBezTo>
                <a:cubicBezTo>
                  <a:pt x="13146" y="8013"/>
                  <a:pt x="13035" y="7980"/>
                  <a:pt x="12998" y="7962"/>
                </a:cubicBezTo>
                <a:cubicBezTo>
                  <a:pt x="12874" y="7901"/>
                  <a:pt x="12911" y="7811"/>
                  <a:pt x="12923" y="7689"/>
                </a:cubicBezTo>
              </a:path>
              <a:path w="2259" h="3499">
                <a:moveTo>
                  <a:pt x="13444" y="7516"/>
                </a:moveTo>
                <a:cubicBezTo>
                  <a:pt x="13538" y="7696"/>
                  <a:pt x="13567" y="7800"/>
                  <a:pt x="13742" y="7888"/>
                </a:cubicBezTo>
                <a:cubicBezTo>
                  <a:pt x="13758" y="7896"/>
                  <a:pt x="13775" y="7905"/>
                  <a:pt x="13791" y="7913"/>
                </a:cubicBezTo>
              </a:path>
              <a:path w="2259" h="3499">
                <a:moveTo>
                  <a:pt x="13643" y="7615"/>
                </a:moveTo>
                <a:cubicBezTo>
                  <a:pt x="13485" y="7794"/>
                  <a:pt x="13376" y="7924"/>
                  <a:pt x="13271" y="8136"/>
                </a:cubicBezTo>
              </a:path>
              <a:path w="2259" h="3499">
                <a:moveTo>
                  <a:pt x="12626" y="9674"/>
                </a:moveTo>
                <a:cubicBezTo>
                  <a:pt x="12827" y="9674"/>
                  <a:pt x="13021" y="9675"/>
                  <a:pt x="13221" y="9649"/>
                </a:cubicBezTo>
                <a:cubicBezTo>
                  <a:pt x="13449" y="9619"/>
                  <a:pt x="13691" y="9638"/>
                  <a:pt x="13915" y="9599"/>
                </a:cubicBezTo>
                <a:cubicBezTo>
                  <a:pt x="13973" y="9583"/>
                  <a:pt x="14031" y="9566"/>
                  <a:pt x="14089" y="9550"/>
                </a:cubicBezTo>
              </a:path>
              <a:path w="2259" h="3499">
                <a:moveTo>
                  <a:pt x="12923" y="9996"/>
                </a:moveTo>
                <a:cubicBezTo>
                  <a:pt x="13053" y="9996"/>
                  <a:pt x="13193" y="9993"/>
                  <a:pt x="13320" y="9971"/>
                </a:cubicBezTo>
                <a:cubicBezTo>
                  <a:pt x="13401" y="9945"/>
                  <a:pt x="13433" y="9937"/>
                  <a:pt x="13494" y="9947"/>
                </a:cubicBezTo>
              </a:path>
              <a:path w="2259" h="3499">
                <a:moveTo>
                  <a:pt x="13494" y="9897"/>
                </a:moveTo>
                <a:cubicBezTo>
                  <a:pt x="13633" y="9897"/>
                  <a:pt x="13785" y="9916"/>
                  <a:pt x="13915" y="9872"/>
                </a:cubicBezTo>
                <a:cubicBezTo>
                  <a:pt x="13952" y="9965"/>
                  <a:pt x="13865" y="9987"/>
                  <a:pt x="13816" y="10071"/>
                </a:cubicBezTo>
                <a:cubicBezTo>
                  <a:pt x="13760" y="10167"/>
                  <a:pt x="13779" y="10227"/>
                  <a:pt x="13791" y="10319"/>
                </a:cubicBezTo>
                <a:cubicBezTo>
                  <a:pt x="13803" y="10416"/>
                  <a:pt x="13819" y="10454"/>
                  <a:pt x="13915" y="10468"/>
                </a:cubicBezTo>
              </a:path>
              <a:path w="2259" h="3499">
                <a:moveTo>
                  <a:pt x="14015" y="9897"/>
                </a:moveTo>
                <a:cubicBezTo>
                  <a:pt x="14103" y="10041"/>
                  <a:pt x="14164" y="10148"/>
                  <a:pt x="14263" y="10269"/>
                </a:cubicBezTo>
                <a:cubicBezTo>
                  <a:pt x="14315" y="10348"/>
                  <a:pt x="14335" y="10377"/>
                  <a:pt x="14387" y="10418"/>
                </a:cubicBezTo>
              </a:path>
              <a:path w="2259" h="3499">
                <a:moveTo>
                  <a:pt x="14337" y="10071"/>
                </a:moveTo>
                <a:cubicBezTo>
                  <a:pt x="14123" y="10248"/>
                  <a:pt x="13958" y="10372"/>
                  <a:pt x="13791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Ink 6"/>
          <p:cNvSpPr/>
          <p:nvPr/>
        </p:nvSpPr>
        <p:spPr>
          <a:xfrm>
            <a:off x="973080" y="3544920"/>
            <a:ext cx="125640" cy="563400"/>
          </a:xfrm>
          <a:custGeom>
            <a:avLst/>
            <a:gdLst/>
            <a:ahLst/>
            <a:rect l="l" t="t" r="r" b="b"/>
            <a:pathLst>
              <a:path w="348" h="1564">
                <a:moveTo>
                  <a:pt x="3051" y="9847"/>
                </a:moveTo>
                <a:cubicBezTo>
                  <a:pt x="3010" y="9929"/>
                  <a:pt x="2971" y="10017"/>
                  <a:pt x="2927" y="10096"/>
                </a:cubicBezTo>
                <a:cubicBezTo>
                  <a:pt x="2861" y="10215"/>
                  <a:pt x="2834" y="10342"/>
                  <a:pt x="2778" y="10468"/>
                </a:cubicBezTo>
                <a:cubicBezTo>
                  <a:pt x="2704" y="10635"/>
                  <a:pt x="2681" y="10803"/>
                  <a:pt x="2704" y="10988"/>
                </a:cubicBezTo>
                <a:cubicBezTo>
                  <a:pt x="2721" y="11124"/>
                  <a:pt x="2797" y="11292"/>
                  <a:pt x="2902" y="11385"/>
                </a:cubicBezTo>
                <a:cubicBezTo>
                  <a:pt x="2919" y="11393"/>
                  <a:pt x="2935" y="11402"/>
                  <a:pt x="2952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Ink 7"/>
          <p:cNvSpPr/>
          <p:nvPr/>
        </p:nvSpPr>
        <p:spPr>
          <a:xfrm>
            <a:off x="1276200" y="3687840"/>
            <a:ext cx="3002040" cy="571320"/>
          </a:xfrm>
          <a:custGeom>
            <a:avLst/>
            <a:gdLst/>
            <a:ahLst/>
            <a:rect l="l" t="t" r="r" b="b"/>
            <a:pathLst>
              <a:path w="8335" h="1589">
                <a:moveTo>
                  <a:pt x="3621" y="10666"/>
                </a:moveTo>
                <a:cubicBezTo>
                  <a:pt x="3668" y="10600"/>
                  <a:pt x="3709" y="10536"/>
                  <a:pt x="3795" y="10517"/>
                </a:cubicBezTo>
                <a:cubicBezTo>
                  <a:pt x="3898" y="10494"/>
                  <a:pt x="3938" y="10517"/>
                  <a:pt x="3969" y="10592"/>
                </a:cubicBezTo>
                <a:cubicBezTo>
                  <a:pt x="3999" y="10665"/>
                  <a:pt x="4011" y="10784"/>
                  <a:pt x="3994" y="10864"/>
                </a:cubicBezTo>
                <a:cubicBezTo>
                  <a:pt x="3969" y="10983"/>
                  <a:pt x="3942" y="11132"/>
                  <a:pt x="3870" y="11237"/>
                </a:cubicBezTo>
                <a:cubicBezTo>
                  <a:pt x="3827" y="11300"/>
                  <a:pt x="3753" y="11341"/>
                  <a:pt x="3696" y="11385"/>
                </a:cubicBezTo>
                <a:cubicBezTo>
                  <a:pt x="3647" y="11422"/>
                  <a:pt x="3608" y="11417"/>
                  <a:pt x="3572" y="11361"/>
                </a:cubicBezTo>
                <a:cubicBezTo>
                  <a:pt x="3533" y="11300"/>
                  <a:pt x="3545" y="11199"/>
                  <a:pt x="3572" y="11137"/>
                </a:cubicBezTo>
                <a:cubicBezTo>
                  <a:pt x="3603" y="11065"/>
                  <a:pt x="3646" y="11082"/>
                  <a:pt x="3696" y="11088"/>
                </a:cubicBezTo>
                <a:cubicBezTo>
                  <a:pt x="3768" y="11096"/>
                  <a:pt x="3782" y="11123"/>
                  <a:pt x="3820" y="11187"/>
                </a:cubicBezTo>
                <a:cubicBezTo>
                  <a:pt x="3860" y="11254"/>
                  <a:pt x="3903" y="11296"/>
                  <a:pt x="3969" y="11336"/>
                </a:cubicBezTo>
                <a:cubicBezTo>
                  <a:pt x="4012" y="11358"/>
                  <a:pt x="4023" y="11362"/>
                  <a:pt x="4043" y="11385"/>
                </a:cubicBezTo>
              </a:path>
              <a:path w="8335" h="1589">
                <a:moveTo>
                  <a:pt x="4316" y="10889"/>
                </a:moveTo>
                <a:cubicBezTo>
                  <a:pt x="4323" y="10968"/>
                  <a:pt x="4336" y="11091"/>
                  <a:pt x="4366" y="11162"/>
                </a:cubicBezTo>
                <a:cubicBezTo>
                  <a:pt x="4397" y="11236"/>
                  <a:pt x="4527" y="11369"/>
                  <a:pt x="4589" y="11410"/>
                </a:cubicBezTo>
                <a:cubicBezTo>
                  <a:pt x="4663" y="11435"/>
                  <a:pt x="4688" y="11444"/>
                  <a:pt x="4738" y="11460"/>
                </a:cubicBezTo>
              </a:path>
              <a:path w="8335" h="1589">
                <a:moveTo>
                  <a:pt x="4638" y="10765"/>
                </a:moveTo>
                <a:cubicBezTo>
                  <a:pt x="4517" y="10912"/>
                  <a:pt x="4386" y="11048"/>
                  <a:pt x="4291" y="11212"/>
                </a:cubicBezTo>
                <a:cubicBezTo>
                  <a:pt x="4266" y="11255"/>
                  <a:pt x="4251" y="11276"/>
                  <a:pt x="4217" y="11311"/>
                </a:cubicBezTo>
              </a:path>
              <a:path w="8335" h="1589">
                <a:moveTo>
                  <a:pt x="4936" y="10765"/>
                </a:moveTo>
                <a:cubicBezTo>
                  <a:pt x="4936" y="10904"/>
                  <a:pt x="4903" y="11083"/>
                  <a:pt x="4961" y="11212"/>
                </a:cubicBezTo>
                <a:cubicBezTo>
                  <a:pt x="4969" y="11228"/>
                  <a:pt x="4978" y="11245"/>
                  <a:pt x="4986" y="11261"/>
                </a:cubicBezTo>
              </a:path>
              <a:path w="8335" h="1589">
                <a:moveTo>
                  <a:pt x="4837" y="10914"/>
                </a:moveTo>
                <a:cubicBezTo>
                  <a:pt x="4930" y="10939"/>
                  <a:pt x="5043" y="10981"/>
                  <a:pt x="5135" y="10988"/>
                </a:cubicBezTo>
                <a:cubicBezTo>
                  <a:pt x="5184" y="10988"/>
                  <a:pt x="5234" y="10988"/>
                  <a:pt x="5283" y="10988"/>
                </a:cubicBezTo>
              </a:path>
              <a:path w="8335" h="1589">
                <a:moveTo>
                  <a:pt x="5581" y="10616"/>
                </a:moveTo>
                <a:cubicBezTo>
                  <a:pt x="5682" y="10640"/>
                  <a:pt x="5766" y="10685"/>
                  <a:pt x="5854" y="10641"/>
                </a:cubicBezTo>
              </a:path>
              <a:path w="8335" h="1589">
                <a:moveTo>
                  <a:pt x="5507" y="10567"/>
                </a:moveTo>
                <a:cubicBezTo>
                  <a:pt x="5486" y="10641"/>
                  <a:pt x="5420" y="10740"/>
                  <a:pt x="5432" y="10815"/>
                </a:cubicBezTo>
                <a:cubicBezTo>
                  <a:pt x="5447" y="10910"/>
                  <a:pt x="5478" y="10922"/>
                  <a:pt x="5531" y="10914"/>
                </a:cubicBezTo>
                <a:cubicBezTo>
                  <a:pt x="5595" y="10905"/>
                  <a:pt x="5623" y="10855"/>
                  <a:pt x="5680" y="10840"/>
                </a:cubicBezTo>
                <a:cubicBezTo>
                  <a:pt x="5753" y="10821"/>
                  <a:pt x="5837" y="10882"/>
                  <a:pt x="5879" y="10939"/>
                </a:cubicBezTo>
                <a:cubicBezTo>
                  <a:pt x="5943" y="11027"/>
                  <a:pt x="5989" y="11153"/>
                  <a:pt x="6003" y="11261"/>
                </a:cubicBezTo>
                <a:cubicBezTo>
                  <a:pt x="6015" y="11352"/>
                  <a:pt x="6016" y="11441"/>
                  <a:pt x="5953" y="11509"/>
                </a:cubicBezTo>
                <a:cubicBezTo>
                  <a:pt x="5896" y="11571"/>
                  <a:pt x="5864" y="11605"/>
                  <a:pt x="5779" y="11609"/>
                </a:cubicBezTo>
                <a:cubicBezTo>
                  <a:pt x="5685" y="11613"/>
                  <a:pt x="5566" y="11537"/>
                  <a:pt x="5507" y="11460"/>
                </a:cubicBezTo>
                <a:cubicBezTo>
                  <a:pt x="5468" y="11409"/>
                  <a:pt x="5482" y="11345"/>
                  <a:pt x="5482" y="11286"/>
                </a:cubicBezTo>
              </a:path>
              <a:path w="8335" h="1589">
                <a:moveTo>
                  <a:pt x="6028" y="10269"/>
                </a:moveTo>
                <a:cubicBezTo>
                  <a:pt x="6214" y="10535"/>
                  <a:pt x="6355" y="10802"/>
                  <a:pt x="6375" y="11137"/>
                </a:cubicBezTo>
                <a:cubicBezTo>
                  <a:pt x="6382" y="11259"/>
                  <a:pt x="6326" y="11386"/>
                  <a:pt x="6251" y="11485"/>
                </a:cubicBezTo>
                <a:cubicBezTo>
                  <a:pt x="6226" y="11518"/>
                  <a:pt x="6095" y="11636"/>
                  <a:pt x="6052" y="11633"/>
                </a:cubicBezTo>
                <a:cubicBezTo>
                  <a:pt x="6004" y="11610"/>
                  <a:pt x="5988" y="11603"/>
                  <a:pt x="6003" y="11559"/>
                </a:cubicBezTo>
              </a:path>
              <a:path w="8335" h="1589">
                <a:moveTo>
                  <a:pt x="6772" y="10368"/>
                </a:moveTo>
                <a:cubicBezTo>
                  <a:pt x="6729" y="10496"/>
                  <a:pt x="6662" y="10601"/>
                  <a:pt x="6648" y="10740"/>
                </a:cubicBezTo>
                <a:cubicBezTo>
                  <a:pt x="6634" y="10879"/>
                  <a:pt x="6653" y="11029"/>
                  <a:pt x="6697" y="11162"/>
                </a:cubicBezTo>
                <a:cubicBezTo>
                  <a:pt x="6733" y="11269"/>
                  <a:pt x="6819" y="11475"/>
                  <a:pt x="6921" y="11534"/>
                </a:cubicBezTo>
                <a:cubicBezTo>
                  <a:pt x="6937" y="11534"/>
                  <a:pt x="6954" y="11534"/>
                  <a:pt x="6970" y="11534"/>
                </a:cubicBezTo>
              </a:path>
              <a:path w="8335" h="1589">
                <a:moveTo>
                  <a:pt x="7069" y="10740"/>
                </a:moveTo>
                <a:cubicBezTo>
                  <a:pt x="7120" y="10842"/>
                  <a:pt x="7178" y="10973"/>
                  <a:pt x="7243" y="11063"/>
                </a:cubicBezTo>
                <a:cubicBezTo>
                  <a:pt x="7334" y="11189"/>
                  <a:pt x="7437" y="11316"/>
                  <a:pt x="7541" y="11435"/>
                </a:cubicBezTo>
                <a:cubicBezTo>
                  <a:pt x="7597" y="11493"/>
                  <a:pt x="7624" y="11512"/>
                  <a:pt x="7689" y="11509"/>
                </a:cubicBezTo>
              </a:path>
              <a:path w="8335" h="1589">
                <a:moveTo>
                  <a:pt x="7417" y="10815"/>
                </a:moveTo>
                <a:cubicBezTo>
                  <a:pt x="7308" y="10966"/>
                  <a:pt x="7198" y="11146"/>
                  <a:pt x="7069" y="11286"/>
                </a:cubicBezTo>
                <a:cubicBezTo>
                  <a:pt x="7041" y="11316"/>
                  <a:pt x="7029" y="11324"/>
                  <a:pt x="7020" y="11361"/>
                </a:cubicBezTo>
              </a:path>
              <a:path w="8335" h="1589">
                <a:moveTo>
                  <a:pt x="7714" y="11063"/>
                </a:moveTo>
                <a:cubicBezTo>
                  <a:pt x="7912" y="11102"/>
                  <a:pt x="7944" y="11118"/>
                  <a:pt x="8062" y="11112"/>
                </a:cubicBezTo>
              </a:path>
              <a:path w="8335" h="1589">
                <a:moveTo>
                  <a:pt x="8359" y="10840"/>
                </a:moveTo>
                <a:cubicBezTo>
                  <a:pt x="8315" y="10934"/>
                  <a:pt x="8270" y="11037"/>
                  <a:pt x="8260" y="11137"/>
                </a:cubicBezTo>
                <a:cubicBezTo>
                  <a:pt x="8252" y="11211"/>
                  <a:pt x="8269" y="11368"/>
                  <a:pt x="8310" y="11435"/>
                </a:cubicBezTo>
                <a:cubicBezTo>
                  <a:pt x="8356" y="11510"/>
                  <a:pt x="8518" y="11576"/>
                  <a:pt x="8607" y="11559"/>
                </a:cubicBezTo>
                <a:cubicBezTo>
                  <a:pt x="8705" y="11540"/>
                  <a:pt x="8781" y="11435"/>
                  <a:pt x="8830" y="11361"/>
                </a:cubicBezTo>
                <a:cubicBezTo>
                  <a:pt x="8879" y="11287"/>
                  <a:pt x="8832" y="11239"/>
                  <a:pt x="8781" y="11187"/>
                </a:cubicBezTo>
                <a:cubicBezTo>
                  <a:pt x="8706" y="11206"/>
                  <a:pt x="8652" y="11248"/>
                  <a:pt x="8632" y="11336"/>
                </a:cubicBezTo>
                <a:cubicBezTo>
                  <a:pt x="8611" y="11431"/>
                  <a:pt x="8646" y="11554"/>
                  <a:pt x="8731" y="11609"/>
                </a:cubicBezTo>
                <a:cubicBezTo>
                  <a:pt x="8756" y="11617"/>
                  <a:pt x="8781" y="11625"/>
                  <a:pt x="8806" y="11633"/>
                </a:cubicBezTo>
              </a:path>
              <a:path w="8335" h="1589">
                <a:moveTo>
                  <a:pt x="9054" y="10244"/>
                </a:moveTo>
                <a:cubicBezTo>
                  <a:pt x="9264" y="10473"/>
                  <a:pt x="9359" y="10640"/>
                  <a:pt x="9451" y="10939"/>
                </a:cubicBezTo>
                <a:cubicBezTo>
                  <a:pt x="9504" y="11110"/>
                  <a:pt x="9512" y="11234"/>
                  <a:pt x="9475" y="11410"/>
                </a:cubicBezTo>
                <a:cubicBezTo>
                  <a:pt x="9452" y="11518"/>
                  <a:pt x="9392" y="11637"/>
                  <a:pt x="9302" y="11708"/>
                </a:cubicBezTo>
                <a:cubicBezTo>
                  <a:pt x="9255" y="11745"/>
                  <a:pt x="9200" y="11789"/>
                  <a:pt x="9153" y="11757"/>
                </a:cubicBezTo>
                <a:cubicBezTo>
                  <a:pt x="9115" y="11720"/>
                  <a:pt x="9117" y="11697"/>
                  <a:pt x="9178" y="11658"/>
                </a:cubicBezTo>
              </a:path>
              <a:path w="8335" h="1589">
                <a:moveTo>
                  <a:pt x="9847" y="11162"/>
                </a:moveTo>
                <a:cubicBezTo>
                  <a:pt x="9976" y="11184"/>
                  <a:pt x="10091" y="11212"/>
                  <a:pt x="10220" y="11212"/>
                </a:cubicBezTo>
              </a:path>
              <a:path w="8335" h="1589">
                <a:moveTo>
                  <a:pt x="9897" y="11410"/>
                </a:moveTo>
                <a:cubicBezTo>
                  <a:pt x="10074" y="11483"/>
                  <a:pt x="10135" y="11497"/>
                  <a:pt x="10319" y="11460"/>
                </a:cubicBezTo>
              </a:path>
              <a:path w="8335" h="1589">
                <a:moveTo>
                  <a:pt x="10914" y="10765"/>
                </a:moveTo>
                <a:cubicBezTo>
                  <a:pt x="10793" y="10912"/>
                  <a:pt x="10691" y="11006"/>
                  <a:pt x="10691" y="11212"/>
                </a:cubicBezTo>
                <a:cubicBezTo>
                  <a:pt x="10691" y="11322"/>
                  <a:pt x="10716" y="11472"/>
                  <a:pt x="10790" y="11559"/>
                </a:cubicBezTo>
                <a:cubicBezTo>
                  <a:pt x="10882" y="11668"/>
                  <a:pt x="11026" y="11764"/>
                  <a:pt x="11162" y="11807"/>
                </a:cubicBezTo>
                <a:cubicBezTo>
                  <a:pt x="11325" y="11859"/>
                  <a:pt x="11483" y="11832"/>
                  <a:pt x="11633" y="11757"/>
                </a:cubicBezTo>
                <a:cubicBezTo>
                  <a:pt x="11720" y="11714"/>
                  <a:pt x="11839" y="11581"/>
                  <a:pt x="11857" y="11485"/>
                </a:cubicBezTo>
                <a:cubicBezTo>
                  <a:pt x="11903" y="11245"/>
                  <a:pt x="11891" y="11135"/>
                  <a:pt x="11782" y="10939"/>
                </a:cubicBezTo>
                <a:cubicBezTo>
                  <a:pt x="11718" y="10823"/>
                  <a:pt x="11628" y="10737"/>
                  <a:pt x="11485" y="10716"/>
                </a:cubicBezTo>
                <a:cubicBezTo>
                  <a:pt x="11352" y="10696"/>
                  <a:pt x="11218" y="10769"/>
                  <a:pt x="11112" y="10840"/>
                </a:cubicBezTo>
                <a:cubicBezTo>
                  <a:pt x="11079" y="10865"/>
                  <a:pt x="11046" y="10889"/>
                  <a:pt x="11013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Ink 8"/>
          <p:cNvSpPr/>
          <p:nvPr/>
        </p:nvSpPr>
        <p:spPr>
          <a:xfrm>
            <a:off x="704880" y="4313160"/>
            <a:ext cx="1482840" cy="419040"/>
          </a:xfrm>
          <a:custGeom>
            <a:avLst/>
            <a:gdLst/>
            <a:ahLst/>
            <a:rect l="l" t="t" r="r" b="b"/>
            <a:pathLst>
              <a:path w="4118" h="1166">
                <a:moveTo>
                  <a:pt x="2009" y="12105"/>
                </a:moveTo>
                <a:cubicBezTo>
                  <a:pt x="2021" y="12013"/>
                  <a:pt x="2035" y="11986"/>
                  <a:pt x="2133" y="11981"/>
                </a:cubicBezTo>
                <a:cubicBezTo>
                  <a:pt x="2183" y="11978"/>
                  <a:pt x="2289" y="11992"/>
                  <a:pt x="2307" y="12055"/>
                </a:cubicBezTo>
                <a:cubicBezTo>
                  <a:pt x="2332" y="12141"/>
                  <a:pt x="2352" y="12235"/>
                  <a:pt x="2356" y="12328"/>
                </a:cubicBezTo>
                <a:cubicBezTo>
                  <a:pt x="2359" y="12397"/>
                  <a:pt x="2356" y="12489"/>
                  <a:pt x="2332" y="12551"/>
                </a:cubicBezTo>
                <a:cubicBezTo>
                  <a:pt x="2298" y="12641"/>
                  <a:pt x="2266" y="12707"/>
                  <a:pt x="2183" y="12750"/>
                </a:cubicBezTo>
                <a:cubicBezTo>
                  <a:pt x="2109" y="12788"/>
                  <a:pt x="2052" y="12772"/>
                  <a:pt x="1984" y="12725"/>
                </a:cubicBezTo>
                <a:cubicBezTo>
                  <a:pt x="1944" y="12697"/>
                  <a:pt x="1945" y="12569"/>
                  <a:pt x="1960" y="12526"/>
                </a:cubicBezTo>
                <a:cubicBezTo>
                  <a:pt x="1984" y="12458"/>
                  <a:pt x="2065" y="12468"/>
                  <a:pt x="2108" y="12502"/>
                </a:cubicBezTo>
                <a:cubicBezTo>
                  <a:pt x="2183" y="12562"/>
                  <a:pt x="2261" y="12643"/>
                  <a:pt x="2307" y="12725"/>
                </a:cubicBezTo>
                <a:cubicBezTo>
                  <a:pt x="2355" y="12811"/>
                  <a:pt x="2361" y="12860"/>
                  <a:pt x="2431" y="12923"/>
                </a:cubicBezTo>
                <a:cubicBezTo>
                  <a:pt x="2469" y="12962"/>
                  <a:pt x="2471" y="12979"/>
                  <a:pt x="2505" y="12973"/>
                </a:cubicBezTo>
              </a:path>
              <a:path w="4118" h="1166">
                <a:moveTo>
                  <a:pt x="2679" y="12353"/>
                </a:moveTo>
                <a:cubicBezTo>
                  <a:pt x="2714" y="12423"/>
                  <a:pt x="2733" y="12514"/>
                  <a:pt x="2778" y="12576"/>
                </a:cubicBezTo>
                <a:cubicBezTo>
                  <a:pt x="2853" y="12678"/>
                  <a:pt x="2935" y="12811"/>
                  <a:pt x="3026" y="12898"/>
                </a:cubicBezTo>
                <a:cubicBezTo>
                  <a:pt x="3066" y="12936"/>
                  <a:pt x="3128" y="12968"/>
                  <a:pt x="3175" y="12998"/>
                </a:cubicBezTo>
              </a:path>
              <a:path w="4118" h="1166">
                <a:moveTo>
                  <a:pt x="3076" y="12303"/>
                </a:moveTo>
                <a:cubicBezTo>
                  <a:pt x="2991" y="12413"/>
                  <a:pt x="2922" y="12496"/>
                  <a:pt x="2877" y="12626"/>
                </a:cubicBezTo>
                <a:cubicBezTo>
                  <a:pt x="2850" y="12705"/>
                  <a:pt x="2816" y="12775"/>
                  <a:pt x="2778" y="12849"/>
                </a:cubicBezTo>
                <a:cubicBezTo>
                  <a:pt x="2754" y="12897"/>
                  <a:pt x="2745" y="12911"/>
                  <a:pt x="2753" y="12948"/>
                </a:cubicBezTo>
              </a:path>
              <a:path w="4118" h="1166">
                <a:moveTo>
                  <a:pt x="3497" y="12378"/>
                </a:moveTo>
                <a:cubicBezTo>
                  <a:pt x="3490" y="12482"/>
                  <a:pt x="3485" y="12531"/>
                  <a:pt x="3497" y="12626"/>
                </a:cubicBezTo>
                <a:cubicBezTo>
                  <a:pt x="3508" y="12711"/>
                  <a:pt x="3508" y="12790"/>
                  <a:pt x="3522" y="12874"/>
                </a:cubicBezTo>
              </a:path>
              <a:path w="4118" h="1166">
                <a:moveTo>
                  <a:pt x="3448" y="12576"/>
                </a:moveTo>
                <a:cubicBezTo>
                  <a:pt x="3552" y="12601"/>
                  <a:pt x="3644" y="12623"/>
                  <a:pt x="3746" y="12650"/>
                </a:cubicBezTo>
              </a:path>
              <a:path w="4118" h="1166">
                <a:moveTo>
                  <a:pt x="4142" y="12179"/>
                </a:moveTo>
                <a:cubicBezTo>
                  <a:pt x="4226" y="12179"/>
                  <a:pt x="4289" y="12189"/>
                  <a:pt x="4366" y="12204"/>
                </a:cubicBezTo>
              </a:path>
              <a:path w="4118" h="1166">
                <a:moveTo>
                  <a:pt x="4167" y="12204"/>
                </a:moveTo>
                <a:cubicBezTo>
                  <a:pt x="4108" y="12267"/>
                  <a:pt x="4002" y="12345"/>
                  <a:pt x="4043" y="12452"/>
                </a:cubicBezTo>
                <a:cubicBezTo>
                  <a:pt x="4059" y="12494"/>
                  <a:pt x="4125" y="12536"/>
                  <a:pt x="4167" y="12526"/>
                </a:cubicBezTo>
                <a:cubicBezTo>
                  <a:pt x="4250" y="12507"/>
                  <a:pt x="4311" y="12464"/>
                  <a:pt x="4390" y="12502"/>
                </a:cubicBezTo>
                <a:cubicBezTo>
                  <a:pt x="4432" y="12522"/>
                  <a:pt x="4477" y="12633"/>
                  <a:pt x="4490" y="12675"/>
                </a:cubicBezTo>
                <a:cubicBezTo>
                  <a:pt x="4511" y="12741"/>
                  <a:pt x="4529" y="12860"/>
                  <a:pt x="4490" y="12923"/>
                </a:cubicBezTo>
                <a:cubicBezTo>
                  <a:pt x="4445" y="12996"/>
                  <a:pt x="4365" y="13018"/>
                  <a:pt x="4291" y="13022"/>
                </a:cubicBezTo>
                <a:cubicBezTo>
                  <a:pt x="4248" y="13024"/>
                  <a:pt x="4171" y="12982"/>
                  <a:pt x="4142" y="12948"/>
                </a:cubicBezTo>
                <a:cubicBezTo>
                  <a:pt x="4123" y="12907"/>
                  <a:pt x="4115" y="12901"/>
                  <a:pt x="4118" y="12874"/>
                </a:cubicBezTo>
              </a:path>
              <a:path w="4118" h="1166">
                <a:moveTo>
                  <a:pt x="4862" y="12526"/>
                </a:moveTo>
                <a:cubicBezTo>
                  <a:pt x="4938" y="12541"/>
                  <a:pt x="4984" y="12551"/>
                  <a:pt x="5060" y="12551"/>
                </a:cubicBezTo>
              </a:path>
              <a:path w="4118" h="1166">
                <a:moveTo>
                  <a:pt x="4812" y="12626"/>
                </a:moveTo>
                <a:cubicBezTo>
                  <a:pt x="4890" y="12691"/>
                  <a:pt x="4890" y="12709"/>
                  <a:pt x="4986" y="12725"/>
                </a:cubicBezTo>
              </a:path>
              <a:path w="4118" h="1166">
                <a:moveTo>
                  <a:pt x="5556" y="12303"/>
                </a:moveTo>
                <a:cubicBezTo>
                  <a:pt x="5509" y="12371"/>
                  <a:pt x="5469" y="12428"/>
                  <a:pt x="5432" y="12502"/>
                </a:cubicBezTo>
                <a:cubicBezTo>
                  <a:pt x="5396" y="12574"/>
                  <a:pt x="5370" y="12645"/>
                  <a:pt x="5358" y="12725"/>
                </a:cubicBezTo>
                <a:cubicBezTo>
                  <a:pt x="5341" y="12841"/>
                  <a:pt x="5426" y="12915"/>
                  <a:pt x="5482" y="12998"/>
                </a:cubicBezTo>
                <a:cubicBezTo>
                  <a:pt x="5536" y="13078"/>
                  <a:pt x="5573" y="13070"/>
                  <a:pt x="5655" y="13122"/>
                </a:cubicBezTo>
                <a:cubicBezTo>
                  <a:pt x="5708" y="13155"/>
                  <a:pt x="5769" y="13142"/>
                  <a:pt x="5829" y="13122"/>
                </a:cubicBezTo>
                <a:cubicBezTo>
                  <a:pt x="5889" y="13102"/>
                  <a:pt x="5970" y="13024"/>
                  <a:pt x="6003" y="12973"/>
                </a:cubicBezTo>
                <a:cubicBezTo>
                  <a:pt x="6062" y="12881"/>
                  <a:pt x="6073" y="12756"/>
                  <a:pt x="6077" y="12650"/>
                </a:cubicBezTo>
                <a:cubicBezTo>
                  <a:pt x="6079" y="12588"/>
                  <a:pt x="6066" y="12428"/>
                  <a:pt x="6028" y="12378"/>
                </a:cubicBezTo>
                <a:cubicBezTo>
                  <a:pt x="6013" y="12358"/>
                  <a:pt x="5883" y="12241"/>
                  <a:pt x="5854" y="12229"/>
                </a:cubicBezTo>
                <a:cubicBezTo>
                  <a:pt x="5788" y="12202"/>
                  <a:pt x="5715" y="12205"/>
                  <a:pt x="5655" y="12254"/>
                </a:cubicBezTo>
                <a:cubicBezTo>
                  <a:pt x="5630" y="12279"/>
                  <a:pt x="5606" y="12303"/>
                  <a:pt x="5581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Ink 9"/>
          <p:cNvSpPr/>
          <p:nvPr/>
        </p:nvSpPr>
        <p:spPr>
          <a:xfrm>
            <a:off x="2678040" y="4375080"/>
            <a:ext cx="1162080" cy="366840"/>
          </a:xfrm>
          <a:custGeom>
            <a:avLst/>
            <a:gdLst/>
            <a:ahLst/>
            <a:rect l="l" t="t" r="r" b="b"/>
            <a:pathLst>
              <a:path w="3226" h="1018">
                <a:moveTo>
                  <a:pt x="7441" y="12204"/>
                </a:moveTo>
                <a:cubicBezTo>
                  <a:pt x="7507" y="12286"/>
                  <a:pt x="7507" y="12390"/>
                  <a:pt x="7565" y="12477"/>
                </a:cubicBezTo>
                <a:cubicBezTo>
                  <a:pt x="7637" y="12585"/>
                  <a:pt x="7750" y="12704"/>
                  <a:pt x="7838" y="12799"/>
                </a:cubicBezTo>
                <a:cubicBezTo>
                  <a:pt x="7919" y="12887"/>
                  <a:pt x="7989" y="13000"/>
                  <a:pt x="8086" y="13072"/>
                </a:cubicBezTo>
                <a:cubicBezTo>
                  <a:pt x="8103" y="13080"/>
                  <a:pt x="8119" y="13089"/>
                  <a:pt x="8136" y="13097"/>
                </a:cubicBezTo>
              </a:path>
              <a:path w="3226" h="1018">
                <a:moveTo>
                  <a:pt x="7938" y="12154"/>
                </a:moveTo>
                <a:cubicBezTo>
                  <a:pt x="7871" y="12245"/>
                  <a:pt x="7800" y="12334"/>
                  <a:pt x="7739" y="12427"/>
                </a:cubicBezTo>
                <a:cubicBezTo>
                  <a:pt x="7678" y="12520"/>
                  <a:pt x="7621" y="12610"/>
                  <a:pt x="7565" y="12700"/>
                </a:cubicBezTo>
                <a:cubicBezTo>
                  <a:pt x="7533" y="12751"/>
                  <a:pt x="7495" y="12795"/>
                  <a:pt x="7466" y="12849"/>
                </a:cubicBezTo>
                <a:cubicBezTo>
                  <a:pt x="7458" y="12865"/>
                  <a:pt x="7449" y="12882"/>
                  <a:pt x="7441" y="12898"/>
                </a:cubicBezTo>
              </a:path>
              <a:path w="3226" h="1018">
                <a:moveTo>
                  <a:pt x="8037" y="12601"/>
                </a:moveTo>
                <a:cubicBezTo>
                  <a:pt x="8154" y="12614"/>
                  <a:pt x="8246" y="12626"/>
                  <a:pt x="8359" y="12626"/>
                </a:cubicBezTo>
              </a:path>
              <a:path w="3226" h="1018">
                <a:moveTo>
                  <a:pt x="8806" y="12303"/>
                </a:moveTo>
                <a:cubicBezTo>
                  <a:pt x="8759" y="12378"/>
                  <a:pt x="8699" y="12433"/>
                  <a:pt x="8682" y="12526"/>
                </a:cubicBezTo>
                <a:cubicBezTo>
                  <a:pt x="8667" y="12609"/>
                  <a:pt x="8657" y="12688"/>
                  <a:pt x="8657" y="12774"/>
                </a:cubicBezTo>
                <a:cubicBezTo>
                  <a:pt x="8657" y="12876"/>
                  <a:pt x="8677" y="13002"/>
                  <a:pt x="8756" y="13072"/>
                </a:cubicBezTo>
                <a:cubicBezTo>
                  <a:pt x="8832" y="13139"/>
                  <a:pt x="8941" y="13132"/>
                  <a:pt x="9029" y="13097"/>
                </a:cubicBezTo>
                <a:cubicBezTo>
                  <a:pt x="9065" y="13083"/>
                  <a:pt x="9122" y="12959"/>
                  <a:pt x="9128" y="12923"/>
                </a:cubicBezTo>
                <a:cubicBezTo>
                  <a:pt x="9136" y="12878"/>
                  <a:pt x="9103" y="12749"/>
                  <a:pt x="9054" y="12725"/>
                </a:cubicBezTo>
                <a:cubicBezTo>
                  <a:pt x="9000" y="12698"/>
                  <a:pt x="8890" y="12771"/>
                  <a:pt x="8880" y="12824"/>
                </a:cubicBezTo>
                <a:cubicBezTo>
                  <a:pt x="8863" y="12917"/>
                  <a:pt x="8901" y="12979"/>
                  <a:pt x="8954" y="13047"/>
                </a:cubicBezTo>
              </a:path>
              <a:path w="3226" h="1018">
                <a:moveTo>
                  <a:pt x="9327" y="12477"/>
                </a:moveTo>
                <a:cubicBezTo>
                  <a:pt x="9401" y="12457"/>
                  <a:pt x="9497" y="12433"/>
                  <a:pt x="9575" y="12452"/>
                </a:cubicBezTo>
                <a:cubicBezTo>
                  <a:pt x="9623" y="12476"/>
                  <a:pt x="9637" y="12485"/>
                  <a:pt x="9674" y="12477"/>
                </a:cubicBezTo>
              </a:path>
              <a:path w="3226" h="1018">
                <a:moveTo>
                  <a:pt x="9475" y="12774"/>
                </a:moveTo>
                <a:cubicBezTo>
                  <a:pt x="9632" y="12794"/>
                  <a:pt x="9656" y="12802"/>
                  <a:pt x="9748" y="12799"/>
                </a:cubicBezTo>
              </a:path>
              <a:path w="3226" h="1018">
                <a:moveTo>
                  <a:pt x="10220" y="12328"/>
                </a:moveTo>
                <a:cubicBezTo>
                  <a:pt x="10161" y="12387"/>
                  <a:pt x="10119" y="12432"/>
                  <a:pt x="10071" y="12502"/>
                </a:cubicBezTo>
                <a:cubicBezTo>
                  <a:pt x="10019" y="12578"/>
                  <a:pt x="10000" y="12657"/>
                  <a:pt x="9996" y="12750"/>
                </a:cubicBezTo>
                <a:cubicBezTo>
                  <a:pt x="9992" y="12846"/>
                  <a:pt x="10011" y="12930"/>
                  <a:pt x="10071" y="12998"/>
                </a:cubicBezTo>
                <a:cubicBezTo>
                  <a:pt x="10159" y="13097"/>
                  <a:pt x="10210" y="13146"/>
                  <a:pt x="10344" y="13171"/>
                </a:cubicBezTo>
                <a:cubicBezTo>
                  <a:pt x="10393" y="13180"/>
                  <a:pt x="10508" y="13134"/>
                  <a:pt x="10542" y="13097"/>
                </a:cubicBezTo>
                <a:cubicBezTo>
                  <a:pt x="10638" y="12994"/>
                  <a:pt x="10666" y="12859"/>
                  <a:pt x="10666" y="12725"/>
                </a:cubicBezTo>
                <a:cubicBezTo>
                  <a:pt x="10666" y="12620"/>
                  <a:pt x="10634" y="12497"/>
                  <a:pt x="10542" y="12427"/>
                </a:cubicBezTo>
                <a:cubicBezTo>
                  <a:pt x="10485" y="12383"/>
                  <a:pt x="10385" y="12402"/>
                  <a:pt x="10319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Ink 10"/>
          <p:cNvSpPr/>
          <p:nvPr/>
        </p:nvSpPr>
        <p:spPr>
          <a:xfrm>
            <a:off x="544680" y="4295880"/>
            <a:ext cx="1777680" cy="1571400"/>
          </a:xfrm>
          <a:custGeom>
            <a:avLst/>
            <a:gdLst/>
            <a:ahLst/>
            <a:rect l="l" t="t" r="r" b="b"/>
            <a:pathLst>
              <a:path w="4937" h="4367">
                <a:moveTo>
                  <a:pt x="3398" y="13246"/>
                </a:moveTo>
                <a:cubicBezTo>
                  <a:pt x="3509" y="13272"/>
                  <a:pt x="3584" y="13295"/>
                  <a:pt x="3696" y="13295"/>
                </a:cubicBezTo>
              </a:path>
              <a:path w="4937" h="4367">
                <a:moveTo>
                  <a:pt x="4217" y="13196"/>
                </a:moveTo>
                <a:cubicBezTo>
                  <a:pt x="4267" y="13196"/>
                  <a:pt x="4316" y="13196"/>
                  <a:pt x="4366" y="13196"/>
                </a:cubicBezTo>
              </a:path>
              <a:path w="4937" h="4367">
                <a:moveTo>
                  <a:pt x="4093" y="13171"/>
                </a:moveTo>
                <a:cubicBezTo>
                  <a:pt x="4047" y="13217"/>
                  <a:pt x="3976" y="13259"/>
                  <a:pt x="4018" y="13320"/>
                </a:cubicBezTo>
                <a:cubicBezTo>
                  <a:pt x="4060" y="13381"/>
                  <a:pt x="4107" y="13375"/>
                  <a:pt x="4167" y="13395"/>
                </a:cubicBezTo>
                <a:cubicBezTo>
                  <a:pt x="4222" y="13413"/>
                  <a:pt x="4294" y="13421"/>
                  <a:pt x="4341" y="13444"/>
                </a:cubicBezTo>
                <a:cubicBezTo>
                  <a:pt x="4384" y="13465"/>
                  <a:pt x="4411" y="13578"/>
                  <a:pt x="4415" y="13618"/>
                </a:cubicBezTo>
                <a:cubicBezTo>
                  <a:pt x="4428" y="13738"/>
                  <a:pt x="4421" y="13805"/>
                  <a:pt x="4341" y="13891"/>
                </a:cubicBezTo>
                <a:cubicBezTo>
                  <a:pt x="4293" y="13943"/>
                  <a:pt x="4210" y="13958"/>
                  <a:pt x="4142" y="13940"/>
                </a:cubicBezTo>
                <a:cubicBezTo>
                  <a:pt x="4099" y="13928"/>
                  <a:pt x="3989" y="13877"/>
                  <a:pt x="3994" y="13816"/>
                </a:cubicBezTo>
                <a:cubicBezTo>
                  <a:pt x="4002" y="13808"/>
                  <a:pt x="4010" y="13799"/>
                  <a:pt x="4018" y="13791"/>
                </a:cubicBezTo>
              </a:path>
              <a:path w="4937" h="4367">
                <a:moveTo>
                  <a:pt x="5333" y="13568"/>
                </a:moveTo>
                <a:cubicBezTo>
                  <a:pt x="5448" y="13589"/>
                  <a:pt x="5528" y="13614"/>
                  <a:pt x="5631" y="13593"/>
                </a:cubicBezTo>
              </a:path>
              <a:path w="4937" h="4367">
                <a:moveTo>
                  <a:pt x="5978" y="13370"/>
                </a:moveTo>
                <a:cubicBezTo>
                  <a:pt x="6080" y="13408"/>
                  <a:pt x="6092" y="13419"/>
                  <a:pt x="6201" y="13419"/>
                </a:cubicBezTo>
              </a:path>
              <a:path w="4937" h="4367">
                <a:moveTo>
                  <a:pt x="5854" y="13320"/>
                </a:moveTo>
                <a:cubicBezTo>
                  <a:pt x="5795" y="13398"/>
                  <a:pt x="5795" y="13409"/>
                  <a:pt x="5829" y="13494"/>
                </a:cubicBezTo>
                <a:cubicBezTo>
                  <a:pt x="5842" y="13526"/>
                  <a:pt x="5878" y="13632"/>
                  <a:pt x="5928" y="13643"/>
                </a:cubicBezTo>
                <a:cubicBezTo>
                  <a:pt x="6017" y="13662"/>
                  <a:pt x="6024" y="13670"/>
                  <a:pt x="6102" y="13717"/>
                </a:cubicBezTo>
                <a:cubicBezTo>
                  <a:pt x="6165" y="13755"/>
                  <a:pt x="6218" y="13808"/>
                  <a:pt x="6201" y="13891"/>
                </a:cubicBezTo>
                <a:cubicBezTo>
                  <a:pt x="6185" y="13972"/>
                  <a:pt x="6069" y="14005"/>
                  <a:pt x="6003" y="13990"/>
                </a:cubicBezTo>
                <a:cubicBezTo>
                  <a:pt x="5930" y="13974"/>
                  <a:pt x="5870" y="13896"/>
                  <a:pt x="5829" y="13841"/>
                </a:cubicBezTo>
                <a:cubicBezTo>
                  <a:pt x="5821" y="13833"/>
                  <a:pt x="5812" y="13824"/>
                  <a:pt x="5804" y="13816"/>
                </a:cubicBezTo>
              </a:path>
              <a:path w="4937" h="4367">
                <a:moveTo>
                  <a:pt x="6449" y="14064"/>
                </a:moveTo>
                <a:cubicBezTo>
                  <a:pt x="6346" y="14094"/>
                  <a:pt x="6291" y="14126"/>
                  <a:pt x="6176" y="14114"/>
                </a:cubicBezTo>
                <a:cubicBezTo>
                  <a:pt x="6004" y="14095"/>
                  <a:pt x="5830" y="14068"/>
                  <a:pt x="5655" y="14064"/>
                </a:cubicBezTo>
                <a:cubicBezTo>
                  <a:pt x="5411" y="14059"/>
                  <a:pt x="5180" y="14043"/>
                  <a:pt x="4936" y="14015"/>
                </a:cubicBezTo>
                <a:cubicBezTo>
                  <a:pt x="4696" y="13988"/>
                  <a:pt x="4457" y="13987"/>
                  <a:pt x="4217" y="13965"/>
                </a:cubicBezTo>
                <a:cubicBezTo>
                  <a:pt x="3960" y="13941"/>
                  <a:pt x="3707" y="13940"/>
                  <a:pt x="3448" y="13940"/>
                </a:cubicBezTo>
                <a:cubicBezTo>
                  <a:pt x="3189" y="13940"/>
                  <a:pt x="2936" y="13953"/>
                  <a:pt x="2679" y="13965"/>
                </a:cubicBezTo>
                <a:cubicBezTo>
                  <a:pt x="2441" y="13976"/>
                  <a:pt x="2222" y="13985"/>
                  <a:pt x="1984" y="14015"/>
                </a:cubicBezTo>
                <a:cubicBezTo>
                  <a:pt x="1885" y="14028"/>
                  <a:pt x="1784" y="14042"/>
                  <a:pt x="1687" y="14064"/>
                </a:cubicBezTo>
                <a:cubicBezTo>
                  <a:pt x="1623" y="14079"/>
                  <a:pt x="1568" y="14102"/>
                  <a:pt x="1513" y="14139"/>
                </a:cubicBezTo>
                <a:cubicBezTo>
                  <a:pt x="1530" y="14131"/>
                  <a:pt x="1546" y="14122"/>
                  <a:pt x="1563" y="14114"/>
                </a:cubicBezTo>
              </a:path>
              <a:path w="4937" h="4367">
                <a:moveTo>
                  <a:pt x="4242" y="11931"/>
                </a:moveTo>
                <a:cubicBezTo>
                  <a:pt x="4231" y="12032"/>
                  <a:pt x="4216" y="12130"/>
                  <a:pt x="4192" y="12229"/>
                </a:cubicBezTo>
                <a:cubicBezTo>
                  <a:pt x="4149" y="12406"/>
                  <a:pt x="4144" y="12593"/>
                  <a:pt x="4118" y="12774"/>
                </a:cubicBezTo>
                <a:cubicBezTo>
                  <a:pt x="4094" y="12941"/>
                  <a:pt x="4091" y="13106"/>
                  <a:pt x="4068" y="13271"/>
                </a:cubicBezTo>
                <a:cubicBezTo>
                  <a:pt x="4054" y="13372"/>
                  <a:pt x="4038" y="13468"/>
                  <a:pt x="4018" y="13568"/>
                </a:cubicBezTo>
              </a:path>
              <a:path w="4937" h="4367">
                <a:moveTo>
                  <a:pt x="3225" y="14511"/>
                </a:moveTo>
                <a:cubicBezTo>
                  <a:pt x="3293" y="14465"/>
                  <a:pt x="3342" y="14461"/>
                  <a:pt x="3423" y="14461"/>
                </a:cubicBezTo>
                <a:cubicBezTo>
                  <a:pt x="3479" y="14461"/>
                  <a:pt x="3492" y="14478"/>
                  <a:pt x="3547" y="14486"/>
                </a:cubicBezTo>
                <a:cubicBezTo>
                  <a:pt x="3535" y="14583"/>
                  <a:pt x="3482" y="14624"/>
                  <a:pt x="3398" y="14684"/>
                </a:cubicBezTo>
                <a:cubicBezTo>
                  <a:pt x="3350" y="14718"/>
                  <a:pt x="3245" y="14772"/>
                  <a:pt x="3225" y="14833"/>
                </a:cubicBezTo>
                <a:cubicBezTo>
                  <a:pt x="3212" y="14874"/>
                  <a:pt x="3182" y="14959"/>
                  <a:pt x="3200" y="15007"/>
                </a:cubicBezTo>
                <a:cubicBezTo>
                  <a:pt x="3221" y="15062"/>
                  <a:pt x="3240" y="15115"/>
                  <a:pt x="3299" y="15156"/>
                </a:cubicBezTo>
                <a:cubicBezTo>
                  <a:pt x="3374" y="15208"/>
                  <a:pt x="3445" y="15173"/>
                  <a:pt x="3522" y="15156"/>
                </a:cubicBezTo>
              </a:path>
              <a:path w="4937" h="4367">
                <a:moveTo>
                  <a:pt x="3721" y="14635"/>
                </a:moveTo>
                <a:cubicBezTo>
                  <a:pt x="3803" y="14833"/>
                  <a:pt x="3823" y="14903"/>
                  <a:pt x="3969" y="15056"/>
                </a:cubicBezTo>
                <a:cubicBezTo>
                  <a:pt x="4015" y="15103"/>
                  <a:pt x="4027" y="15117"/>
                  <a:pt x="4068" y="15131"/>
                </a:cubicBezTo>
              </a:path>
              <a:path w="4937" h="4367">
                <a:moveTo>
                  <a:pt x="3969" y="14560"/>
                </a:moveTo>
                <a:cubicBezTo>
                  <a:pt x="3862" y="14646"/>
                  <a:pt x="3768" y="14736"/>
                  <a:pt x="3671" y="14833"/>
                </a:cubicBezTo>
                <a:cubicBezTo>
                  <a:pt x="3616" y="14888"/>
                  <a:pt x="3495" y="14997"/>
                  <a:pt x="3473" y="15081"/>
                </a:cubicBezTo>
                <a:cubicBezTo>
                  <a:pt x="3473" y="15140"/>
                  <a:pt x="3482" y="15154"/>
                  <a:pt x="3547" y="15106"/>
                </a:cubicBezTo>
              </a:path>
              <a:path w="4937" h="4367">
                <a:moveTo>
                  <a:pt x="4192" y="14560"/>
                </a:moveTo>
                <a:cubicBezTo>
                  <a:pt x="4288" y="14560"/>
                  <a:pt x="4357" y="14580"/>
                  <a:pt x="4440" y="14585"/>
                </a:cubicBezTo>
                <a:cubicBezTo>
                  <a:pt x="4457" y="14585"/>
                  <a:pt x="4473" y="14585"/>
                  <a:pt x="4490" y="14585"/>
                </a:cubicBezTo>
              </a:path>
              <a:path w="4937" h="4367">
                <a:moveTo>
                  <a:pt x="4366" y="14784"/>
                </a:moveTo>
                <a:cubicBezTo>
                  <a:pt x="4465" y="14803"/>
                  <a:pt x="4480" y="14811"/>
                  <a:pt x="4539" y="14808"/>
                </a:cubicBezTo>
              </a:path>
              <a:path w="4937" h="4367">
                <a:moveTo>
                  <a:pt x="4936" y="14560"/>
                </a:moveTo>
                <a:cubicBezTo>
                  <a:pt x="5015" y="14555"/>
                  <a:pt x="5082" y="14544"/>
                  <a:pt x="5159" y="14536"/>
                </a:cubicBezTo>
              </a:path>
              <a:path w="4937" h="4367">
                <a:moveTo>
                  <a:pt x="5482" y="14362"/>
                </a:moveTo>
                <a:cubicBezTo>
                  <a:pt x="5562" y="14376"/>
                  <a:pt x="5606" y="14387"/>
                  <a:pt x="5680" y="14387"/>
                </a:cubicBezTo>
              </a:path>
              <a:path w="4937" h="4367">
                <a:moveTo>
                  <a:pt x="5333" y="14337"/>
                </a:moveTo>
                <a:cubicBezTo>
                  <a:pt x="5302" y="14436"/>
                  <a:pt x="5263" y="14475"/>
                  <a:pt x="5333" y="14560"/>
                </a:cubicBezTo>
                <a:cubicBezTo>
                  <a:pt x="5388" y="14627"/>
                  <a:pt x="5414" y="14584"/>
                  <a:pt x="5482" y="14610"/>
                </a:cubicBezTo>
                <a:cubicBezTo>
                  <a:pt x="5518" y="14624"/>
                  <a:pt x="5599" y="14699"/>
                  <a:pt x="5606" y="14734"/>
                </a:cubicBezTo>
                <a:cubicBezTo>
                  <a:pt x="5625" y="14836"/>
                  <a:pt x="5582" y="14926"/>
                  <a:pt x="5482" y="14932"/>
                </a:cubicBezTo>
                <a:cubicBezTo>
                  <a:pt x="5398" y="14937"/>
                  <a:pt x="5315" y="14935"/>
                  <a:pt x="5234" y="14908"/>
                </a:cubicBezTo>
                <a:cubicBezTo>
                  <a:pt x="5175" y="14888"/>
                  <a:pt x="5147" y="14866"/>
                  <a:pt x="5085" y="14858"/>
                </a:cubicBezTo>
              </a:path>
              <a:path w="4937" h="4367">
                <a:moveTo>
                  <a:pt x="3746" y="15032"/>
                </a:moveTo>
                <a:cubicBezTo>
                  <a:pt x="3644" y="15112"/>
                  <a:pt x="3542" y="15191"/>
                  <a:pt x="3448" y="15280"/>
                </a:cubicBezTo>
                <a:cubicBezTo>
                  <a:pt x="3349" y="15373"/>
                  <a:pt x="3229" y="15445"/>
                  <a:pt x="3125" y="15528"/>
                </a:cubicBezTo>
                <a:cubicBezTo>
                  <a:pt x="3101" y="15553"/>
                  <a:pt x="3093" y="15561"/>
                  <a:pt x="3076" y="15577"/>
                </a:cubicBezTo>
              </a:path>
              <a:path w="4937" h="4367">
                <a:moveTo>
                  <a:pt x="3448" y="15379"/>
                </a:moveTo>
                <a:cubicBezTo>
                  <a:pt x="3587" y="15379"/>
                  <a:pt x="3648" y="15378"/>
                  <a:pt x="3770" y="15429"/>
                </a:cubicBezTo>
                <a:cubicBezTo>
                  <a:pt x="3787" y="15437"/>
                  <a:pt x="3803" y="15445"/>
                  <a:pt x="3820" y="15453"/>
                </a:cubicBezTo>
                <a:cubicBezTo>
                  <a:pt x="3808" y="15546"/>
                  <a:pt x="3781" y="15580"/>
                  <a:pt x="3696" y="15627"/>
                </a:cubicBezTo>
                <a:cubicBezTo>
                  <a:pt x="3639" y="15658"/>
                  <a:pt x="3586" y="15642"/>
                  <a:pt x="3547" y="15701"/>
                </a:cubicBezTo>
                <a:cubicBezTo>
                  <a:pt x="3485" y="15796"/>
                  <a:pt x="3552" y="15852"/>
                  <a:pt x="3621" y="15925"/>
                </a:cubicBezTo>
                <a:cubicBezTo>
                  <a:pt x="3704" y="16013"/>
                  <a:pt x="3813" y="15972"/>
                  <a:pt x="3919" y="15949"/>
                </a:cubicBezTo>
              </a:path>
              <a:path w="4937" h="4367">
                <a:moveTo>
                  <a:pt x="5730" y="14858"/>
                </a:moveTo>
                <a:cubicBezTo>
                  <a:pt x="5587" y="14922"/>
                  <a:pt x="5448" y="14986"/>
                  <a:pt x="5308" y="15056"/>
                </a:cubicBezTo>
                <a:cubicBezTo>
                  <a:pt x="5239" y="15091"/>
                  <a:pt x="5170" y="15107"/>
                  <a:pt x="5110" y="15156"/>
                </a:cubicBezTo>
              </a:path>
              <a:path w="4937" h="4367">
                <a:moveTo>
                  <a:pt x="5358" y="15304"/>
                </a:moveTo>
                <a:cubicBezTo>
                  <a:pt x="5462" y="15334"/>
                  <a:pt x="5543" y="15363"/>
                  <a:pt x="5631" y="15429"/>
                </a:cubicBezTo>
                <a:cubicBezTo>
                  <a:pt x="5639" y="15437"/>
                  <a:pt x="5647" y="15445"/>
                  <a:pt x="5655" y="15453"/>
                </a:cubicBezTo>
                <a:cubicBezTo>
                  <a:pt x="5600" y="15498"/>
                  <a:pt x="5554" y="15524"/>
                  <a:pt x="5482" y="15528"/>
                </a:cubicBezTo>
                <a:cubicBezTo>
                  <a:pt x="5404" y="15532"/>
                  <a:pt x="5340" y="15546"/>
                  <a:pt x="5333" y="15627"/>
                </a:cubicBezTo>
                <a:cubicBezTo>
                  <a:pt x="5325" y="15716"/>
                  <a:pt x="5402" y="15784"/>
                  <a:pt x="5457" y="15850"/>
                </a:cubicBezTo>
                <a:cubicBezTo>
                  <a:pt x="5517" y="15922"/>
                  <a:pt x="5544" y="15917"/>
                  <a:pt x="5631" y="15925"/>
                </a:cubicBezTo>
              </a:path>
              <a:path w="4937" h="4367">
                <a:moveTo>
                  <a:pt x="3101" y="14114"/>
                </a:moveTo>
                <a:cubicBezTo>
                  <a:pt x="3161" y="14332"/>
                  <a:pt x="3241" y="14524"/>
                  <a:pt x="3324" y="14734"/>
                </a:cubicBezTo>
                <a:cubicBezTo>
                  <a:pt x="3487" y="15149"/>
                  <a:pt x="3599" y="15570"/>
                  <a:pt x="3721" y="15999"/>
                </a:cubicBezTo>
                <a:cubicBezTo>
                  <a:pt x="3746" y="16082"/>
                  <a:pt x="3770" y="16164"/>
                  <a:pt x="3795" y="16247"/>
                </a:cubicBezTo>
              </a:path>
              <a:path w="4937" h="4367">
                <a:moveTo>
                  <a:pt x="5953" y="14288"/>
                </a:moveTo>
                <a:cubicBezTo>
                  <a:pt x="5843" y="14156"/>
                  <a:pt x="5745" y="14085"/>
                  <a:pt x="5581" y="14015"/>
                </a:cubicBezTo>
                <a:cubicBezTo>
                  <a:pt x="5372" y="13926"/>
                  <a:pt x="5165" y="13835"/>
                  <a:pt x="4936" y="13816"/>
                </a:cubicBezTo>
                <a:cubicBezTo>
                  <a:pt x="4778" y="13803"/>
                  <a:pt x="4625" y="13791"/>
                  <a:pt x="4465" y="13791"/>
                </a:cubicBezTo>
                <a:cubicBezTo>
                  <a:pt x="4311" y="13791"/>
                  <a:pt x="4144" y="13771"/>
                  <a:pt x="3994" y="13816"/>
                </a:cubicBezTo>
                <a:cubicBezTo>
                  <a:pt x="3823" y="13867"/>
                  <a:pt x="3646" y="13993"/>
                  <a:pt x="3547" y="14139"/>
                </a:cubicBezTo>
                <a:cubicBezTo>
                  <a:pt x="3472" y="14250"/>
                  <a:pt x="3452" y="14381"/>
                  <a:pt x="3448" y="14511"/>
                </a:cubicBezTo>
                <a:cubicBezTo>
                  <a:pt x="3444" y="14655"/>
                  <a:pt x="3486" y="14780"/>
                  <a:pt x="3547" y="14908"/>
                </a:cubicBezTo>
                <a:cubicBezTo>
                  <a:pt x="3619" y="15061"/>
                  <a:pt x="3706" y="15179"/>
                  <a:pt x="3820" y="15304"/>
                </a:cubicBezTo>
                <a:cubicBezTo>
                  <a:pt x="3942" y="15438"/>
                  <a:pt x="4080" y="15613"/>
                  <a:pt x="4217" y="15726"/>
                </a:cubicBezTo>
                <a:cubicBezTo>
                  <a:pt x="4391" y="15870"/>
                  <a:pt x="4677" y="16115"/>
                  <a:pt x="4911" y="16173"/>
                </a:cubicBezTo>
                <a:cubicBezTo>
                  <a:pt x="5071" y="16212"/>
                  <a:pt x="5264" y="16279"/>
                  <a:pt x="5432" y="16297"/>
                </a:cubicBezTo>
                <a:cubicBezTo>
                  <a:pt x="5583" y="16314"/>
                  <a:pt x="5786" y="16311"/>
                  <a:pt x="5928" y="16247"/>
                </a:cubicBezTo>
                <a:cubicBezTo>
                  <a:pt x="6095" y="16172"/>
                  <a:pt x="6202" y="16083"/>
                  <a:pt x="6300" y="15925"/>
                </a:cubicBezTo>
                <a:cubicBezTo>
                  <a:pt x="6368" y="15815"/>
                  <a:pt x="6394" y="15700"/>
                  <a:pt x="6424" y="15577"/>
                </a:cubicBezTo>
              </a:path>
              <a:path w="4937" h="4367">
                <a:moveTo>
                  <a:pt x="6375" y="14833"/>
                </a:moveTo>
                <a:cubicBezTo>
                  <a:pt x="6236" y="14524"/>
                  <a:pt x="6129" y="14250"/>
                  <a:pt x="5879" y="14015"/>
                </a:cubicBezTo>
                <a:cubicBezTo>
                  <a:pt x="5600" y="13753"/>
                  <a:pt x="5349" y="13693"/>
                  <a:pt x="4986" y="136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Ink 11"/>
          <p:cNvSpPr/>
          <p:nvPr/>
        </p:nvSpPr>
        <p:spPr>
          <a:xfrm>
            <a:off x="3000240" y="5000760"/>
            <a:ext cx="1009800" cy="777600"/>
          </a:xfrm>
          <a:custGeom>
            <a:avLst/>
            <a:gdLst/>
            <a:ahLst/>
            <a:rect l="l" t="t" r="r" b="b"/>
            <a:pathLst>
              <a:path w="2804" h="2159">
                <a:moveTo>
                  <a:pt x="9004" y="14585"/>
                </a:moveTo>
                <a:cubicBezTo>
                  <a:pt x="9139" y="14809"/>
                  <a:pt x="9242" y="14971"/>
                  <a:pt x="9401" y="15156"/>
                </a:cubicBezTo>
                <a:cubicBezTo>
                  <a:pt x="9418" y="15181"/>
                  <a:pt x="9434" y="15205"/>
                  <a:pt x="9451" y="15230"/>
                </a:cubicBezTo>
              </a:path>
              <a:path w="2804" h="2159">
                <a:moveTo>
                  <a:pt x="9401" y="14337"/>
                </a:moveTo>
                <a:cubicBezTo>
                  <a:pt x="9278" y="14402"/>
                  <a:pt x="9204" y="14463"/>
                  <a:pt x="9128" y="14585"/>
                </a:cubicBezTo>
                <a:cubicBezTo>
                  <a:pt x="9060" y="14694"/>
                  <a:pt x="9003" y="14817"/>
                  <a:pt x="8954" y="14932"/>
                </a:cubicBezTo>
                <a:cubicBezTo>
                  <a:pt x="8915" y="15024"/>
                  <a:pt x="8880" y="15056"/>
                  <a:pt x="8880" y="15156"/>
                </a:cubicBezTo>
              </a:path>
              <a:path w="2804" h="2159">
                <a:moveTo>
                  <a:pt x="9500" y="14560"/>
                </a:moveTo>
                <a:cubicBezTo>
                  <a:pt x="9624" y="14560"/>
                  <a:pt x="9730" y="14529"/>
                  <a:pt x="9823" y="14585"/>
                </a:cubicBezTo>
              </a:path>
              <a:path w="2804" h="2159">
                <a:moveTo>
                  <a:pt x="9575" y="14709"/>
                </a:moveTo>
                <a:cubicBezTo>
                  <a:pt x="9666" y="14793"/>
                  <a:pt x="9736" y="14833"/>
                  <a:pt x="9847" y="14883"/>
                </a:cubicBezTo>
              </a:path>
              <a:path w="2804" h="2159">
                <a:moveTo>
                  <a:pt x="10344" y="14511"/>
                </a:moveTo>
                <a:cubicBezTo>
                  <a:pt x="10253" y="14561"/>
                  <a:pt x="10193" y="14601"/>
                  <a:pt x="10170" y="14709"/>
                </a:cubicBezTo>
                <a:cubicBezTo>
                  <a:pt x="10154" y="14784"/>
                  <a:pt x="10127" y="14877"/>
                  <a:pt x="10145" y="14957"/>
                </a:cubicBezTo>
                <a:cubicBezTo>
                  <a:pt x="10164" y="15041"/>
                  <a:pt x="10185" y="15122"/>
                  <a:pt x="10220" y="15205"/>
                </a:cubicBezTo>
                <a:cubicBezTo>
                  <a:pt x="10275" y="15335"/>
                  <a:pt x="10330" y="15295"/>
                  <a:pt x="10443" y="15280"/>
                </a:cubicBezTo>
                <a:cubicBezTo>
                  <a:pt x="10514" y="15271"/>
                  <a:pt x="10538" y="15227"/>
                  <a:pt x="10542" y="15156"/>
                </a:cubicBezTo>
                <a:cubicBezTo>
                  <a:pt x="10547" y="15066"/>
                  <a:pt x="10520" y="14954"/>
                  <a:pt x="10418" y="14932"/>
                </a:cubicBezTo>
                <a:cubicBezTo>
                  <a:pt x="10324" y="14911"/>
                  <a:pt x="10239" y="14958"/>
                  <a:pt x="10195" y="15032"/>
                </a:cubicBezTo>
                <a:cubicBezTo>
                  <a:pt x="10133" y="15137"/>
                  <a:pt x="10146" y="15143"/>
                  <a:pt x="10170" y="15280"/>
                </a:cubicBezTo>
              </a:path>
              <a:path w="2804" h="2159">
                <a:moveTo>
                  <a:pt x="10889" y="14858"/>
                </a:moveTo>
                <a:cubicBezTo>
                  <a:pt x="10876" y="14690"/>
                  <a:pt x="10858" y="14566"/>
                  <a:pt x="10740" y="14436"/>
                </a:cubicBezTo>
                <a:cubicBezTo>
                  <a:pt x="10640" y="14327"/>
                  <a:pt x="10497" y="14187"/>
                  <a:pt x="10368" y="14114"/>
                </a:cubicBezTo>
                <a:cubicBezTo>
                  <a:pt x="10188" y="14012"/>
                  <a:pt x="9947" y="13979"/>
                  <a:pt x="9748" y="13940"/>
                </a:cubicBezTo>
                <a:cubicBezTo>
                  <a:pt x="9551" y="13901"/>
                  <a:pt x="9398" y="13902"/>
                  <a:pt x="9203" y="13915"/>
                </a:cubicBezTo>
                <a:cubicBezTo>
                  <a:pt x="9042" y="13925"/>
                  <a:pt x="8880" y="13949"/>
                  <a:pt x="8731" y="14015"/>
                </a:cubicBezTo>
                <a:cubicBezTo>
                  <a:pt x="8529" y="14104"/>
                  <a:pt x="8391" y="14214"/>
                  <a:pt x="8334" y="14436"/>
                </a:cubicBezTo>
                <a:cubicBezTo>
                  <a:pt x="8289" y="14612"/>
                  <a:pt x="8383" y="14759"/>
                  <a:pt x="8458" y="14908"/>
                </a:cubicBezTo>
                <a:cubicBezTo>
                  <a:pt x="8539" y="15069"/>
                  <a:pt x="8685" y="15241"/>
                  <a:pt x="8806" y="15379"/>
                </a:cubicBezTo>
                <a:cubicBezTo>
                  <a:pt x="8981" y="15579"/>
                  <a:pt x="9219" y="15752"/>
                  <a:pt x="9451" y="15875"/>
                </a:cubicBezTo>
                <a:cubicBezTo>
                  <a:pt x="9691" y="16001"/>
                  <a:pt x="9924" y="16074"/>
                  <a:pt x="10195" y="16049"/>
                </a:cubicBezTo>
                <a:cubicBezTo>
                  <a:pt x="10363" y="16033"/>
                  <a:pt x="10519" y="16017"/>
                  <a:pt x="10666" y="15925"/>
                </a:cubicBezTo>
                <a:cubicBezTo>
                  <a:pt x="10821" y="15828"/>
                  <a:pt x="10975" y="15666"/>
                  <a:pt x="11063" y="15503"/>
                </a:cubicBezTo>
                <a:cubicBezTo>
                  <a:pt x="11131" y="15377"/>
                  <a:pt x="11134" y="15239"/>
                  <a:pt x="11112" y="15106"/>
                </a:cubicBezTo>
                <a:cubicBezTo>
                  <a:pt x="11093" y="14995"/>
                  <a:pt x="10982" y="14828"/>
                  <a:pt x="10889" y="14759"/>
                </a:cubicBezTo>
                <a:cubicBezTo>
                  <a:pt x="10856" y="14742"/>
                  <a:pt x="10823" y="14726"/>
                  <a:pt x="10790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Ink 12"/>
          <p:cNvSpPr/>
          <p:nvPr/>
        </p:nvSpPr>
        <p:spPr>
          <a:xfrm>
            <a:off x="3017880" y="4776840"/>
            <a:ext cx="33984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8458" y="13271"/>
                </a:moveTo>
                <a:cubicBezTo>
                  <a:pt x="8484" y="13425"/>
                  <a:pt x="8504" y="13533"/>
                  <a:pt x="8558" y="13667"/>
                </a:cubicBezTo>
                <a:cubicBezTo>
                  <a:pt x="8585" y="13733"/>
                  <a:pt x="8603" y="13801"/>
                  <a:pt x="8632" y="13866"/>
                </a:cubicBezTo>
              </a:path>
              <a:path w="944" h="745">
                <a:moveTo>
                  <a:pt x="8384" y="13469"/>
                </a:moveTo>
                <a:cubicBezTo>
                  <a:pt x="8483" y="13506"/>
                  <a:pt x="8554" y="13533"/>
                  <a:pt x="8657" y="13543"/>
                </a:cubicBezTo>
              </a:path>
              <a:path w="944" h="745">
                <a:moveTo>
                  <a:pt x="8979" y="13295"/>
                </a:moveTo>
                <a:cubicBezTo>
                  <a:pt x="8880" y="13345"/>
                  <a:pt x="8873" y="13382"/>
                  <a:pt x="8855" y="13494"/>
                </a:cubicBezTo>
                <a:cubicBezTo>
                  <a:pt x="8840" y="13585"/>
                  <a:pt x="8847" y="13706"/>
                  <a:pt x="8880" y="13791"/>
                </a:cubicBezTo>
                <a:cubicBezTo>
                  <a:pt x="8902" y="13849"/>
                  <a:pt x="8986" y="13998"/>
                  <a:pt x="9054" y="14015"/>
                </a:cubicBezTo>
                <a:cubicBezTo>
                  <a:pt x="9114" y="14030"/>
                  <a:pt x="9210" y="14015"/>
                  <a:pt x="9252" y="13965"/>
                </a:cubicBezTo>
                <a:cubicBezTo>
                  <a:pt x="9296" y="13914"/>
                  <a:pt x="9350" y="13781"/>
                  <a:pt x="9327" y="13717"/>
                </a:cubicBezTo>
                <a:cubicBezTo>
                  <a:pt x="9283" y="13652"/>
                  <a:pt x="9277" y="13633"/>
                  <a:pt x="9227" y="13618"/>
                </a:cubicBezTo>
                <a:cubicBezTo>
                  <a:pt x="9182" y="13664"/>
                  <a:pt x="9156" y="13676"/>
                  <a:pt x="9153" y="13742"/>
                </a:cubicBezTo>
                <a:cubicBezTo>
                  <a:pt x="9148" y="13855"/>
                  <a:pt x="9210" y="13902"/>
                  <a:pt x="9277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Ink 13"/>
          <p:cNvSpPr/>
          <p:nvPr/>
        </p:nvSpPr>
        <p:spPr>
          <a:xfrm>
            <a:off x="3581280" y="4803840"/>
            <a:ext cx="320760" cy="2602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0120" y="13345"/>
                </a:moveTo>
                <a:cubicBezTo>
                  <a:pt x="10120" y="13530"/>
                  <a:pt x="10148" y="13659"/>
                  <a:pt x="10170" y="13841"/>
                </a:cubicBezTo>
                <a:cubicBezTo>
                  <a:pt x="10170" y="13858"/>
                  <a:pt x="10170" y="13874"/>
                  <a:pt x="10170" y="13891"/>
                </a:cubicBezTo>
              </a:path>
              <a:path w="894" h="720">
                <a:moveTo>
                  <a:pt x="9947" y="13494"/>
                </a:moveTo>
                <a:cubicBezTo>
                  <a:pt x="10034" y="13494"/>
                  <a:pt x="10088" y="13512"/>
                  <a:pt x="10170" y="13543"/>
                </a:cubicBezTo>
                <a:cubicBezTo>
                  <a:pt x="10259" y="13573"/>
                  <a:pt x="10300" y="13585"/>
                  <a:pt x="10368" y="13593"/>
                </a:cubicBezTo>
              </a:path>
              <a:path w="894" h="720">
                <a:moveTo>
                  <a:pt x="10567" y="13494"/>
                </a:moveTo>
                <a:cubicBezTo>
                  <a:pt x="10505" y="13543"/>
                  <a:pt x="10467" y="13580"/>
                  <a:pt x="10418" y="13643"/>
                </a:cubicBezTo>
                <a:cubicBezTo>
                  <a:pt x="10367" y="13709"/>
                  <a:pt x="10386" y="13817"/>
                  <a:pt x="10418" y="13891"/>
                </a:cubicBezTo>
                <a:cubicBezTo>
                  <a:pt x="10439" y="13940"/>
                  <a:pt x="10514" y="14046"/>
                  <a:pt x="10567" y="14064"/>
                </a:cubicBezTo>
                <a:cubicBezTo>
                  <a:pt x="10620" y="14082"/>
                  <a:pt x="10725" y="14074"/>
                  <a:pt x="10765" y="14039"/>
                </a:cubicBezTo>
                <a:cubicBezTo>
                  <a:pt x="10817" y="13994"/>
                  <a:pt x="10859" y="13942"/>
                  <a:pt x="10840" y="13866"/>
                </a:cubicBezTo>
                <a:cubicBezTo>
                  <a:pt x="10824" y="13802"/>
                  <a:pt x="10712" y="13804"/>
                  <a:pt x="10666" y="13816"/>
                </a:cubicBezTo>
                <a:cubicBezTo>
                  <a:pt x="10602" y="13833"/>
                  <a:pt x="10532" y="13888"/>
                  <a:pt x="10492" y="13940"/>
                </a:cubicBezTo>
                <a:cubicBezTo>
                  <a:pt x="10476" y="13965"/>
                  <a:pt x="10459" y="13990"/>
                  <a:pt x="10443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5.  4x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 + 6x = 11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Ink 4"/>
          <p:cNvSpPr/>
          <p:nvPr/>
        </p:nvSpPr>
        <p:spPr>
          <a:xfrm>
            <a:off x="1608120" y="2374920"/>
            <a:ext cx="2749680" cy="625320"/>
          </a:xfrm>
          <a:custGeom>
            <a:avLst/>
            <a:gdLst/>
            <a:ahLst/>
            <a:rect l="l" t="t" r="r" b="b"/>
            <a:pathLst>
              <a:path w="7641" h="1737">
                <a:moveTo>
                  <a:pt x="4614" y="6796"/>
                </a:moveTo>
                <a:cubicBezTo>
                  <a:pt x="4614" y="6906"/>
                  <a:pt x="4578" y="6986"/>
                  <a:pt x="4564" y="7094"/>
                </a:cubicBezTo>
                <a:cubicBezTo>
                  <a:pt x="4551" y="7191"/>
                  <a:pt x="4534" y="7234"/>
                  <a:pt x="4490" y="7317"/>
                </a:cubicBezTo>
                <a:cubicBezTo>
                  <a:pt x="4482" y="7334"/>
                  <a:pt x="4473" y="7350"/>
                  <a:pt x="4465" y="7367"/>
                </a:cubicBezTo>
                <a:cubicBezTo>
                  <a:pt x="4526" y="7330"/>
                  <a:pt x="4570" y="7321"/>
                  <a:pt x="4638" y="7342"/>
                </a:cubicBezTo>
                <a:cubicBezTo>
                  <a:pt x="4730" y="7370"/>
                  <a:pt x="4816" y="7424"/>
                  <a:pt x="4911" y="7441"/>
                </a:cubicBezTo>
                <a:cubicBezTo>
                  <a:pt x="4995" y="7441"/>
                  <a:pt x="5045" y="7436"/>
                  <a:pt x="5110" y="7417"/>
                </a:cubicBezTo>
              </a:path>
              <a:path w="7641" h="1737">
                <a:moveTo>
                  <a:pt x="5085" y="6598"/>
                </a:moveTo>
                <a:cubicBezTo>
                  <a:pt x="5085" y="6750"/>
                  <a:pt x="5063" y="6893"/>
                  <a:pt x="5060" y="7045"/>
                </a:cubicBezTo>
                <a:cubicBezTo>
                  <a:pt x="5054" y="7312"/>
                  <a:pt x="5068" y="7573"/>
                  <a:pt x="5085" y="7838"/>
                </a:cubicBezTo>
                <a:cubicBezTo>
                  <a:pt x="5090" y="7915"/>
                  <a:pt x="5094" y="7971"/>
                  <a:pt x="5110" y="8037"/>
                </a:cubicBezTo>
              </a:path>
              <a:path w="7641" h="1737">
                <a:moveTo>
                  <a:pt x="5432" y="7268"/>
                </a:moveTo>
                <a:cubicBezTo>
                  <a:pt x="5508" y="7480"/>
                  <a:pt x="5576" y="7557"/>
                  <a:pt x="5680" y="7739"/>
                </a:cubicBezTo>
                <a:cubicBezTo>
                  <a:pt x="5743" y="7849"/>
                  <a:pt x="5805" y="7928"/>
                  <a:pt x="5928" y="7987"/>
                </a:cubicBezTo>
                <a:cubicBezTo>
                  <a:pt x="6006" y="8024"/>
                  <a:pt x="6068" y="8037"/>
                  <a:pt x="6152" y="8037"/>
                </a:cubicBezTo>
              </a:path>
              <a:path w="7641" h="1737">
                <a:moveTo>
                  <a:pt x="5904" y="7169"/>
                </a:moveTo>
                <a:cubicBezTo>
                  <a:pt x="5818" y="7363"/>
                  <a:pt x="5717" y="7537"/>
                  <a:pt x="5655" y="7739"/>
                </a:cubicBezTo>
                <a:cubicBezTo>
                  <a:pt x="5635" y="7805"/>
                  <a:pt x="5595" y="7960"/>
                  <a:pt x="5556" y="8012"/>
                </a:cubicBezTo>
                <a:cubicBezTo>
                  <a:pt x="5548" y="8012"/>
                  <a:pt x="5539" y="8012"/>
                  <a:pt x="5531" y="8012"/>
                </a:cubicBezTo>
              </a:path>
              <a:path w="7641" h="1737">
                <a:moveTo>
                  <a:pt x="6077" y="6697"/>
                </a:moveTo>
                <a:cubicBezTo>
                  <a:pt x="6161" y="6739"/>
                  <a:pt x="6225" y="6789"/>
                  <a:pt x="6152" y="6896"/>
                </a:cubicBezTo>
                <a:cubicBezTo>
                  <a:pt x="6113" y="6952"/>
                  <a:pt x="6071" y="7015"/>
                  <a:pt x="6028" y="7069"/>
                </a:cubicBezTo>
                <a:cubicBezTo>
                  <a:pt x="6120" y="7123"/>
                  <a:pt x="6183" y="7125"/>
                  <a:pt x="6276" y="7119"/>
                </a:cubicBezTo>
                <a:cubicBezTo>
                  <a:pt x="6309" y="7119"/>
                  <a:pt x="6342" y="7119"/>
                  <a:pt x="6375" y="7119"/>
                </a:cubicBezTo>
              </a:path>
              <a:path w="7641" h="1737">
                <a:moveTo>
                  <a:pt x="6400" y="7516"/>
                </a:moveTo>
                <a:cubicBezTo>
                  <a:pt x="6524" y="7516"/>
                  <a:pt x="6648" y="7516"/>
                  <a:pt x="6772" y="7516"/>
                </a:cubicBezTo>
              </a:path>
              <a:path w="7641" h="1737">
                <a:moveTo>
                  <a:pt x="6623" y="7367"/>
                </a:moveTo>
                <a:cubicBezTo>
                  <a:pt x="6607" y="7580"/>
                  <a:pt x="6613" y="7640"/>
                  <a:pt x="6672" y="7838"/>
                </a:cubicBezTo>
              </a:path>
              <a:path w="7641" h="1737">
                <a:moveTo>
                  <a:pt x="7045" y="7218"/>
                </a:moveTo>
                <a:cubicBezTo>
                  <a:pt x="7023" y="7433"/>
                  <a:pt x="6999" y="7568"/>
                  <a:pt x="7020" y="7764"/>
                </a:cubicBezTo>
                <a:cubicBezTo>
                  <a:pt x="7028" y="7844"/>
                  <a:pt x="7106" y="7961"/>
                  <a:pt x="7193" y="7987"/>
                </a:cubicBezTo>
                <a:cubicBezTo>
                  <a:pt x="7245" y="8002"/>
                  <a:pt x="7382" y="7990"/>
                  <a:pt x="7417" y="7938"/>
                </a:cubicBezTo>
                <a:cubicBezTo>
                  <a:pt x="7441" y="7903"/>
                  <a:pt x="7505" y="7759"/>
                  <a:pt x="7491" y="7714"/>
                </a:cubicBezTo>
                <a:cubicBezTo>
                  <a:pt x="7466" y="7689"/>
                  <a:pt x="7458" y="7681"/>
                  <a:pt x="7441" y="7665"/>
                </a:cubicBezTo>
                <a:cubicBezTo>
                  <a:pt x="7370" y="7705"/>
                  <a:pt x="7338" y="7744"/>
                  <a:pt x="7293" y="7813"/>
                </a:cubicBezTo>
                <a:cubicBezTo>
                  <a:pt x="7264" y="7858"/>
                  <a:pt x="7223" y="7994"/>
                  <a:pt x="7342" y="7987"/>
                </a:cubicBezTo>
                <a:cubicBezTo>
                  <a:pt x="7359" y="7979"/>
                  <a:pt x="7375" y="7970"/>
                  <a:pt x="7392" y="7962"/>
                </a:cubicBezTo>
              </a:path>
              <a:path w="7641" h="1737">
                <a:moveTo>
                  <a:pt x="7714" y="7491"/>
                </a:moveTo>
                <a:cubicBezTo>
                  <a:pt x="7792" y="7759"/>
                  <a:pt x="7839" y="7871"/>
                  <a:pt x="8086" y="8012"/>
                </a:cubicBezTo>
                <a:cubicBezTo>
                  <a:pt x="8179" y="8065"/>
                  <a:pt x="8267" y="8051"/>
                  <a:pt x="8359" y="8037"/>
                </a:cubicBezTo>
              </a:path>
              <a:path w="7641" h="1737">
                <a:moveTo>
                  <a:pt x="8012" y="7466"/>
                </a:moveTo>
                <a:cubicBezTo>
                  <a:pt x="7863" y="7642"/>
                  <a:pt x="7787" y="7803"/>
                  <a:pt x="7665" y="7987"/>
                </a:cubicBezTo>
                <a:cubicBezTo>
                  <a:pt x="7615" y="8062"/>
                  <a:pt x="7578" y="8058"/>
                  <a:pt x="7665" y="8086"/>
                </a:cubicBezTo>
              </a:path>
              <a:path w="7641" h="1737">
                <a:moveTo>
                  <a:pt x="8359" y="7615"/>
                </a:moveTo>
                <a:cubicBezTo>
                  <a:pt x="8537" y="7656"/>
                  <a:pt x="8674" y="7665"/>
                  <a:pt x="8855" y="7665"/>
                </a:cubicBezTo>
              </a:path>
              <a:path w="7641" h="1737">
                <a:moveTo>
                  <a:pt x="9203" y="7367"/>
                </a:moveTo>
                <a:cubicBezTo>
                  <a:pt x="9161" y="7534"/>
                  <a:pt x="9034" y="7863"/>
                  <a:pt x="9103" y="8062"/>
                </a:cubicBezTo>
                <a:cubicBezTo>
                  <a:pt x="9141" y="8118"/>
                  <a:pt x="9136" y="8143"/>
                  <a:pt x="9178" y="8136"/>
                </a:cubicBezTo>
              </a:path>
              <a:path w="7641" h="1737">
                <a:moveTo>
                  <a:pt x="9500" y="7169"/>
                </a:moveTo>
                <a:cubicBezTo>
                  <a:pt x="9506" y="7482"/>
                  <a:pt x="9497" y="7763"/>
                  <a:pt x="9575" y="8062"/>
                </a:cubicBezTo>
                <a:cubicBezTo>
                  <a:pt x="9597" y="8129"/>
                  <a:pt x="9601" y="8147"/>
                  <a:pt x="9624" y="8186"/>
                </a:cubicBezTo>
              </a:path>
              <a:path w="7641" h="1737">
                <a:moveTo>
                  <a:pt x="10170" y="7689"/>
                </a:moveTo>
                <a:cubicBezTo>
                  <a:pt x="10359" y="7737"/>
                  <a:pt x="10363" y="7744"/>
                  <a:pt x="10542" y="7714"/>
                </a:cubicBezTo>
              </a:path>
              <a:path w="7641" h="1737">
                <a:moveTo>
                  <a:pt x="10195" y="7888"/>
                </a:moveTo>
                <a:cubicBezTo>
                  <a:pt x="10279" y="7954"/>
                  <a:pt x="10355" y="7982"/>
                  <a:pt x="10468" y="7962"/>
                </a:cubicBezTo>
                <a:cubicBezTo>
                  <a:pt x="10546" y="7937"/>
                  <a:pt x="10573" y="7927"/>
                  <a:pt x="10616" y="7888"/>
                </a:cubicBezTo>
              </a:path>
              <a:path w="7641" h="1737">
                <a:moveTo>
                  <a:pt x="11088" y="7466"/>
                </a:moveTo>
                <a:cubicBezTo>
                  <a:pt x="11038" y="7646"/>
                  <a:pt x="10958" y="7848"/>
                  <a:pt x="11038" y="8037"/>
                </a:cubicBezTo>
                <a:cubicBezTo>
                  <a:pt x="11093" y="8167"/>
                  <a:pt x="11211" y="8237"/>
                  <a:pt x="11336" y="8285"/>
                </a:cubicBezTo>
                <a:cubicBezTo>
                  <a:pt x="11499" y="8347"/>
                  <a:pt x="11681" y="8367"/>
                  <a:pt x="11832" y="8260"/>
                </a:cubicBezTo>
                <a:cubicBezTo>
                  <a:pt x="11947" y="8179"/>
                  <a:pt x="12049" y="7969"/>
                  <a:pt x="12080" y="7838"/>
                </a:cubicBezTo>
                <a:cubicBezTo>
                  <a:pt x="12124" y="7649"/>
                  <a:pt x="12113" y="7547"/>
                  <a:pt x="12005" y="7392"/>
                </a:cubicBezTo>
                <a:cubicBezTo>
                  <a:pt x="11887" y="7222"/>
                  <a:pt x="11759" y="7127"/>
                  <a:pt x="11559" y="7069"/>
                </a:cubicBezTo>
                <a:cubicBezTo>
                  <a:pt x="11387" y="7019"/>
                  <a:pt x="11232" y="7054"/>
                  <a:pt x="11063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Ink 5"/>
          <p:cNvSpPr/>
          <p:nvPr/>
        </p:nvSpPr>
        <p:spPr>
          <a:xfrm>
            <a:off x="1027080" y="3017880"/>
            <a:ext cx="679320" cy="339840"/>
          </a:xfrm>
          <a:custGeom>
            <a:avLst/>
            <a:gdLst/>
            <a:ahLst/>
            <a:rect l="l" t="t" r="r" b="b"/>
            <a:pathLst>
              <a:path w="1886" h="944">
                <a:moveTo>
                  <a:pt x="3373" y="8731"/>
                </a:moveTo>
                <a:cubicBezTo>
                  <a:pt x="3373" y="8756"/>
                  <a:pt x="3373" y="8781"/>
                  <a:pt x="3373" y="8806"/>
                </a:cubicBezTo>
                <a:cubicBezTo>
                  <a:pt x="3373" y="8927"/>
                  <a:pt x="3367" y="8740"/>
                  <a:pt x="3349" y="8706"/>
                </a:cubicBezTo>
                <a:cubicBezTo>
                  <a:pt x="3321" y="8653"/>
                  <a:pt x="3299" y="8569"/>
                  <a:pt x="3249" y="8533"/>
                </a:cubicBezTo>
                <a:cubicBezTo>
                  <a:pt x="3185" y="8487"/>
                  <a:pt x="3133" y="8541"/>
                  <a:pt x="3076" y="8558"/>
                </a:cubicBezTo>
                <a:cubicBezTo>
                  <a:pt x="2986" y="8585"/>
                  <a:pt x="2945" y="8676"/>
                  <a:pt x="2902" y="8756"/>
                </a:cubicBezTo>
                <a:cubicBezTo>
                  <a:pt x="2868" y="8818"/>
                  <a:pt x="2857" y="8909"/>
                  <a:pt x="2853" y="8979"/>
                </a:cubicBezTo>
                <a:cubicBezTo>
                  <a:pt x="2851" y="9024"/>
                  <a:pt x="2875" y="9135"/>
                  <a:pt x="2927" y="9153"/>
                </a:cubicBezTo>
                <a:cubicBezTo>
                  <a:pt x="3006" y="9181"/>
                  <a:pt x="3083" y="9136"/>
                  <a:pt x="3150" y="9103"/>
                </a:cubicBezTo>
                <a:cubicBezTo>
                  <a:pt x="3227" y="9065"/>
                  <a:pt x="3241" y="9011"/>
                  <a:pt x="3274" y="8954"/>
                </a:cubicBezTo>
                <a:cubicBezTo>
                  <a:pt x="3285" y="8935"/>
                  <a:pt x="3384" y="8800"/>
                  <a:pt x="3349" y="8781"/>
                </a:cubicBezTo>
                <a:cubicBezTo>
                  <a:pt x="3341" y="8797"/>
                  <a:pt x="3332" y="8814"/>
                  <a:pt x="3324" y="8830"/>
                </a:cubicBezTo>
                <a:cubicBezTo>
                  <a:pt x="3324" y="8885"/>
                  <a:pt x="3322" y="8983"/>
                  <a:pt x="3349" y="9029"/>
                </a:cubicBezTo>
                <a:cubicBezTo>
                  <a:pt x="3373" y="9070"/>
                  <a:pt x="3433" y="9175"/>
                  <a:pt x="3473" y="9203"/>
                </a:cubicBezTo>
                <a:cubicBezTo>
                  <a:pt x="3533" y="9245"/>
                  <a:pt x="3577" y="9246"/>
                  <a:pt x="3646" y="9252"/>
                </a:cubicBezTo>
              </a:path>
              <a:path w="1886" h="944">
                <a:moveTo>
                  <a:pt x="3746" y="8781"/>
                </a:moveTo>
                <a:cubicBezTo>
                  <a:pt x="3835" y="8747"/>
                  <a:pt x="3921" y="8756"/>
                  <a:pt x="4018" y="8756"/>
                </a:cubicBezTo>
              </a:path>
              <a:path w="1886" h="944">
                <a:moveTo>
                  <a:pt x="3795" y="8930"/>
                </a:moveTo>
                <a:cubicBezTo>
                  <a:pt x="3859" y="8993"/>
                  <a:pt x="3882" y="8959"/>
                  <a:pt x="3969" y="8954"/>
                </a:cubicBezTo>
                <a:cubicBezTo>
                  <a:pt x="3985" y="8954"/>
                  <a:pt x="4002" y="8954"/>
                  <a:pt x="4018" y="8954"/>
                </a:cubicBezTo>
              </a:path>
              <a:path w="1886" h="944">
                <a:moveTo>
                  <a:pt x="4415" y="8582"/>
                </a:moveTo>
                <a:cubicBezTo>
                  <a:pt x="4394" y="8639"/>
                  <a:pt x="4354" y="8699"/>
                  <a:pt x="4341" y="8756"/>
                </a:cubicBezTo>
                <a:cubicBezTo>
                  <a:pt x="4320" y="8846"/>
                  <a:pt x="4351" y="8887"/>
                  <a:pt x="4440" y="8905"/>
                </a:cubicBezTo>
                <a:cubicBezTo>
                  <a:pt x="4501" y="8917"/>
                  <a:pt x="4609" y="8905"/>
                  <a:pt x="4663" y="8905"/>
                </a:cubicBezTo>
              </a:path>
              <a:path w="1886" h="944">
                <a:moveTo>
                  <a:pt x="4688" y="8384"/>
                </a:moveTo>
                <a:cubicBezTo>
                  <a:pt x="4640" y="8491"/>
                  <a:pt x="4618" y="8588"/>
                  <a:pt x="4614" y="8706"/>
                </a:cubicBezTo>
                <a:cubicBezTo>
                  <a:pt x="4610" y="8820"/>
                  <a:pt x="4615" y="8920"/>
                  <a:pt x="4638" y="9029"/>
                </a:cubicBezTo>
                <a:cubicBezTo>
                  <a:pt x="4662" y="9141"/>
                  <a:pt x="4688" y="9226"/>
                  <a:pt x="4738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Ink 6"/>
          <p:cNvSpPr/>
          <p:nvPr/>
        </p:nvSpPr>
        <p:spPr>
          <a:xfrm>
            <a:off x="2143080" y="3116160"/>
            <a:ext cx="420840" cy="304920"/>
          </a:xfrm>
          <a:custGeom>
            <a:avLst/>
            <a:gdLst/>
            <a:ahLst/>
            <a:rect l="l" t="t" r="r" b="b"/>
            <a:pathLst>
              <a:path w="1167" h="844">
                <a:moveTo>
                  <a:pt x="6003" y="8657"/>
                </a:moveTo>
                <a:cubicBezTo>
                  <a:pt x="5977" y="8777"/>
                  <a:pt x="5953" y="8882"/>
                  <a:pt x="5953" y="9004"/>
                </a:cubicBezTo>
                <a:cubicBezTo>
                  <a:pt x="5953" y="9076"/>
                  <a:pt x="5958" y="9208"/>
                  <a:pt x="5978" y="9277"/>
                </a:cubicBezTo>
                <a:cubicBezTo>
                  <a:pt x="5994" y="9330"/>
                  <a:pt x="6006" y="9393"/>
                  <a:pt x="6028" y="9451"/>
                </a:cubicBezTo>
                <a:cubicBezTo>
                  <a:pt x="6049" y="9391"/>
                  <a:pt x="6069" y="9305"/>
                  <a:pt x="6077" y="9252"/>
                </a:cubicBezTo>
                <a:cubicBezTo>
                  <a:pt x="6087" y="9182"/>
                  <a:pt x="6085" y="9102"/>
                  <a:pt x="6152" y="9054"/>
                </a:cubicBezTo>
                <a:cubicBezTo>
                  <a:pt x="6225" y="9002"/>
                  <a:pt x="6318" y="9043"/>
                  <a:pt x="6375" y="9103"/>
                </a:cubicBezTo>
                <a:cubicBezTo>
                  <a:pt x="6430" y="9161"/>
                  <a:pt x="6424" y="9255"/>
                  <a:pt x="6424" y="9327"/>
                </a:cubicBezTo>
                <a:cubicBezTo>
                  <a:pt x="6424" y="9417"/>
                  <a:pt x="6432" y="9432"/>
                  <a:pt x="6350" y="9475"/>
                </a:cubicBezTo>
                <a:cubicBezTo>
                  <a:pt x="6257" y="9524"/>
                  <a:pt x="6196" y="9488"/>
                  <a:pt x="6102" y="9475"/>
                </a:cubicBezTo>
                <a:cubicBezTo>
                  <a:pt x="6050" y="9475"/>
                  <a:pt x="6032" y="9474"/>
                  <a:pt x="6003" y="9451"/>
                </a:cubicBezTo>
              </a:path>
              <a:path w="1167" h="844">
                <a:moveTo>
                  <a:pt x="6623" y="9227"/>
                </a:moveTo>
                <a:cubicBezTo>
                  <a:pt x="6739" y="9227"/>
                  <a:pt x="6854" y="9227"/>
                  <a:pt x="6970" y="9227"/>
                </a:cubicBezTo>
              </a:path>
              <a:path w="1167" h="844">
                <a:moveTo>
                  <a:pt x="6821" y="9351"/>
                </a:moveTo>
                <a:cubicBezTo>
                  <a:pt x="6927" y="9351"/>
                  <a:pt x="7017" y="9348"/>
                  <a:pt x="7119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Ink 7"/>
          <p:cNvSpPr/>
          <p:nvPr/>
        </p:nvSpPr>
        <p:spPr>
          <a:xfrm>
            <a:off x="2697120" y="3106800"/>
            <a:ext cx="223920" cy="349200"/>
          </a:xfrm>
          <a:custGeom>
            <a:avLst/>
            <a:gdLst/>
            <a:ahLst/>
            <a:rect l="l" t="t" r="r" b="b"/>
            <a:pathLst>
              <a:path w="621" h="968">
                <a:moveTo>
                  <a:pt x="7640" y="8632"/>
                </a:moveTo>
                <a:cubicBezTo>
                  <a:pt x="7580" y="8785"/>
                  <a:pt x="7497" y="8937"/>
                  <a:pt x="7491" y="9103"/>
                </a:cubicBezTo>
                <a:cubicBezTo>
                  <a:pt x="7487" y="9204"/>
                  <a:pt x="7528" y="9245"/>
                  <a:pt x="7565" y="9327"/>
                </a:cubicBezTo>
                <a:cubicBezTo>
                  <a:pt x="7608" y="9423"/>
                  <a:pt x="7665" y="9461"/>
                  <a:pt x="7764" y="9500"/>
                </a:cubicBezTo>
                <a:cubicBezTo>
                  <a:pt x="7855" y="9536"/>
                  <a:pt x="7953" y="9531"/>
                  <a:pt x="8037" y="9475"/>
                </a:cubicBezTo>
                <a:cubicBezTo>
                  <a:pt x="8139" y="9408"/>
                  <a:pt x="8101" y="9309"/>
                  <a:pt x="8086" y="9227"/>
                </a:cubicBezTo>
                <a:cubicBezTo>
                  <a:pt x="8070" y="9142"/>
                  <a:pt x="7997" y="9127"/>
                  <a:pt x="7913" y="9178"/>
                </a:cubicBezTo>
                <a:cubicBezTo>
                  <a:pt x="7888" y="9193"/>
                  <a:pt x="7788" y="9297"/>
                  <a:pt x="7789" y="9327"/>
                </a:cubicBezTo>
                <a:cubicBezTo>
                  <a:pt x="7792" y="9398"/>
                  <a:pt x="7856" y="9518"/>
                  <a:pt x="7913" y="9550"/>
                </a:cubicBezTo>
                <a:cubicBezTo>
                  <a:pt x="7954" y="9566"/>
                  <a:pt x="7996" y="9583"/>
                  <a:pt x="8037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Ink 8"/>
          <p:cNvSpPr/>
          <p:nvPr/>
        </p:nvSpPr>
        <p:spPr>
          <a:xfrm>
            <a:off x="3259080" y="3232080"/>
            <a:ext cx="384120" cy="233280"/>
          </a:xfrm>
          <a:custGeom>
            <a:avLst/>
            <a:gdLst/>
            <a:ahLst/>
            <a:rect l="l" t="t" r="r" b="b"/>
            <a:pathLst>
              <a:path w="1067" h="646">
                <a:moveTo>
                  <a:pt x="9500" y="9128"/>
                </a:moveTo>
                <a:cubicBezTo>
                  <a:pt x="9497" y="9102"/>
                  <a:pt x="9479" y="8975"/>
                  <a:pt x="9426" y="8979"/>
                </a:cubicBezTo>
                <a:cubicBezTo>
                  <a:pt x="9357" y="8984"/>
                  <a:pt x="9279" y="9035"/>
                  <a:pt x="9227" y="9079"/>
                </a:cubicBezTo>
                <a:cubicBezTo>
                  <a:pt x="9171" y="9126"/>
                  <a:pt x="9074" y="9204"/>
                  <a:pt x="9054" y="9277"/>
                </a:cubicBezTo>
                <a:cubicBezTo>
                  <a:pt x="9039" y="9331"/>
                  <a:pt x="9056" y="9466"/>
                  <a:pt x="9103" y="9500"/>
                </a:cubicBezTo>
                <a:cubicBezTo>
                  <a:pt x="9171" y="9550"/>
                  <a:pt x="9310" y="9626"/>
                  <a:pt x="9401" y="9624"/>
                </a:cubicBezTo>
                <a:cubicBezTo>
                  <a:pt x="9451" y="9616"/>
                  <a:pt x="9500" y="9607"/>
                  <a:pt x="9550" y="9599"/>
                </a:cubicBezTo>
              </a:path>
              <a:path w="1067" h="646">
                <a:moveTo>
                  <a:pt x="9823" y="9227"/>
                </a:moveTo>
                <a:cubicBezTo>
                  <a:pt x="9881" y="9208"/>
                  <a:pt x="9969" y="9184"/>
                  <a:pt x="10021" y="9178"/>
                </a:cubicBezTo>
                <a:cubicBezTo>
                  <a:pt x="10054" y="9178"/>
                  <a:pt x="10087" y="9178"/>
                  <a:pt x="10120" y="9178"/>
                </a:cubicBezTo>
              </a:path>
              <a:path w="1067" h="646">
                <a:moveTo>
                  <a:pt x="9823" y="9327"/>
                </a:moveTo>
                <a:cubicBezTo>
                  <a:pt x="9889" y="9371"/>
                  <a:pt x="9963" y="9392"/>
                  <a:pt x="10046" y="9376"/>
                </a:cubicBezTo>
                <a:cubicBezTo>
                  <a:pt x="10071" y="9368"/>
                  <a:pt x="10095" y="9359"/>
                  <a:pt x="10120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Ink 9"/>
          <p:cNvSpPr/>
          <p:nvPr/>
        </p:nvSpPr>
        <p:spPr>
          <a:xfrm>
            <a:off x="3813120" y="3152880"/>
            <a:ext cx="357120" cy="374400"/>
          </a:xfrm>
          <a:custGeom>
            <a:avLst/>
            <a:gdLst/>
            <a:ahLst/>
            <a:rect l="l" t="t" r="r" b="b"/>
            <a:pathLst>
              <a:path w="993" h="1043">
                <a:moveTo>
                  <a:pt x="10592" y="9153"/>
                </a:moveTo>
                <a:cubicBezTo>
                  <a:pt x="10691" y="9153"/>
                  <a:pt x="10790" y="9153"/>
                  <a:pt x="10889" y="9153"/>
                </a:cubicBezTo>
              </a:path>
              <a:path w="993" h="1043">
                <a:moveTo>
                  <a:pt x="11063" y="8830"/>
                </a:moveTo>
                <a:cubicBezTo>
                  <a:pt x="11024" y="8960"/>
                  <a:pt x="10944" y="9154"/>
                  <a:pt x="10964" y="9302"/>
                </a:cubicBezTo>
                <a:cubicBezTo>
                  <a:pt x="10976" y="9392"/>
                  <a:pt x="10997" y="9469"/>
                  <a:pt x="11038" y="9550"/>
                </a:cubicBezTo>
                <a:cubicBezTo>
                  <a:pt x="11046" y="9566"/>
                  <a:pt x="11055" y="9583"/>
                  <a:pt x="11063" y="9599"/>
                </a:cubicBezTo>
              </a:path>
              <a:path w="993" h="1043">
                <a:moveTo>
                  <a:pt x="11435" y="8756"/>
                </a:moveTo>
                <a:cubicBezTo>
                  <a:pt x="11435" y="9010"/>
                  <a:pt x="11441" y="9223"/>
                  <a:pt x="11485" y="9475"/>
                </a:cubicBezTo>
                <a:cubicBezTo>
                  <a:pt x="11506" y="9597"/>
                  <a:pt x="11535" y="9686"/>
                  <a:pt x="11584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Ink 10"/>
          <p:cNvSpPr/>
          <p:nvPr/>
        </p:nvSpPr>
        <p:spPr>
          <a:xfrm>
            <a:off x="696960" y="3554280"/>
            <a:ext cx="8393040" cy="1446480"/>
          </a:xfrm>
          <a:custGeom>
            <a:avLst/>
            <a:gdLst/>
            <a:ahLst/>
            <a:rect l="l" t="t" r="r" b="b"/>
            <a:pathLst>
              <a:path w="23317" h="4020">
                <a:moveTo>
                  <a:pt x="1935" y="10592"/>
                </a:moveTo>
                <a:cubicBezTo>
                  <a:pt x="1989" y="10797"/>
                  <a:pt x="2054" y="10880"/>
                  <a:pt x="2133" y="11063"/>
                </a:cubicBezTo>
                <a:cubicBezTo>
                  <a:pt x="2182" y="11175"/>
                  <a:pt x="2261" y="11273"/>
                  <a:pt x="2332" y="11361"/>
                </a:cubicBezTo>
                <a:cubicBezTo>
                  <a:pt x="2393" y="11436"/>
                  <a:pt x="2469" y="11473"/>
                  <a:pt x="2555" y="11485"/>
                </a:cubicBezTo>
              </a:path>
              <a:path w="23317" h="4020">
                <a:moveTo>
                  <a:pt x="2332" y="10492"/>
                </a:moveTo>
                <a:cubicBezTo>
                  <a:pt x="2261" y="10608"/>
                  <a:pt x="2197" y="10724"/>
                  <a:pt x="2133" y="10840"/>
                </a:cubicBezTo>
                <a:cubicBezTo>
                  <a:pt x="2087" y="10922"/>
                  <a:pt x="1984" y="11028"/>
                  <a:pt x="1960" y="11112"/>
                </a:cubicBezTo>
                <a:cubicBezTo>
                  <a:pt x="1945" y="11162"/>
                  <a:pt x="1942" y="11233"/>
                  <a:pt x="1935" y="11286"/>
                </a:cubicBezTo>
              </a:path>
              <a:path w="23317" h="4020">
                <a:moveTo>
                  <a:pt x="2381" y="10790"/>
                </a:moveTo>
                <a:cubicBezTo>
                  <a:pt x="2472" y="10795"/>
                  <a:pt x="2589" y="10791"/>
                  <a:pt x="2679" y="10815"/>
                </a:cubicBezTo>
                <a:cubicBezTo>
                  <a:pt x="2696" y="10823"/>
                  <a:pt x="2712" y="10832"/>
                  <a:pt x="2729" y="10840"/>
                </a:cubicBezTo>
              </a:path>
              <a:path w="23317" h="4020">
                <a:moveTo>
                  <a:pt x="2555" y="11038"/>
                </a:moveTo>
                <a:cubicBezTo>
                  <a:pt x="2674" y="11072"/>
                  <a:pt x="2761" y="11102"/>
                  <a:pt x="2877" y="11063"/>
                </a:cubicBezTo>
              </a:path>
              <a:path w="23317" h="4020">
                <a:moveTo>
                  <a:pt x="3274" y="10716"/>
                </a:moveTo>
                <a:cubicBezTo>
                  <a:pt x="3357" y="10716"/>
                  <a:pt x="3471" y="10746"/>
                  <a:pt x="3547" y="10740"/>
                </a:cubicBezTo>
                <a:cubicBezTo>
                  <a:pt x="3572" y="10732"/>
                  <a:pt x="3596" y="10724"/>
                  <a:pt x="3621" y="10716"/>
                </a:cubicBezTo>
              </a:path>
              <a:path w="23317" h="4020">
                <a:moveTo>
                  <a:pt x="4167" y="10492"/>
                </a:moveTo>
                <a:cubicBezTo>
                  <a:pt x="4115" y="10591"/>
                  <a:pt x="4057" y="10685"/>
                  <a:pt x="4018" y="10790"/>
                </a:cubicBezTo>
                <a:cubicBezTo>
                  <a:pt x="3984" y="10881"/>
                  <a:pt x="3973" y="10992"/>
                  <a:pt x="3969" y="11088"/>
                </a:cubicBezTo>
                <a:cubicBezTo>
                  <a:pt x="3965" y="11191"/>
                  <a:pt x="4003" y="11281"/>
                  <a:pt x="4068" y="11361"/>
                </a:cubicBezTo>
                <a:cubicBezTo>
                  <a:pt x="4156" y="11469"/>
                  <a:pt x="4303" y="11528"/>
                  <a:pt x="4440" y="11509"/>
                </a:cubicBezTo>
                <a:cubicBezTo>
                  <a:pt x="4518" y="11498"/>
                  <a:pt x="4553" y="11478"/>
                  <a:pt x="4589" y="11410"/>
                </a:cubicBezTo>
                <a:cubicBezTo>
                  <a:pt x="4616" y="11359"/>
                  <a:pt x="4630" y="11271"/>
                  <a:pt x="4614" y="11212"/>
                </a:cubicBezTo>
                <a:cubicBezTo>
                  <a:pt x="4605" y="11180"/>
                  <a:pt x="4579" y="11099"/>
                  <a:pt x="4539" y="11088"/>
                </a:cubicBezTo>
                <a:cubicBezTo>
                  <a:pt x="4456" y="11065"/>
                  <a:pt x="4383" y="11097"/>
                  <a:pt x="4341" y="11162"/>
                </a:cubicBezTo>
                <a:cubicBezTo>
                  <a:pt x="4289" y="11242"/>
                  <a:pt x="4291" y="11319"/>
                  <a:pt x="4291" y="11410"/>
                </a:cubicBezTo>
                <a:cubicBezTo>
                  <a:pt x="4291" y="11485"/>
                  <a:pt x="4291" y="11509"/>
                  <a:pt x="4291" y="11559"/>
                </a:cubicBezTo>
              </a:path>
              <a:path w="23317" h="4020">
                <a:moveTo>
                  <a:pt x="5159" y="10393"/>
                </a:moveTo>
                <a:cubicBezTo>
                  <a:pt x="5152" y="10531"/>
                  <a:pt x="5117" y="10654"/>
                  <a:pt x="5159" y="10790"/>
                </a:cubicBezTo>
                <a:cubicBezTo>
                  <a:pt x="5184" y="10840"/>
                  <a:pt x="5192" y="10856"/>
                  <a:pt x="5209" y="10889"/>
                </a:cubicBezTo>
              </a:path>
              <a:path w="23317" h="4020">
                <a:moveTo>
                  <a:pt x="4936" y="10616"/>
                </a:moveTo>
                <a:cubicBezTo>
                  <a:pt x="5047" y="10580"/>
                  <a:pt x="5142" y="10611"/>
                  <a:pt x="5259" y="10616"/>
                </a:cubicBezTo>
                <a:cubicBezTo>
                  <a:pt x="5275" y="10616"/>
                  <a:pt x="5292" y="10616"/>
                  <a:pt x="5308" y="10616"/>
                </a:cubicBezTo>
              </a:path>
              <a:path w="23317" h="4020">
                <a:moveTo>
                  <a:pt x="5135" y="11038"/>
                </a:moveTo>
                <a:cubicBezTo>
                  <a:pt x="5246" y="11066"/>
                  <a:pt x="5324" y="11073"/>
                  <a:pt x="5432" y="11063"/>
                </a:cubicBezTo>
                <a:cubicBezTo>
                  <a:pt x="5449" y="11063"/>
                  <a:pt x="5465" y="11063"/>
                  <a:pt x="5482" y="11063"/>
                </a:cubicBezTo>
              </a:path>
              <a:path w="23317" h="4020">
                <a:moveTo>
                  <a:pt x="5829" y="10740"/>
                </a:moveTo>
                <a:cubicBezTo>
                  <a:pt x="5829" y="10966"/>
                  <a:pt x="5836" y="11188"/>
                  <a:pt x="5854" y="11410"/>
                </a:cubicBezTo>
                <a:cubicBezTo>
                  <a:pt x="5859" y="11474"/>
                  <a:pt x="5854" y="11544"/>
                  <a:pt x="5854" y="11609"/>
                </a:cubicBezTo>
                <a:cubicBezTo>
                  <a:pt x="5854" y="11520"/>
                  <a:pt x="5854" y="11499"/>
                  <a:pt x="5854" y="11410"/>
                </a:cubicBezTo>
                <a:cubicBezTo>
                  <a:pt x="5854" y="11161"/>
                  <a:pt x="5842" y="10909"/>
                  <a:pt x="5829" y="10666"/>
                </a:cubicBezTo>
                <a:cubicBezTo>
                  <a:pt x="5820" y="10493"/>
                  <a:pt x="5829" y="10318"/>
                  <a:pt x="5829" y="10145"/>
                </a:cubicBezTo>
                <a:cubicBezTo>
                  <a:pt x="5919" y="10132"/>
                  <a:pt x="6000" y="10159"/>
                  <a:pt x="6102" y="10170"/>
                </a:cubicBezTo>
                <a:cubicBezTo>
                  <a:pt x="6234" y="10184"/>
                  <a:pt x="6367" y="10202"/>
                  <a:pt x="6499" y="10220"/>
                </a:cubicBezTo>
                <a:cubicBezTo>
                  <a:pt x="6745" y="10254"/>
                  <a:pt x="6995" y="10328"/>
                  <a:pt x="7243" y="10344"/>
                </a:cubicBezTo>
                <a:cubicBezTo>
                  <a:pt x="7499" y="10360"/>
                  <a:pt x="7757" y="10350"/>
                  <a:pt x="8012" y="10368"/>
                </a:cubicBezTo>
                <a:cubicBezTo>
                  <a:pt x="8318" y="10389"/>
                  <a:pt x="8623" y="10451"/>
                  <a:pt x="8930" y="10468"/>
                </a:cubicBezTo>
                <a:cubicBezTo>
                  <a:pt x="9129" y="10479"/>
                  <a:pt x="9327" y="10504"/>
                  <a:pt x="9525" y="10517"/>
                </a:cubicBezTo>
                <a:cubicBezTo>
                  <a:pt x="9590" y="10521"/>
                  <a:pt x="9951" y="10562"/>
                  <a:pt x="9996" y="10492"/>
                </a:cubicBezTo>
                <a:cubicBezTo>
                  <a:pt x="9961" y="10492"/>
                  <a:pt x="9944" y="10488"/>
                  <a:pt x="9922" y="10468"/>
                </a:cubicBezTo>
              </a:path>
              <a:path w="23317" h="4020">
                <a:moveTo>
                  <a:pt x="6424" y="10616"/>
                </a:moveTo>
                <a:cubicBezTo>
                  <a:pt x="6400" y="10690"/>
                  <a:pt x="6397" y="10773"/>
                  <a:pt x="6350" y="10840"/>
                </a:cubicBezTo>
                <a:cubicBezTo>
                  <a:pt x="6300" y="10911"/>
                  <a:pt x="6268" y="10993"/>
                  <a:pt x="6251" y="11088"/>
                </a:cubicBezTo>
                <a:cubicBezTo>
                  <a:pt x="6233" y="11188"/>
                  <a:pt x="6305" y="11287"/>
                  <a:pt x="6350" y="11361"/>
                </a:cubicBezTo>
                <a:cubicBezTo>
                  <a:pt x="6388" y="11425"/>
                  <a:pt x="6447" y="11469"/>
                  <a:pt x="6524" y="11485"/>
                </a:cubicBezTo>
                <a:cubicBezTo>
                  <a:pt x="6599" y="11500"/>
                  <a:pt x="6713" y="11490"/>
                  <a:pt x="6772" y="11460"/>
                </a:cubicBezTo>
                <a:cubicBezTo>
                  <a:pt x="6812" y="11440"/>
                  <a:pt x="6858" y="11359"/>
                  <a:pt x="6871" y="11311"/>
                </a:cubicBezTo>
                <a:cubicBezTo>
                  <a:pt x="6883" y="11266"/>
                  <a:pt x="6857" y="11139"/>
                  <a:pt x="6821" y="11112"/>
                </a:cubicBezTo>
                <a:cubicBezTo>
                  <a:pt x="6742" y="11052"/>
                  <a:pt x="6672" y="11136"/>
                  <a:pt x="6648" y="11187"/>
                </a:cubicBezTo>
                <a:cubicBezTo>
                  <a:pt x="6623" y="11241"/>
                  <a:pt x="6586" y="11326"/>
                  <a:pt x="6598" y="11385"/>
                </a:cubicBezTo>
                <a:cubicBezTo>
                  <a:pt x="6614" y="11464"/>
                  <a:pt x="6642" y="11565"/>
                  <a:pt x="6722" y="11609"/>
                </a:cubicBezTo>
                <a:cubicBezTo>
                  <a:pt x="6739" y="11609"/>
                  <a:pt x="6755" y="11609"/>
                  <a:pt x="6772" y="11609"/>
                </a:cubicBezTo>
              </a:path>
              <a:path w="23317" h="4020">
                <a:moveTo>
                  <a:pt x="6896" y="10468"/>
                </a:moveTo>
                <a:cubicBezTo>
                  <a:pt x="7005" y="10448"/>
                  <a:pt x="7048" y="10470"/>
                  <a:pt x="7144" y="10542"/>
                </a:cubicBezTo>
                <a:cubicBezTo>
                  <a:pt x="7207" y="10590"/>
                  <a:pt x="7208" y="10648"/>
                  <a:pt x="7169" y="10716"/>
                </a:cubicBezTo>
                <a:cubicBezTo>
                  <a:pt x="7137" y="10772"/>
                  <a:pt x="7066" y="10799"/>
                  <a:pt x="7020" y="10840"/>
                </a:cubicBezTo>
                <a:cubicBezTo>
                  <a:pt x="7012" y="10848"/>
                  <a:pt x="7003" y="10856"/>
                  <a:pt x="6995" y="10864"/>
                </a:cubicBezTo>
                <a:cubicBezTo>
                  <a:pt x="7093" y="10901"/>
                  <a:pt x="7149" y="10876"/>
                  <a:pt x="7243" y="10864"/>
                </a:cubicBezTo>
                <a:cubicBezTo>
                  <a:pt x="7268" y="10864"/>
                  <a:pt x="7292" y="10864"/>
                  <a:pt x="7317" y="10864"/>
                </a:cubicBezTo>
              </a:path>
              <a:path w="23317" h="4020">
                <a:moveTo>
                  <a:pt x="7417" y="11162"/>
                </a:moveTo>
                <a:cubicBezTo>
                  <a:pt x="7535" y="11186"/>
                  <a:pt x="7599" y="11175"/>
                  <a:pt x="7714" y="11162"/>
                </a:cubicBezTo>
              </a:path>
              <a:path w="23317" h="4020">
                <a:moveTo>
                  <a:pt x="8111" y="10889"/>
                </a:moveTo>
                <a:cubicBezTo>
                  <a:pt x="8059" y="10952"/>
                  <a:pt x="8018" y="10938"/>
                  <a:pt x="8012" y="11038"/>
                </a:cubicBezTo>
                <a:cubicBezTo>
                  <a:pt x="8008" y="11106"/>
                  <a:pt x="8066" y="11116"/>
                  <a:pt x="8111" y="11162"/>
                </a:cubicBezTo>
                <a:cubicBezTo>
                  <a:pt x="8186" y="11237"/>
                  <a:pt x="8272" y="11211"/>
                  <a:pt x="8359" y="11187"/>
                </a:cubicBezTo>
              </a:path>
              <a:path w="23317" h="4020">
                <a:moveTo>
                  <a:pt x="8384" y="10740"/>
                </a:moveTo>
                <a:cubicBezTo>
                  <a:pt x="8337" y="10934"/>
                  <a:pt x="8283" y="11110"/>
                  <a:pt x="8310" y="11311"/>
                </a:cubicBezTo>
                <a:cubicBezTo>
                  <a:pt x="8324" y="11418"/>
                  <a:pt x="8347" y="11527"/>
                  <a:pt x="8359" y="11633"/>
                </a:cubicBezTo>
                <a:cubicBezTo>
                  <a:pt x="8359" y="11699"/>
                  <a:pt x="8359" y="11716"/>
                  <a:pt x="8359" y="11757"/>
                </a:cubicBezTo>
              </a:path>
              <a:path w="23317" h="4020">
                <a:moveTo>
                  <a:pt x="8706" y="10765"/>
                </a:moveTo>
                <a:cubicBezTo>
                  <a:pt x="8657" y="10865"/>
                  <a:pt x="8617" y="10957"/>
                  <a:pt x="8582" y="11063"/>
                </a:cubicBezTo>
                <a:cubicBezTo>
                  <a:pt x="8543" y="11181"/>
                  <a:pt x="8536" y="11265"/>
                  <a:pt x="8558" y="11385"/>
                </a:cubicBezTo>
                <a:cubicBezTo>
                  <a:pt x="8575" y="11478"/>
                  <a:pt x="8633" y="11600"/>
                  <a:pt x="8682" y="11683"/>
                </a:cubicBezTo>
                <a:cubicBezTo>
                  <a:pt x="8722" y="11724"/>
                  <a:pt x="8752" y="11738"/>
                  <a:pt x="8806" y="11733"/>
                </a:cubicBezTo>
              </a:path>
              <a:path w="23317" h="4020">
                <a:moveTo>
                  <a:pt x="8930" y="10939"/>
                </a:moveTo>
                <a:cubicBezTo>
                  <a:pt x="8868" y="11026"/>
                  <a:pt x="8847" y="11049"/>
                  <a:pt x="8855" y="11137"/>
                </a:cubicBezTo>
                <a:cubicBezTo>
                  <a:pt x="8862" y="11208"/>
                  <a:pt x="8867" y="11266"/>
                  <a:pt x="8954" y="11286"/>
                </a:cubicBezTo>
                <a:cubicBezTo>
                  <a:pt x="9005" y="11298"/>
                  <a:pt x="9099" y="11332"/>
                  <a:pt x="9153" y="11311"/>
                </a:cubicBezTo>
                <a:cubicBezTo>
                  <a:pt x="9161" y="11303"/>
                  <a:pt x="9170" y="11294"/>
                  <a:pt x="9178" y="11286"/>
                </a:cubicBezTo>
              </a:path>
              <a:path w="23317" h="4020">
                <a:moveTo>
                  <a:pt x="9203" y="10840"/>
                </a:moveTo>
                <a:cubicBezTo>
                  <a:pt x="9164" y="10936"/>
                  <a:pt x="9114" y="11053"/>
                  <a:pt x="9128" y="11162"/>
                </a:cubicBezTo>
                <a:cubicBezTo>
                  <a:pt x="9144" y="11290"/>
                  <a:pt x="9182" y="11414"/>
                  <a:pt x="9227" y="11534"/>
                </a:cubicBezTo>
                <a:cubicBezTo>
                  <a:pt x="9250" y="11595"/>
                  <a:pt x="9247" y="11634"/>
                  <a:pt x="9277" y="11683"/>
                </a:cubicBezTo>
              </a:path>
              <a:path w="23317" h="4020">
                <a:moveTo>
                  <a:pt x="9401" y="10616"/>
                </a:moveTo>
                <a:cubicBezTo>
                  <a:pt x="9457" y="10742"/>
                  <a:pt x="9534" y="10883"/>
                  <a:pt x="9575" y="11013"/>
                </a:cubicBezTo>
                <a:cubicBezTo>
                  <a:pt x="9616" y="11144"/>
                  <a:pt x="9619" y="11348"/>
                  <a:pt x="9599" y="11485"/>
                </a:cubicBezTo>
                <a:cubicBezTo>
                  <a:pt x="9583" y="11596"/>
                  <a:pt x="9508" y="11672"/>
                  <a:pt x="9451" y="11757"/>
                </a:cubicBezTo>
                <a:cubicBezTo>
                  <a:pt x="9417" y="11808"/>
                  <a:pt x="9374" y="11872"/>
                  <a:pt x="9351" y="11782"/>
                </a:cubicBezTo>
              </a:path>
              <a:path w="23317" h="4020">
                <a:moveTo>
                  <a:pt x="9823" y="10740"/>
                </a:moveTo>
                <a:cubicBezTo>
                  <a:pt x="9761" y="10893"/>
                  <a:pt x="9723" y="10998"/>
                  <a:pt x="9723" y="11162"/>
                </a:cubicBezTo>
                <a:cubicBezTo>
                  <a:pt x="9723" y="11299"/>
                  <a:pt x="9762" y="11403"/>
                  <a:pt x="9798" y="11534"/>
                </a:cubicBezTo>
                <a:cubicBezTo>
                  <a:pt x="9832" y="11658"/>
                  <a:pt x="9830" y="11664"/>
                  <a:pt x="9897" y="11757"/>
                </a:cubicBezTo>
              </a:path>
              <a:path w="23317" h="4020">
                <a:moveTo>
                  <a:pt x="10145" y="11237"/>
                </a:moveTo>
                <a:cubicBezTo>
                  <a:pt x="10253" y="11215"/>
                  <a:pt x="10280" y="11212"/>
                  <a:pt x="10344" y="11187"/>
                </a:cubicBezTo>
              </a:path>
              <a:path w="23317" h="4020">
                <a:moveTo>
                  <a:pt x="10443" y="11063"/>
                </a:moveTo>
                <a:cubicBezTo>
                  <a:pt x="10420" y="11275"/>
                  <a:pt x="10387" y="11479"/>
                  <a:pt x="10418" y="11683"/>
                </a:cubicBezTo>
                <a:cubicBezTo>
                  <a:pt x="10427" y="11743"/>
                  <a:pt x="10412" y="11743"/>
                  <a:pt x="10468" y="11757"/>
                </a:cubicBezTo>
              </a:path>
              <a:path w="23317" h="4020">
                <a:moveTo>
                  <a:pt x="10716" y="10939"/>
                </a:moveTo>
                <a:cubicBezTo>
                  <a:pt x="10695" y="11178"/>
                  <a:pt x="10681" y="11312"/>
                  <a:pt x="10740" y="11534"/>
                </a:cubicBezTo>
                <a:cubicBezTo>
                  <a:pt x="10759" y="11605"/>
                  <a:pt x="10757" y="11653"/>
                  <a:pt x="10790" y="11708"/>
                </a:cubicBezTo>
              </a:path>
              <a:path w="23317" h="4020">
                <a:moveTo>
                  <a:pt x="11112" y="10914"/>
                </a:moveTo>
                <a:cubicBezTo>
                  <a:pt x="11140" y="11132"/>
                  <a:pt x="11191" y="11384"/>
                  <a:pt x="11162" y="11609"/>
                </a:cubicBezTo>
                <a:cubicBezTo>
                  <a:pt x="11146" y="11730"/>
                  <a:pt x="11131" y="11810"/>
                  <a:pt x="11063" y="11906"/>
                </a:cubicBezTo>
                <a:cubicBezTo>
                  <a:pt x="10996" y="12000"/>
                  <a:pt x="10972" y="12001"/>
                  <a:pt x="10864" y="12055"/>
                </a:cubicBezTo>
              </a:path>
              <a:path w="23317" h="4020">
                <a:moveTo>
                  <a:pt x="11832" y="11708"/>
                </a:moveTo>
                <a:cubicBezTo>
                  <a:pt x="11950" y="11684"/>
                  <a:pt x="12029" y="11683"/>
                  <a:pt x="12154" y="11683"/>
                </a:cubicBezTo>
              </a:path>
              <a:path w="23317" h="4020">
                <a:moveTo>
                  <a:pt x="11881" y="11981"/>
                </a:moveTo>
                <a:cubicBezTo>
                  <a:pt x="12002" y="12010"/>
                  <a:pt x="12084" y="11999"/>
                  <a:pt x="12204" y="11956"/>
                </a:cubicBezTo>
                <a:cubicBezTo>
                  <a:pt x="12221" y="11948"/>
                  <a:pt x="12237" y="11939"/>
                  <a:pt x="12254" y="11931"/>
                </a:cubicBezTo>
              </a:path>
              <a:path w="23317" h="4020">
                <a:moveTo>
                  <a:pt x="12700" y="11435"/>
                </a:moveTo>
                <a:cubicBezTo>
                  <a:pt x="12810" y="11410"/>
                  <a:pt x="12920" y="11394"/>
                  <a:pt x="13022" y="11361"/>
                </a:cubicBezTo>
              </a:path>
              <a:path w="23317" h="4020">
                <a:moveTo>
                  <a:pt x="13519" y="10964"/>
                </a:moveTo>
                <a:cubicBezTo>
                  <a:pt x="13496" y="11067"/>
                  <a:pt x="13431" y="11157"/>
                  <a:pt x="13395" y="11261"/>
                </a:cubicBezTo>
                <a:cubicBezTo>
                  <a:pt x="13351" y="11389"/>
                  <a:pt x="13297" y="11520"/>
                  <a:pt x="13320" y="11658"/>
                </a:cubicBezTo>
                <a:cubicBezTo>
                  <a:pt x="13342" y="11791"/>
                  <a:pt x="13367" y="11844"/>
                  <a:pt x="13469" y="11906"/>
                </a:cubicBezTo>
                <a:cubicBezTo>
                  <a:pt x="13575" y="11970"/>
                  <a:pt x="13679" y="12014"/>
                  <a:pt x="13791" y="11931"/>
                </a:cubicBezTo>
                <a:cubicBezTo>
                  <a:pt x="13863" y="11878"/>
                  <a:pt x="13922" y="11769"/>
                  <a:pt x="13940" y="11683"/>
                </a:cubicBezTo>
                <a:cubicBezTo>
                  <a:pt x="13957" y="11603"/>
                  <a:pt x="13886" y="11550"/>
                  <a:pt x="13816" y="11534"/>
                </a:cubicBezTo>
                <a:cubicBezTo>
                  <a:pt x="13737" y="11516"/>
                  <a:pt x="13667" y="11591"/>
                  <a:pt x="13643" y="11658"/>
                </a:cubicBezTo>
                <a:cubicBezTo>
                  <a:pt x="13602" y="11773"/>
                  <a:pt x="13624" y="11827"/>
                  <a:pt x="13742" y="11832"/>
                </a:cubicBezTo>
                <a:cubicBezTo>
                  <a:pt x="13767" y="11832"/>
                  <a:pt x="13791" y="11832"/>
                  <a:pt x="13816" y="11832"/>
                </a:cubicBezTo>
              </a:path>
              <a:path w="23317" h="4020">
                <a:moveTo>
                  <a:pt x="14213" y="10889"/>
                </a:moveTo>
                <a:cubicBezTo>
                  <a:pt x="14168" y="11063"/>
                  <a:pt x="14113" y="11185"/>
                  <a:pt x="14163" y="11361"/>
                </a:cubicBezTo>
                <a:cubicBezTo>
                  <a:pt x="14183" y="11401"/>
                  <a:pt x="14192" y="11407"/>
                  <a:pt x="14188" y="11435"/>
                </a:cubicBezTo>
              </a:path>
              <a:path w="23317" h="4020">
                <a:moveTo>
                  <a:pt x="13940" y="11137"/>
                </a:moveTo>
                <a:cubicBezTo>
                  <a:pt x="14083" y="11146"/>
                  <a:pt x="14221" y="11176"/>
                  <a:pt x="14362" y="11187"/>
                </a:cubicBezTo>
              </a:path>
              <a:path w="23317" h="4020">
                <a:moveTo>
                  <a:pt x="14114" y="11708"/>
                </a:moveTo>
                <a:cubicBezTo>
                  <a:pt x="14278" y="11790"/>
                  <a:pt x="14293" y="11788"/>
                  <a:pt x="14461" y="11733"/>
                </a:cubicBezTo>
              </a:path>
              <a:path w="23317" h="4020">
                <a:moveTo>
                  <a:pt x="14684" y="11460"/>
                </a:moveTo>
                <a:cubicBezTo>
                  <a:pt x="14631" y="11676"/>
                  <a:pt x="14536" y="11833"/>
                  <a:pt x="14660" y="12030"/>
                </a:cubicBezTo>
                <a:cubicBezTo>
                  <a:pt x="14684" y="12055"/>
                  <a:pt x="14692" y="12064"/>
                  <a:pt x="14709" y="12080"/>
                </a:cubicBezTo>
                <a:cubicBezTo>
                  <a:pt x="14709" y="11936"/>
                  <a:pt x="14724" y="11798"/>
                  <a:pt x="14734" y="11658"/>
                </a:cubicBezTo>
                <a:cubicBezTo>
                  <a:pt x="14750" y="11437"/>
                  <a:pt x="14725" y="11255"/>
                  <a:pt x="14784" y="11038"/>
                </a:cubicBezTo>
                <a:cubicBezTo>
                  <a:pt x="14812" y="10935"/>
                  <a:pt x="14891" y="10908"/>
                  <a:pt x="14982" y="10864"/>
                </a:cubicBezTo>
                <a:cubicBezTo>
                  <a:pt x="15150" y="10783"/>
                  <a:pt x="15343" y="10815"/>
                  <a:pt x="15528" y="10815"/>
                </a:cubicBezTo>
                <a:cubicBezTo>
                  <a:pt x="15711" y="10815"/>
                  <a:pt x="15889" y="10840"/>
                  <a:pt x="16073" y="10840"/>
                </a:cubicBezTo>
                <a:cubicBezTo>
                  <a:pt x="16148" y="10840"/>
                  <a:pt x="16172" y="10840"/>
                  <a:pt x="16222" y="10840"/>
                </a:cubicBezTo>
              </a:path>
              <a:path w="23317" h="4020">
                <a:moveTo>
                  <a:pt x="15180" y="11311"/>
                </a:moveTo>
                <a:cubicBezTo>
                  <a:pt x="15268" y="11300"/>
                  <a:pt x="15363" y="11281"/>
                  <a:pt x="15453" y="11311"/>
                </a:cubicBezTo>
                <a:cubicBezTo>
                  <a:pt x="15564" y="11348"/>
                  <a:pt x="15651" y="11418"/>
                  <a:pt x="15577" y="11534"/>
                </a:cubicBezTo>
                <a:cubicBezTo>
                  <a:pt x="15488" y="11674"/>
                  <a:pt x="15354" y="11807"/>
                  <a:pt x="15280" y="11956"/>
                </a:cubicBezTo>
                <a:cubicBezTo>
                  <a:pt x="15251" y="12014"/>
                  <a:pt x="15238" y="12134"/>
                  <a:pt x="15304" y="12179"/>
                </a:cubicBezTo>
                <a:cubicBezTo>
                  <a:pt x="15404" y="12248"/>
                  <a:pt x="15508" y="12137"/>
                  <a:pt x="15577" y="12080"/>
                </a:cubicBezTo>
              </a:path>
              <a:path w="23317" h="4020">
                <a:moveTo>
                  <a:pt x="15875" y="11385"/>
                </a:moveTo>
                <a:cubicBezTo>
                  <a:pt x="15838" y="11587"/>
                  <a:pt x="15808" y="11775"/>
                  <a:pt x="15801" y="11981"/>
                </a:cubicBezTo>
                <a:cubicBezTo>
                  <a:pt x="15801" y="11990"/>
                  <a:pt x="15801" y="12135"/>
                  <a:pt x="15801" y="12005"/>
                </a:cubicBezTo>
              </a:path>
              <a:path w="23317" h="4020">
                <a:moveTo>
                  <a:pt x="16049" y="11311"/>
                </a:moveTo>
                <a:cubicBezTo>
                  <a:pt x="16238" y="11322"/>
                  <a:pt x="16343" y="11324"/>
                  <a:pt x="16396" y="11534"/>
                </a:cubicBezTo>
                <a:cubicBezTo>
                  <a:pt x="16432" y="11679"/>
                  <a:pt x="16322" y="11781"/>
                  <a:pt x="16247" y="11881"/>
                </a:cubicBezTo>
                <a:cubicBezTo>
                  <a:pt x="16200" y="11943"/>
                  <a:pt x="16073" y="12046"/>
                  <a:pt x="16073" y="12129"/>
                </a:cubicBezTo>
                <a:cubicBezTo>
                  <a:pt x="16073" y="12257"/>
                  <a:pt x="16400" y="12229"/>
                  <a:pt x="16421" y="12229"/>
                </a:cubicBezTo>
                <a:cubicBezTo>
                  <a:pt x="16538" y="12229"/>
                  <a:pt x="16572" y="12231"/>
                  <a:pt x="16644" y="12204"/>
                </a:cubicBezTo>
              </a:path>
              <a:path w="23317" h="4020">
                <a:moveTo>
                  <a:pt x="17363" y="11460"/>
                </a:moveTo>
                <a:cubicBezTo>
                  <a:pt x="17478" y="11393"/>
                  <a:pt x="17529" y="11385"/>
                  <a:pt x="17661" y="11385"/>
                </a:cubicBezTo>
                <a:cubicBezTo>
                  <a:pt x="17719" y="11385"/>
                  <a:pt x="17777" y="11385"/>
                  <a:pt x="17835" y="11385"/>
                </a:cubicBezTo>
              </a:path>
              <a:path w="23317" h="4020">
                <a:moveTo>
                  <a:pt x="17338" y="11807"/>
                </a:moveTo>
                <a:cubicBezTo>
                  <a:pt x="17425" y="11775"/>
                  <a:pt x="17503" y="11757"/>
                  <a:pt x="17587" y="11733"/>
                </a:cubicBezTo>
                <a:cubicBezTo>
                  <a:pt x="17677" y="11707"/>
                  <a:pt x="17762" y="11687"/>
                  <a:pt x="17859" y="11683"/>
                </a:cubicBezTo>
                <a:cubicBezTo>
                  <a:pt x="17876" y="11683"/>
                  <a:pt x="17892" y="11683"/>
                  <a:pt x="17909" y="11683"/>
                </a:cubicBezTo>
              </a:path>
              <a:path w="23317" h="4020">
                <a:moveTo>
                  <a:pt x="18355" y="11088"/>
                </a:moveTo>
                <a:cubicBezTo>
                  <a:pt x="18471" y="11088"/>
                  <a:pt x="18570" y="11095"/>
                  <a:pt x="18678" y="11112"/>
                </a:cubicBezTo>
                <a:cubicBezTo>
                  <a:pt x="18738" y="11122"/>
                  <a:pt x="18812" y="11128"/>
                  <a:pt x="18852" y="11112"/>
                </a:cubicBezTo>
              </a:path>
              <a:path w="23317" h="4020">
                <a:moveTo>
                  <a:pt x="19298" y="10666"/>
                </a:moveTo>
                <a:cubicBezTo>
                  <a:pt x="19258" y="10774"/>
                  <a:pt x="19207" y="10879"/>
                  <a:pt x="19174" y="10988"/>
                </a:cubicBezTo>
                <a:cubicBezTo>
                  <a:pt x="19128" y="11140"/>
                  <a:pt x="19056" y="11275"/>
                  <a:pt x="19050" y="11435"/>
                </a:cubicBezTo>
                <a:cubicBezTo>
                  <a:pt x="19048" y="11504"/>
                  <a:pt x="19016" y="11688"/>
                  <a:pt x="19075" y="11733"/>
                </a:cubicBezTo>
                <a:cubicBezTo>
                  <a:pt x="19114" y="11763"/>
                  <a:pt x="19196" y="11811"/>
                  <a:pt x="19248" y="11782"/>
                </a:cubicBezTo>
                <a:cubicBezTo>
                  <a:pt x="19286" y="11761"/>
                  <a:pt x="19373" y="11700"/>
                  <a:pt x="19397" y="11658"/>
                </a:cubicBezTo>
                <a:cubicBezTo>
                  <a:pt x="19422" y="11616"/>
                  <a:pt x="19509" y="11491"/>
                  <a:pt x="19496" y="11435"/>
                </a:cubicBezTo>
                <a:cubicBezTo>
                  <a:pt x="19472" y="11385"/>
                  <a:pt x="19464" y="11368"/>
                  <a:pt x="19422" y="11361"/>
                </a:cubicBezTo>
                <a:cubicBezTo>
                  <a:pt x="19365" y="11417"/>
                  <a:pt x="19305" y="11455"/>
                  <a:pt x="19248" y="11509"/>
                </a:cubicBezTo>
                <a:cubicBezTo>
                  <a:pt x="19205" y="11550"/>
                  <a:pt x="19090" y="11696"/>
                  <a:pt x="19075" y="11757"/>
                </a:cubicBezTo>
                <a:cubicBezTo>
                  <a:pt x="19054" y="11841"/>
                  <a:pt x="19045" y="11927"/>
                  <a:pt x="19075" y="12005"/>
                </a:cubicBezTo>
              </a:path>
              <a:path w="23317" h="4020">
                <a:moveTo>
                  <a:pt x="20067" y="10468"/>
                </a:moveTo>
                <a:cubicBezTo>
                  <a:pt x="20047" y="10589"/>
                  <a:pt x="20007" y="10722"/>
                  <a:pt x="19993" y="10840"/>
                </a:cubicBezTo>
                <a:cubicBezTo>
                  <a:pt x="19982" y="10933"/>
                  <a:pt x="19968" y="11017"/>
                  <a:pt x="19968" y="11112"/>
                </a:cubicBezTo>
                <a:cubicBezTo>
                  <a:pt x="19968" y="11154"/>
                  <a:pt x="19968" y="11195"/>
                  <a:pt x="19968" y="11237"/>
                </a:cubicBezTo>
              </a:path>
              <a:path w="23317" h="4020">
                <a:moveTo>
                  <a:pt x="19720" y="10840"/>
                </a:moveTo>
                <a:cubicBezTo>
                  <a:pt x="19807" y="10830"/>
                  <a:pt x="19907" y="10831"/>
                  <a:pt x="19993" y="10815"/>
                </a:cubicBezTo>
                <a:cubicBezTo>
                  <a:pt x="20081" y="10799"/>
                  <a:pt x="20149" y="10790"/>
                  <a:pt x="20241" y="10790"/>
                </a:cubicBezTo>
                <a:cubicBezTo>
                  <a:pt x="20285" y="10790"/>
                  <a:pt x="20299" y="10787"/>
                  <a:pt x="20315" y="10815"/>
                </a:cubicBezTo>
              </a:path>
              <a:path w="23317" h="4020">
                <a:moveTo>
                  <a:pt x="19893" y="11509"/>
                </a:moveTo>
                <a:cubicBezTo>
                  <a:pt x="19959" y="11542"/>
                  <a:pt x="20026" y="11576"/>
                  <a:pt x="20092" y="11609"/>
                </a:cubicBezTo>
              </a:path>
              <a:path w="23317" h="4020">
                <a:moveTo>
                  <a:pt x="20687" y="10716"/>
                </a:moveTo>
                <a:cubicBezTo>
                  <a:pt x="20658" y="10744"/>
                  <a:pt x="20650" y="10757"/>
                  <a:pt x="20662" y="10790"/>
                </a:cubicBezTo>
                <a:cubicBezTo>
                  <a:pt x="20690" y="10733"/>
                  <a:pt x="20701" y="10658"/>
                  <a:pt x="20737" y="10616"/>
                </a:cubicBezTo>
                <a:cubicBezTo>
                  <a:pt x="20759" y="10590"/>
                  <a:pt x="20861" y="10455"/>
                  <a:pt x="20886" y="10443"/>
                </a:cubicBezTo>
                <a:cubicBezTo>
                  <a:pt x="20964" y="10404"/>
                  <a:pt x="21020" y="10548"/>
                  <a:pt x="21034" y="10592"/>
                </a:cubicBezTo>
                <a:cubicBezTo>
                  <a:pt x="21069" y="10700"/>
                  <a:pt x="21058" y="10762"/>
                  <a:pt x="21034" y="10864"/>
                </a:cubicBezTo>
                <a:cubicBezTo>
                  <a:pt x="21003" y="10998"/>
                  <a:pt x="20952" y="11089"/>
                  <a:pt x="20910" y="11212"/>
                </a:cubicBezTo>
                <a:cubicBezTo>
                  <a:pt x="20869" y="11332"/>
                  <a:pt x="20833" y="11382"/>
                  <a:pt x="20762" y="11485"/>
                </a:cubicBezTo>
                <a:cubicBezTo>
                  <a:pt x="20741" y="11515"/>
                  <a:pt x="20704" y="11597"/>
                  <a:pt x="20662" y="11609"/>
                </a:cubicBezTo>
                <a:cubicBezTo>
                  <a:pt x="20547" y="11642"/>
                  <a:pt x="20558" y="11544"/>
                  <a:pt x="20563" y="11485"/>
                </a:cubicBezTo>
                <a:cubicBezTo>
                  <a:pt x="20569" y="11413"/>
                  <a:pt x="20573" y="11378"/>
                  <a:pt x="20638" y="11336"/>
                </a:cubicBezTo>
                <a:cubicBezTo>
                  <a:pt x="20722" y="11281"/>
                  <a:pt x="20739" y="11294"/>
                  <a:pt x="20836" y="11336"/>
                </a:cubicBezTo>
                <a:cubicBezTo>
                  <a:pt x="20885" y="11357"/>
                  <a:pt x="20920" y="11428"/>
                  <a:pt x="20910" y="11485"/>
                </a:cubicBezTo>
                <a:cubicBezTo>
                  <a:pt x="20896" y="11563"/>
                  <a:pt x="20837" y="11783"/>
                  <a:pt x="20861" y="11708"/>
                </a:cubicBezTo>
                <a:cubicBezTo>
                  <a:pt x="20869" y="11675"/>
                  <a:pt x="20878" y="11642"/>
                  <a:pt x="20886" y="11609"/>
                </a:cubicBezTo>
              </a:path>
              <a:path w="23317" h="4020">
                <a:moveTo>
                  <a:pt x="21406" y="10666"/>
                </a:moveTo>
                <a:cubicBezTo>
                  <a:pt x="21421" y="10735"/>
                  <a:pt x="21452" y="10840"/>
                  <a:pt x="21431" y="10914"/>
                </a:cubicBezTo>
                <a:cubicBezTo>
                  <a:pt x="21404" y="11012"/>
                  <a:pt x="21416" y="11035"/>
                  <a:pt x="21431" y="11137"/>
                </a:cubicBezTo>
                <a:cubicBezTo>
                  <a:pt x="21431" y="11182"/>
                  <a:pt x="21428" y="11195"/>
                  <a:pt x="21456" y="11212"/>
                </a:cubicBezTo>
                <a:cubicBezTo>
                  <a:pt x="21456" y="11125"/>
                  <a:pt x="21474" y="11043"/>
                  <a:pt x="21481" y="10964"/>
                </a:cubicBezTo>
                <a:cubicBezTo>
                  <a:pt x="21492" y="10839"/>
                  <a:pt x="21492" y="10711"/>
                  <a:pt x="21506" y="10592"/>
                </a:cubicBezTo>
                <a:cubicBezTo>
                  <a:pt x="21517" y="10501"/>
                  <a:pt x="21540" y="10429"/>
                  <a:pt x="21555" y="10344"/>
                </a:cubicBezTo>
                <a:cubicBezTo>
                  <a:pt x="21569" y="10261"/>
                  <a:pt x="21608" y="10243"/>
                  <a:pt x="21630" y="10170"/>
                </a:cubicBezTo>
                <a:cubicBezTo>
                  <a:pt x="21650" y="10103"/>
                  <a:pt x="21674" y="10046"/>
                  <a:pt x="21754" y="10021"/>
                </a:cubicBezTo>
                <a:cubicBezTo>
                  <a:pt x="21813" y="10002"/>
                  <a:pt x="21885" y="9981"/>
                  <a:pt x="21952" y="9971"/>
                </a:cubicBezTo>
                <a:cubicBezTo>
                  <a:pt x="22042" y="9958"/>
                  <a:pt x="22135" y="9932"/>
                  <a:pt x="22225" y="9922"/>
                </a:cubicBezTo>
                <a:cubicBezTo>
                  <a:pt x="22316" y="9912"/>
                  <a:pt x="22408" y="9910"/>
                  <a:pt x="22498" y="9897"/>
                </a:cubicBezTo>
                <a:cubicBezTo>
                  <a:pt x="22595" y="9883"/>
                  <a:pt x="22674" y="9872"/>
                  <a:pt x="22771" y="9872"/>
                </a:cubicBezTo>
              </a:path>
              <a:path w="23317" h="4020">
                <a:moveTo>
                  <a:pt x="21878" y="10269"/>
                </a:moveTo>
                <a:cubicBezTo>
                  <a:pt x="21993" y="10269"/>
                  <a:pt x="22071" y="10249"/>
                  <a:pt x="22175" y="10244"/>
                </a:cubicBezTo>
                <a:cubicBezTo>
                  <a:pt x="22233" y="10244"/>
                  <a:pt x="22258" y="10261"/>
                  <a:pt x="22250" y="10220"/>
                </a:cubicBezTo>
              </a:path>
              <a:path w="23317" h="4020">
                <a:moveTo>
                  <a:pt x="21903" y="10170"/>
                </a:moveTo>
                <a:cubicBezTo>
                  <a:pt x="21865" y="10236"/>
                  <a:pt x="21840" y="10293"/>
                  <a:pt x="21828" y="10368"/>
                </a:cubicBezTo>
                <a:cubicBezTo>
                  <a:pt x="21814" y="10453"/>
                  <a:pt x="21817" y="10545"/>
                  <a:pt x="21779" y="10616"/>
                </a:cubicBezTo>
                <a:cubicBezTo>
                  <a:pt x="21745" y="10680"/>
                  <a:pt x="21741" y="10726"/>
                  <a:pt x="21704" y="10790"/>
                </a:cubicBezTo>
                <a:cubicBezTo>
                  <a:pt x="21751" y="10732"/>
                  <a:pt x="21773" y="10687"/>
                  <a:pt x="21828" y="10641"/>
                </a:cubicBezTo>
                <a:cubicBezTo>
                  <a:pt x="21886" y="10593"/>
                  <a:pt x="21898" y="10592"/>
                  <a:pt x="21977" y="10592"/>
                </a:cubicBezTo>
                <a:cubicBezTo>
                  <a:pt x="22033" y="10592"/>
                  <a:pt x="22069" y="10641"/>
                  <a:pt x="22101" y="10691"/>
                </a:cubicBezTo>
                <a:cubicBezTo>
                  <a:pt x="22149" y="10765"/>
                  <a:pt x="22172" y="10833"/>
                  <a:pt x="22126" y="10914"/>
                </a:cubicBezTo>
                <a:cubicBezTo>
                  <a:pt x="22097" y="10965"/>
                  <a:pt x="22063" y="11041"/>
                  <a:pt x="22027" y="11088"/>
                </a:cubicBezTo>
                <a:cubicBezTo>
                  <a:pt x="21982" y="11146"/>
                  <a:pt x="21805" y="11367"/>
                  <a:pt x="21729" y="11361"/>
                </a:cubicBezTo>
                <a:cubicBezTo>
                  <a:pt x="21721" y="11353"/>
                  <a:pt x="21712" y="11344"/>
                  <a:pt x="21704" y="11336"/>
                </a:cubicBezTo>
              </a:path>
              <a:path w="23317" h="4020">
                <a:moveTo>
                  <a:pt x="22225" y="10393"/>
                </a:moveTo>
                <a:cubicBezTo>
                  <a:pt x="22263" y="10301"/>
                  <a:pt x="22295" y="10248"/>
                  <a:pt x="22423" y="10294"/>
                </a:cubicBezTo>
                <a:cubicBezTo>
                  <a:pt x="22459" y="10307"/>
                  <a:pt x="22525" y="10358"/>
                  <a:pt x="22547" y="10393"/>
                </a:cubicBezTo>
                <a:cubicBezTo>
                  <a:pt x="22610" y="10493"/>
                  <a:pt x="22503" y="10547"/>
                  <a:pt x="22448" y="10616"/>
                </a:cubicBezTo>
                <a:cubicBezTo>
                  <a:pt x="22379" y="10702"/>
                  <a:pt x="22327" y="10746"/>
                  <a:pt x="22250" y="10815"/>
                </a:cubicBezTo>
                <a:cubicBezTo>
                  <a:pt x="22224" y="10838"/>
                  <a:pt x="22200" y="10864"/>
                  <a:pt x="22175" y="10889"/>
                </a:cubicBezTo>
                <a:cubicBezTo>
                  <a:pt x="22222" y="10866"/>
                  <a:pt x="22323" y="10809"/>
                  <a:pt x="22374" y="10815"/>
                </a:cubicBezTo>
                <a:cubicBezTo>
                  <a:pt x="22440" y="10822"/>
                  <a:pt x="22499" y="10841"/>
                  <a:pt x="22547" y="10889"/>
                </a:cubicBezTo>
                <a:cubicBezTo>
                  <a:pt x="22585" y="10927"/>
                  <a:pt x="22589" y="11021"/>
                  <a:pt x="22547" y="11063"/>
                </a:cubicBezTo>
                <a:cubicBezTo>
                  <a:pt x="22469" y="11141"/>
                  <a:pt x="22359" y="11189"/>
                  <a:pt x="22275" y="11261"/>
                </a:cubicBezTo>
                <a:cubicBezTo>
                  <a:pt x="22187" y="11337"/>
                  <a:pt x="22087" y="11350"/>
                  <a:pt x="22002" y="11435"/>
                </a:cubicBezTo>
              </a:path>
              <a:path w="23317" h="4020">
                <a:moveTo>
                  <a:pt x="22374" y="11683"/>
                </a:moveTo>
                <a:cubicBezTo>
                  <a:pt x="22331" y="11712"/>
                  <a:pt x="22297" y="11759"/>
                  <a:pt x="22250" y="11782"/>
                </a:cubicBezTo>
                <a:cubicBezTo>
                  <a:pt x="22177" y="11818"/>
                  <a:pt x="22080" y="11824"/>
                  <a:pt x="22002" y="11832"/>
                </a:cubicBezTo>
                <a:cubicBezTo>
                  <a:pt x="21920" y="11840"/>
                  <a:pt x="21833" y="11851"/>
                  <a:pt x="21754" y="11857"/>
                </a:cubicBezTo>
                <a:cubicBezTo>
                  <a:pt x="21666" y="11864"/>
                  <a:pt x="21591" y="11838"/>
                  <a:pt x="21506" y="11832"/>
                </a:cubicBezTo>
                <a:cubicBezTo>
                  <a:pt x="20950" y="11795"/>
                  <a:pt x="20373" y="11829"/>
                  <a:pt x="19819" y="11857"/>
                </a:cubicBezTo>
                <a:cubicBezTo>
                  <a:pt x="19692" y="11863"/>
                  <a:pt x="19595" y="11869"/>
                  <a:pt x="19472" y="11906"/>
                </a:cubicBezTo>
                <a:cubicBezTo>
                  <a:pt x="19349" y="11943"/>
                  <a:pt x="19224" y="11973"/>
                  <a:pt x="19100" y="12005"/>
                </a:cubicBezTo>
                <a:cubicBezTo>
                  <a:pt x="18932" y="12048"/>
                  <a:pt x="18777" y="12117"/>
                  <a:pt x="18628" y="12179"/>
                </a:cubicBezTo>
                <a:cubicBezTo>
                  <a:pt x="18533" y="12219"/>
                  <a:pt x="18429" y="12246"/>
                  <a:pt x="18331" y="12278"/>
                </a:cubicBezTo>
                <a:cubicBezTo>
                  <a:pt x="18279" y="12295"/>
                  <a:pt x="18227" y="12308"/>
                  <a:pt x="18182" y="12353"/>
                </a:cubicBezTo>
                <a:cubicBezTo>
                  <a:pt x="18134" y="12377"/>
                  <a:pt x="18115" y="12385"/>
                  <a:pt x="18182" y="12378"/>
                </a:cubicBezTo>
              </a:path>
              <a:path w="23317" h="4020">
                <a:moveTo>
                  <a:pt x="20638" y="12601"/>
                </a:moveTo>
                <a:cubicBezTo>
                  <a:pt x="20528" y="12582"/>
                  <a:pt x="20427" y="12576"/>
                  <a:pt x="20315" y="12576"/>
                </a:cubicBezTo>
                <a:cubicBezTo>
                  <a:pt x="20235" y="12576"/>
                  <a:pt x="20157" y="12560"/>
                  <a:pt x="20092" y="12551"/>
                </a:cubicBezTo>
                <a:cubicBezTo>
                  <a:pt x="20052" y="12546"/>
                  <a:pt x="19969" y="12571"/>
                  <a:pt x="19943" y="12601"/>
                </a:cubicBezTo>
                <a:cubicBezTo>
                  <a:pt x="19905" y="12645"/>
                  <a:pt x="19930" y="12734"/>
                  <a:pt x="19943" y="12774"/>
                </a:cubicBezTo>
                <a:cubicBezTo>
                  <a:pt x="19969" y="12852"/>
                  <a:pt x="20038" y="12900"/>
                  <a:pt x="20092" y="12948"/>
                </a:cubicBezTo>
                <a:cubicBezTo>
                  <a:pt x="20139" y="12990"/>
                  <a:pt x="20149" y="13058"/>
                  <a:pt x="20191" y="13097"/>
                </a:cubicBezTo>
                <a:cubicBezTo>
                  <a:pt x="20253" y="13154"/>
                  <a:pt x="20291" y="13171"/>
                  <a:pt x="20315" y="13246"/>
                </a:cubicBezTo>
                <a:cubicBezTo>
                  <a:pt x="20351" y="13358"/>
                  <a:pt x="20352" y="13461"/>
                  <a:pt x="20315" y="13568"/>
                </a:cubicBezTo>
                <a:cubicBezTo>
                  <a:pt x="20280" y="13667"/>
                  <a:pt x="20248" y="13697"/>
                  <a:pt x="20191" y="13767"/>
                </a:cubicBezTo>
                <a:cubicBezTo>
                  <a:pt x="20161" y="13804"/>
                  <a:pt x="20139" y="13867"/>
                  <a:pt x="20092" y="13891"/>
                </a:cubicBezTo>
                <a:cubicBezTo>
                  <a:pt x="20033" y="13921"/>
                  <a:pt x="19963" y="13856"/>
                  <a:pt x="19943" y="13816"/>
                </a:cubicBezTo>
                <a:cubicBezTo>
                  <a:pt x="19898" y="13727"/>
                  <a:pt x="19893" y="13669"/>
                  <a:pt x="19893" y="13568"/>
                </a:cubicBezTo>
                <a:cubicBezTo>
                  <a:pt x="19893" y="13476"/>
                  <a:pt x="19941" y="13405"/>
                  <a:pt x="19968" y="13320"/>
                </a:cubicBezTo>
                <a:cubicBezTo>
                  <a:pt x="20005" y="13202"/>
                  <a:pt x="20036" y="13109"/>
                  <a:pt x="20092" y="12998"/>
                </a:cubicBezTo>
                <a:cubicBezTo>
                  <a:pt x="20148" y="12887"/>
                  <a:pt x="20182" y="12731"/>
                  <a:pt x="20241" y="12626"/>
                </a:cubicBezTo>
                <a:cubicBezTo>
                  <a:pt x="20284" y="12549"/>
                  <a:pt x="20345" y="12471"/>
                  <a:pt x="20365" y="12378"/>
                </a:cubicBezTo>
                <a:cubicBezTo>
                  <a:pt x="20379" y="12313"/>
                  <a:pt x="20369" y="12212"/>
                  <a:pt x="20340" y="12154"/>
                </a:cubicBezTo>
                <a:cubicBezTo>
                  <a:pt x="20332" y="12146"/>
                  <a:pt x="20323" y="12137"/>
                  <a:pt x="20315" y="12129"/>
                </a:cubicBezTo>
              </a:path>
              <a:path w="23317" h="4020">
                <a:moveTo>
                  <a:pt x="22647" y="11460"/>
                </a:moveTo>
                <a:cubicBezTo>
                  <a:pt x="22735" y="11400"/>
                  <a:pt x="22755" y="11420"/>
                  <a:pt x="22845" y="11435"/>
                </a:cubicBezTo>
                <a:cubicBezTo>
                  <a:pt x="22910" y="11446"/>
                  <a:pt x="22962" y="11434"/>
                  <a:pt x="23019" y="11410"/>
                </a:cubicBezTo>
              </a:path>
              <a:path w="23317" h="4020">
                <a:moveTo>
                  <a:pt x="22696" y="11733"/>
                </a:moveTo>
                <a:cubicBezTo>
                  <a:pt x="22793" y="11733"/>
                  <a:pt x="22939" y="11698"/>
                  <a:pt x="23019" y="11708"/>
                </a:cubicBezTo>
                <a:cubicBezTo>
                  <a:pt x="23049" y="11738"/>
                  <a:pt x="23063" y="11749"/>
                  <a:pt x="23093" y="11757"/>
                </a:cubicBezTo>
              </a:path>
              <a:path w="23317" h="4020">
                <a:moveTo>
                  <a:pt x="23242" y="10567"/>
                </a:moveTo>
                <a:cubicBezTo>
                  <a:pt x="23332" y="10548"/>
                  <a:pt x="23399" y="10542"/>
                  <a:pt x="23490" y="10542"/>
                </a:cubicBezTo>
                <a:cubicBezTo>
                  <a:pt x="23498" y="10542"/>
                  <a:pt x="23507" y="10542"/>
                  <a:pt x="23515" y="10542"/>
                </a:cubicBezTo>
              </a:path>
              <a:path w="23317" h="4020">
                <a:moveTo>
                  <a:pt x="23738" y="10195"/>
                </a:moveTo>
                <a:cubicBezTo>
                  <a:pt x="23785" y="10113"/>
                  <a:pt x="23789" y="10101"/>
                  <a:pt x="23887" y="10096"/>
                </a:cubicBezTo>
                <a:cubicBezTo>
                  <a:pt x="23935" y="10094"/>
                  <a:pt x="24039" y="10083"/>
                  <a:pt x="24061" y="10145"/>
                </a:cubicBezTo>
                <a:cubicBezTo>
                  <a:pt x="24096" y="10243"/>
                  <a:pt x="24031" y="10242"/>
                  <a:pt x="23986" y="10294"/>
                </a:cubicBezTo>
                <a:cubicBezTo>
                  <a:pt x="23938" y="10350"/>
                  <a:pt x="23918" y="10413"/>
                  <a:pt x="23862" y="10468"/>
                </a:cubicBezTo>
                <a:cubicBezTo>
                  <a:pt x="23837" y="10492"/>
                  <a:pt x="23812" y="10517"/>
                  <a:pt x="23788" y="10542"/>
                </a:cubicBezTo>
                <a:cubicBezTo>
                  <a:pt x="23827" y="10562"/>
                  <a:pt x="23872" y="10542"/>
                  <a:pt x="23937" y="10542"/>
                </a:cubicBezTo>
                <a:cubicBezTo>
                  <a:pt x="23990" y="10542"/>
                  <a:pt x="24074" y="10574"/>
                  <a:pt x="24110" y="10616"/>
                </a:cubicBezTo>
                <a:cubicBezTo>
                  <a:pt x="24167" y="10683"/>
                  <a:pt x="24121" y="10748"/>
                  <a:pt x="24110" y="10815"/>
                </a:cubicBezTo>
                <a:cubicBezTo>
                  <a:pt x="24099" y="10879"/>
                  <a:pt x="24073" y="10923"/>
                  <a:pt x="24011" y="10964"/>
                </a:cubicBezTo>
                <a:cubicBezTo>
                  <a:pt x="23939" y="11011"/>
                  <a:pt x="23911" y="11064"/>
                  <a:pt x="23837" y="11112"/>
                </a:cubicBezTo>
                <a:cubicBezTo>
                  <a:pt x="23796" y="11139"/>
                  <a:pt x="23704" y="11200"/>
                  <a:pt x="23688" y="11137"/>
                </a:cubicBezTo>
                <a:cubicBezTo>
                  <a:pt x="23688" y="11129"/>
                  <a:pt x="23688" y="11120"/>
                  <a:pt x="23688" y="11112"/>
                </a:cubicBezTo>
              </a:path>
              <a:path w="23317" h="4020">
                <a:moveTo>
                  <a:pt x="24309" y="9996"/>
                </a:moveTo>
                <a:cubicBezTo>
                  <a:pt x="24309" y="10085"/>
                  <a:pt x="24295" y="10171"/>
                  <a:pt x="24284" y="10244"/>
                </a:cubicBezTo>
                <a:cubicBezTo>
                  <a:pt x="24273" y="10318"/>
                  <a:pt x="24269" y="10375"/>
                  <a:pt x="24259" y="10443"/>
                </a:cubicBezTo>
              </a:path>
              <a:path w="23317" h="4020">
                <a:moveTo>
                  <a:pt x="24135" y="10244"/>
                </a:moveTo>
                <a:cubicBezTo>
                  <a:pt x="24211" y="10216"/>
                  <a:pt x="24275" y="10220"/>
                  <a:pt x="24358" y="10220"/>
                </a:cubicBezTo>
                <a:cubicBezTo>
                  <a:pt x="24366" y="10220"/>
                  <a:pt x="24375" y="10220"/>
                  <a:pt x="24383" y="10220"/>
                </a:cubicBezTo>
              </a:path>
              <a:path w="23317" h="4020">
                <a:moveTo>
                  <a:pt x="24309" y="10939"/>
                </a:moveTo>
                <a:cubicBezTo>
                  <a:pt x="24375" y="10887"/>
                  <a:pt x="24397" y="10874"/>
                  <a:pt x="24482" y="10864"/>
                </a:cubicBezTo>
              </a:path>
              <a:path w="23317" h="4020">
                <a:moveTo>
                  <a:pt x="24730" y="10592"/>
                </a:moveTo>
                <a:cubicBezTo>
                  <a:pt x="24730" y="10695"/>
                  <a:pt x="24719" y="10766"/>
                  <a:pt x="24705" y="10864"/>
                </a:cubicBezTo>
                <a:cubicBezTo>
                  <a:pt x="24701" y="10895"/>
                  <a:pt x="24705" y="11142"/>
                  <a:pt x="24705" y="11013"/>
                </a:cubicBezTo>
                <a:cubicBezTo>
                  <a:pt x="24705" y="10819"/>
                  <a:pt x="24713" y="10634"/>
                  <a:pt x="24730" y="10443"/>
                </a:cubicBezTo>
                <a:cubicBezTo>
                  <a:pt x="24740" y="10335"/>
                  <a:pt x="24705" y="10212"/>
                  <a:pt x="24755" y="10120"/>
                </a:cubicBezTo>
                <a:cubicBezTo>
                  <a:pt x="24786" y="10063"/>
                  <a:pt x="24807" y="10017"/>
                  <a:pt x="24854" y="9971"/>
                </a:cubicBezTo>
                <a:cubicBezTo>
                  <a:pt x="24917" y="9909"/>
                  <a:pt x="24963" y="9901"/>
                  <a:pt x="25053" y="9897"/>
                </a:cubicBezTo>
                <a:cubicBezTo>
                  <a:pt x="25102" y="9895"/>
                  <a:pt x="25153" y="9897"/>
                  <a:pt x="25202" y="9897"/>
                </a:cubicBezTo>
              </a:path>
              <a:path w="23317" h="4020">
                <a:moveTo>
                  <a:pt x="24879" y="10145"/>
                </a:moveTo>
                <a:cubicBezTo>
                  <a:pt x="24950" y="10099"/>
                  <a:pt x="24969" y="10083"/>
                  <a:pt x="25028" y="10096"/>
                </a:cubicBezTo>
              </a:path>
              <a:path w="23317" h="4020">
                <a:moveTo>
                  <a:pt x="24904" y="10195"/>
                </a:moveTo>
                <a:cubicBezTo>
                  <a:pt x="24881" y="10256"/>
                  <a:pt x="24864" y="10338"/>
                  <a:pt x="24854" y="10393"/>
                </a:cubicBezTo>
                <a:cubicBezTo>
                  <a:pt x="24854" y="10410"/>
                  <a:pt x="24854" y="10426"/>
                  <a:pt x="24854" y="10443"/>
                </a:cubicBezTo>
                <a:cubicBezTo>
                  <a:pt x="24894" y="10429"/>
                  <a:pt x="25027" y="10377"/>
                  <a:pt x="25053" y="10443"/>
                </a:cubicBezTo>
                <a:cubicBezTo>
                  <a:pt x="25053" y="10492"/>
                  <a:pt x="25053" y="10509"/>
                  <a:pt x="25053" y="10542"/>
                </a:cubicBezTo>
              </a:path>
              <a:path w="23317" h="4020">
                <a:moveTo>
                  <a:pt x="24954" y="10666"/>
                </a:moveTo>
                <a:cubicBezTo>
                  <a:pt x="24897" y="10741"/>
                  <a:pt x="24893" y="10753"/>
                  <a:pt x="24854" y="10790"/>
                </a:cubicBezTo>
              </a:path>
              <a:path w="23317" h="4020">
                <a:moveTo>
                  <a:pt x="25078" y="10145"/>
                </a:moveTo>
                <a:cubicBezTo>
                  <a:pt x="25069" y="10080"/>
                  <a:pt x="25055" y="10036"/>
                  <a:pt x="25127" y="10120"/>
                </a:cubicBezTo>
                <a:cubicBezTo>
                  <a:pt x="25199" y="10204"/>
                  <a:pt x="25074" y="10229"/>
                  <a:pt x="25078" y="10294"/>
                </a:cubicBezTo>
                <a:cubicBezTo>
                  <a:pt x="25083" y="10377"/>
                  <a:pt x="25159" y="10358"/>
                  <a:pt x="25202" y="10393"/>
                </a:cubicBezTo>
                <a:cubicBezTo>
                  <a:pt x="25277" y="10454"/>
                  <a:pt x="25235" y="10468"/>
                  <a:pt x="25177" y="10517"/>
                </a:cubicBezTo>
                <a:cubicBezTo>
                  <a:pt x="25126" y="10559"/>
                  <a:pt x="25090" y="10625"/>
                  <a:pt x="25028" y="10641"/>
                </a:cubicBezTo>
              </a:path>
              <a:path w="23317" h="4020">
                <a:moveTo>
                  <a:pt x="23639" y="11410"/>
                </a:moveTo>
                <a:cubicBezTo>
                  <a:pt x="23743" y="11366"/>
                  <a:pt x="23779" y="11361"/>
                  <a:pt x="23887" y="11361"/>
                </a:cubicBezTo>
                <a:cubicBezTo>
                  <a:pt x="23961" y="11361"/>
                  <a:pt x="24092" y="11335"/>
                  <a:pt x="24160" y="11311"/>
                </a:cubicBezTo>
                <a:cubicBezTo>
                  <a:pt x="24278" y="11270"/>
                  <a:pt x="24384" y="11219"/>
                  <a:pt x="24507" y="11187"/>
                </a:cubicBezTo>
                <a:cubicBezTo>
                  <a:pt x="24623" y="11157"/>
                  <a:pt x="24735" y="11126"/>
                  <a:pt x="24854" y="11112"/>
                </a:cubicBezTo>
                <a:cubicBezTo>
                  <a:pt x="24940" y="11102"/>
                  <a:pt x="25030" y="11117"/>
                  <a:pt x="25102" y="11137"/>
                </a:cubicBezTo>
                <a:cubicBezTo>
                  <a:pt x="25110" y="11137"/>
                  <a:pt x="25119" y="11137"/>
                  <a:pt x="25127" y="11137"/>
                </a:cubicBezTo>
              </a:path>
              <a:path w="23317" h="4020">
                <a:moveTo>
                  <a:pt x="24110" y="11708"/>
                </a:moveTo>
                <a:cubicBezTo>
                  <a:pt x="24069" y="11831"/>
                  <a:pt x="24024" y="11915"/>
                  <a:pt x="23961" y="12030"/>
                </a:cubicBezTo>
                <a:cubicBezTo>
                  <a:pt x="23938" y="12072"/>
                  <a:pt x="23870" y="12128"/>
                  <a:pt x="23887" y="12179"/>
                </a:cubicBezTo>
                <a:cubicBezTo>
                  <a:pt x="23895" y="12187"/>
                  <a:pt x="23904" y="12196"/>
                  <a:pt x="23912" y="12204"/>
                </a:cubicBezTo>
                <a:cubicBezTo>
                  <a:pt x="23973" y="12181"/>
                  <a:pt x="24055" y="12164"/>
                  <a:pt x="24110" y="12154"/>
                </a:cubicBezTo>
                <a:cubicBezTo>
                  <a:pt x="24177" y="12141"/>
                  <a:pt x="24217" y="12110"/>
                  <a:pt x="24284" y="12080"/>
                </a:cubicBezTo>
              </a:path>
              <a:path w="23317" h="4020">
                <a:moveTo>
                  <a:pt x="24383" y="11534"/>
                </a:moveTo>
                <a:cubicBezTo>
                  <a:pt x="24374" y="11641"/>
                  <a:pt x="24349" y="11808"/>
                  <a:pt x="24309" y="11906"/>
                </a:cubicBezTo>
                <a:cubicBezTo>
                  <a:pt x="24154" y="12289"/>
                  <a:pt x="24030" y="12618"/>
                  <a:pt x="23937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Ink 11"/>
          <p:cNvSpPr/>
          <p:nvPr/>
        </p:nvSpPr>
        <p:spPr>
          <a:xfrm>
            <a:off x="4786200" y="4429080"/>
            <a:ext cx="1258920" cy="571680"/>
          </a:xfrm>
          <a:custGeom>
            <a:avLst/>
            <a:gdLst/>
            <a:ahLst/>
            <a:rect l="l" t="t" r="r" b="b"/>
            <a:pathLst>
              <a:path w="3499" h="1589">
                <a:moveTo>
                  <a:pt x="16793" y="12353"/>
                </a:moveTo>
                <a:cubicBezTo>
                  <a:pt x="16261" y="12346"/>
                  <a:pt x="15737" y="12303"/>
                  <a:pt x="15205" y="12303"/>
                </a:cubicBezTo>
                <a:cubicBezTo>
                  <a:pt x="14750" y="12303"/>
                  <a:pt x="14314" y="12369"/>
                  <a:pt x="13866" y="12452"/>
                </a:cubicBezTo>
                <a:cubicBezTo>
                  <a:pt x="13676" y="12487"/>
                  <a:pt x="13481" y="12523"/>
                  <a:pt x="13295" y="12576"/>
                </a:cubicBezTo>
              </a:path>
              <a:path w="3499" h="1589">
                <a:moveTo>
                  <a:pt x="14982" y="12774"/>
                </a:moveTo>
                <a:cubicBezTo>
                  <a:pt x="14910" y="12739"/>
                  <a:pt x="14772" y="12708"/>
                  <a:pt x="14684" y="12700"/>
                </a:cubicBezTo>
                <a:cubicBezTo>
                  <a:pt x="14569" y="12690"/>
                  <a:pt x="14325" y="12667"/>
                  <a:pt x="14263" y="12799"/>
                </a:cubicBezTo>
                <a:cubicBezTo>
                  <a:pt x="14206" y="12921"/>
                  <a:pt x="14355" y="13109"/>
                  <a:pt x="14412" y="13196"/>
                </a:cubicBezTo>
                <a:cubicBezTo>
                  <a:pt x="14517" y="13356"/>
                  <a:pt x="14641" y="13537"/>
                  <a:pt x="14709" y="13717"/>
                </a:cubicBezTo>
                <a:cubicBezTo>
                  <a:pt x="14746" y="13815"/>
                  <a:pt x="14738" y="13824"/>
                  <a:pt x="14684" y="13891"/>
                </a:cubicBezTo>
                <a:cubicBezTo>
                  <a:pt x="14536" y="13816"/>
                  <a:pt x="14355" y="13711"/>
                  <a:pt x="14288" y="13543"/>
                </a:cubicBezTo>
                <a:cubicBezTo>
                  <a:pt x="14256" y="13462"/>
                  <a:pt x="14277" y="13284"/>
                  <a:pt x="14337" y="13221"/>
                </a:cubicBezTo>
                <a:cubicBezTo>
                  <a:pt x="14463" y="13090"/>
                  <a:pt x="14647" y="13026"/>
                  <a:pt x="14784" y="12923"/>
                </a:cubicBezTo>
                <a:cubicBezTo>
                  <a:pt x="14946" y="12802"/>
                  <a:pt x="15008" y="12787"/>
                  <a:pt x="15056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Ink 12"/>
          <p:cNvSpPr/>
          <p:nvPr/>
        </p:nvSpPr>
        <p:spPr>
          <a:xfrm>
            <a:off x="1963800" y="4438800"/>
            <a:ext cx="554040" cy="347400"/>
          </a:xfrm>
          <a:custGeom>
            <a:avLst/>
            <a:gdLst/>
            <a:ahLst/>
            <a:rect l="l" t="t" r="r" b="b"/>
            <a:pathLst>
              <a:path w="1539" h="968">
                <a:moveTo>
                  <a:pt x="5606" y="12353"/>
                </a:moveTo>
                <a:cubicBezTo>
                  <a:pt x="5709" y="12318"/>
                  <a:pt x="5764" y="12323"/>
                  <a:pt x="5854" y="12402"/>
                </a:cubicBezTo>
                <a:cubicBezTo>
                  <a:pt x="5937" y="12475"/>
                  <a:pt x="5949" y="12571"/>
                  <a:pt x="5953" y="12675"/>
                </a:cubicBezTo>
                <a:cubicBezTo>
                  <a:pt x="5958" y="12807"/>
                  <a:pt x="5904" y="12885"/>
                  <a:pt x="5854" y="12998"/>
                </a:cubicBezTo>
                <a:cubicBezTo>
                  <a:pt x="5816" y="13082"/>
                  <a:pt x="5754" y="13149"/>
                  <a:pt x="5655" y="13171"/>
                </a:cubicBezTo>
                <a:cubicBezTo>
                  <a:pt x="5573" y="13189"/>
                  <a:pt x="5514" y="13177"/>
                  <a:pt x="5457" y="13122"/>
                </a:cubicBezTo>
                <a:cubicBezTo>
                  <a:pt x="5460" y="13095"/>
                  <a:pt x="5478" y="12969"/>
                  <a:pt x="5531" y="12973"/>
                </a:cubicBezTo>
                <a:cubicBezTo>
                  <a:pt x="5599" y="12978"/>
                  <a:pt x="5661" y="13054"/>
                  <a:pt x="5705" y="13097"/>
                </a:cubicBezTo>
                <a:cubicBezTo>
                  <a:pt x="5797" y="13188"/>
                  <a:pt x="5842" y="13273"/>
                  <a:pt x="5953" y="13295"/>
                </a:cubicBezTo>
              </a:path>
              <a:path w="1539" h="968">
                <a:moveTo>
                  <a:pt x="6400" y="12452"/>
                </a:moveTo>
                <a:cubicBezTo>
                  <a:pt x="6298" y="12592"/>
                  <a:pt x="6200" y="12709"/>
                  <a:pt x="6226" y="12898"/>
                </a:cubicBezTo>
                <a:cubicBezTo>
                  <a:pt x="6241" y="13007"/>
                  <a:pt x="6287" y="13088"/>
                  <a:pt x="6375" y="13146"/>
                </a:cubicBezTo>
                <a:cubicBezTo>
                  <a:pt x="6443" y="13190"/>
                  <a:pt x="6441" y="13188"/>
                  <a:pt x="6524" y="13196"/>
                </a:cubicBezTo>
              </a:path>
              <a:path w="1539" h="968">
                <a:moveTo>
                  <a:pt x="6697" y="12551"/>
                </a:moveTo>
                <a:cubicBezTo>
                  <a:pt x="6649" y="12646"/>
                  <a:pt x="6682" y="12675"/>
                  <a:pt x="6772" y="12725"/>
                </a:cubicBezTo>
                <a:cubicBezTo>
                  <a:pt x="6844" y="12765"/>
                  <a:pt x="6889" y="12774"/>
                  <a:pt x="6970" y="12774"/>
                </a:cubicBezTo>
              </a:path>
              <a:path w="1539" h="968">
                <a:moveTo>
                  <a:pt x="6995" y="12353"/>
                </a:moveTo>
                <a:cubicBezTo>
                  <a:pt x="6934" y="12519"/>
                  <a:pt x="6876" y="12672"/>
                  <a:pt x="6871" y="12849"/>
                </a:cubicBezTo>
                <a:cubicBezTo>
                  <a:pt x="6868" y="12971"/>
                  <a:pt x="6927" y="13057"/>
                  <a:pt x="6945" y="13171"/>
                </a:cubicBezTo>
                <a:cubicBezTo>
                  <a:pt x="6956" y="13239"/>
                  <a:pt x="6956" y="13242"/>
                  <a:pt x="6970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Ink 13"/>
          <p:cNvSpPr/>
          <p:nvPr/>
        </p:nvSpPr>
        <p:spPr>
          <a:xfrm>
            <a:off x="2652840" y="4446720"/>
            <a:ext cx="44280" cy="312480"/>
          </a:xfrm>
          <a:custGeom>
            <a:avLst/>
            <a:gdLst/>
            <a:ahLst/>
            <a:rect l="l" t="t" r="r" b="b"/>
            <a:pathLst>
              <a:path w="125" h="869">
                <a:moveTo>
                  <a:pt x="7367" y="12353"/>
                </a:moveTo>
                <a:cubicBezTo>
                  <a:pt x="7453" y="12691"/>
                  <a:pt x="7502" y="12884"/>
                  <a:pt x="7466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Ink 14"/>
          <p:cNvSpPr/>
          <p:nvPr/>
        </p:nvSpPr>
        <p:spPr>
          <a:xfrm>
            <a:off x="7527960" y="857160"/>
            <a:ext cx="911160" cy="1231920"/>
          </a:xfrm>
          <a:custGeom>
            <a:avLst/>
            <a:gdLst/>
            <a:ahLst/>
            <a:rect l="l" t="t" r="r" b="b"/>
            <a:pathLst>
              <a:path w="2531" h="3424">
                <a:moveTo>
                  <a:pt x="21282" y="4068"/>
                </a:moveTo>
                <a:cubicBezTo>
                  <a:pt x="21282" y="4113"/>
                  <a:pt x="21278" y="4126"/>
                  <a:pt x="21307" y="4142"/>
                </a:cubicBezTo>
                <a:cubicBezTo>
                  <a:pt x="21285" y="4054"/>
                  <a:pt x="21261" y="3964"/>
                  <a:pt x="21258" y="3870"/>
                </a:cubicBezTo>
                <a:cubicBezTo>
                  <a:pt x="21254" y="3751"/>
                  <a:pt x="21218" y="3639"/>
                  <a:pt x="21208" y="3522"/>
                </a:cubicBezTo>
                <a:cubicBezTo>
                  <a:pt x="21194" y="3357"/>
                  <a:pt x="21168" y="3193"/>
                  <a:pt x="21158" y="3026"/>
                </a:cubicBezTo>
                <a:cubicBezTo>
                  <a:pt x="21151" y="2905"/>
                  <a:pt x="21178" y="2791"/>
                  <a:pt x="21208" y="2679"/>
                </a:cubicBezTo>
                <a:cubicBezTo>
                  <a:pt x="21233" y="2585"/>
                  <a:pt x="21271" y="2544"/>
                  <a:pt x="21357" y="2530"/>
                </a:cubicBezTo>
                <a:cubicBezTo>
                  <a:pt x="21498" y="2507"/>
                  <a:pt x="21663" y="2518"/>
                  <a:pt x="21803" y="2505"/>
                </a:cubicBezTo>
                <a:cubicBezTo>
                  <a:pt x="21941" y="2492"/>
                  <a:pt x="22064" y="2458"/>
                  <a:pt x="22200" y="2431"/>
                </a:cubicBezTo>
                <a:cubicBezTo>
                  <a:pt x="22385" y="2395"/>
                  <a:pt x="22633" y="2368"/>
                  <a:pt x="22820" y="2381"/>
                </a:cubicBezTo>
                <a:cubicBezTo>
                  <a:pt x="22962" y="2391"/>
                  <a:pt x="23105" y="2407"/>
                  <a:pt x="23242" y="2431"/>
                </a:cubicBezTo>
              </a:path>
              <a:path w="2531" h="3424">
                <a:moveTo>
                  <a:pt x="21555" y="2952"/>
                </a:moveTo>
                <a:cubicBezTo>
                  <a:pt x="21633" y="2963"/>
                  <a:pt x="21712" y="2998"/>
                  <a:pt x="21779" y="3051"/>
                </a:cubicBezTo>
                <a:cubicBezTo>
                  <a:pt x="21853" y="3109"/>
                  <a:pt x="21939" y="3203"/>
                  <a:pt x="21952" y="3299"/>
                </a:cubicBezTo>
                <a:cubicBezTo>
                  <a:pt x="21970" y="3430"/>
                  <a:pt x="21909" y="3509"/>
                  <a:pt x="21853" y="3621"/>
                </a:cubicBezTo>
                <a:cubicBezTo>
                  <a:pt x="21805" y="3717"/>
                  <a:pt x="21771" y="3783"/>
                  <a:pt x="21679" y="3845"/>
                </a:cubicBezTo>
                <a:cubicBezTo>
                  <a:pt x="21636" y="3874"/>
                  <a:pt x="21535" y="3924"/>
                  <a:pt x="21481" y="3894"/>
                </a:cubicBezTo>
                <a:cubicBezTo>
                  <a:pt x="21408" y="3854"/>
                  <a:pt x="21386" y="3773"/>
                  <a:pt x="21406" y="3696"/>
                </a:cubicBezTo>
                <a:cubicBezTo>
                  <a:pt x="21435" y="3586"/>
                  <a:pt x="21529" y="3631"/>
                  <a:pt x="21605" y="3671"/>
                </a:cubicBezTo>
                <a:cubicBezTo>
                  <a:pt x="21726" y="3734"/>
                  <a:pt x="21789" y="3802"/>
                  <a:pt x="21853" y="3919"/>
                </a:cubicBezTo>
                <a:cubicBezTo>
                  <a:pt x="21894" y="3995"/>
                  <a:pt x="21893" y="4003"/>
                  <a:pt x="21952" y="3944"/>
                </a:cubicBezTo>
              </a:path>
              <a:path w="2531" h="3424">
                <a:moveTo>
                  <a:pt x="22151" y="2952"/>
                </a:moveTo>
                <a:cubicBezTo>
                  <a:pt x="22178" y="3151"/>
                  <a:pt x="22206" y="3350"/>
                  <a:pt x="22250" y="3547"/>
                </a:cubicBezTo>
                <a:cubicBezTo>
                  <a:pt x="22277" y="3669"/>
                  <a:pt x="22299" y="3769"/>
                  <a:pt x="22299" y="3894"/>
                </a:cubicBezTo>
                <a:cubicBezTo>
                  <a:pt x="22299" y="3930"/>
                  <a:pt x="22317" y="3959"/>
                  <a:pt x="22324" y="3994"/>
                </a:cubicBezTo>
              </a:path>
              <a:path w="2531" h="3424">
                <a:moveTo>
                  <a:pt x="22423" y="3125"/>
                </a:moveTo>
                <a:cubicBezTo>
                  <a:pt x="22469" y="3045"/>
                  <a:pt x="22528" y="2833"/>
                  <a:pt x="22671" y="2902"/>
                </a:cubicBezTo>
                <a:cubicBezTo>
                  <a:pt x="22752" y="2941"/>
                  <a:pt x="22913" y="3095"/>
                  <a:pt x="22944" y="3175"/>
                </a:cubicBezTo>
                <a:cubicBezTo>
                  <a:pt x="22966" y="3308"/>
                  <a:pt x="22971" y="3342"/>
                  <a:pt x="22994" y="3423"/>
                </a:cubicBezTo>
              </a:path>
              <a:path w="2531" h="3424">
                <a:moveTo>
                  <a:pt x="22969" y="3621"/>
                </a:moveTo>
                <a:cubicBezTo>
                  <a:pt x="22890" y="3901"/>
                  <a:pt x="22950" y="3803"/>
                  <a:pt x="22796" y="3919"/>
                </a:cubicBezTo>
                <a:cubicBezTo>
                  <a:pt x="22735" y="3965"/>
                  <a:pt x="22693" y="3916"/>
                  <a:pt x="22647" y="3870"/>
                </a:cubicBezTo>
                <a:cubicBezTo>
                  <a:pt x="22698" y="3754"/>
                  <a:pt x="22744" y="3746"/>
                  <a:pt x="22870" y="3746"/>
                </a:cubicBezTo>
                <a:cubicBezTo>
                  <a:pt x="22971" y="3746"/>
                  <a:pt x="23074" y="3770"/>
                  <a:pt x="23168" y="3795"/>
                </a:cubicBezTo>
                <a:cubicBezTo>
                  <a:pt x="23243" y="3815"/>
                  <a:pt x="23321" y="3841"/>
                  <a:pt x="23391" y="3845"/>
                </a:cubicBezTo>
                <a:cubicBezTo>
                  <a:pt x="23407" y="3845"/>
                  <a:pt x="23424" y="3845"/>
                  <a:pt x="23440" y="3845"/>
                </a:cubicBezTo>
              </a:path>
              <a:path w="2531" h="3424">
                <a:moveTo>
                  <a:pt x="20960" y="4614"/>
                </a:moveTo>
                <a:cubicBezTo>
                  <a:pt x="20960" y="4606"/>
                  <a:pt x="20960" y="4597"/>
                  <a:pt x="20960" y="4589"/>
                </a:cubicBezTo>
              </a:path>
              <a:path w="2531" h="3424">
                <a:moveTo>
                  <a:pt x="20960" y="4738"/>
                </a:moveTo>
                <a:cubicBezTo>
                  <a:pt x="20977" y="5002"/>
                  <a:pt x="20988" y="5248"/>
                  <a:pt x="21034" y="5507"/>
                </a:cubicBezTo>
                <a:cubicBezTo>
                  <a:pt x="21057" y="5637"/>
                  <a:pt x="21034" y="5685"/>
                  <a:pt x="21034" y="5804"/>
                </a:cubicBezTo>
                <a:cubicBezTo>
                  <a:pt x="21020" y="5731"/>
                  <a:pt x="20993" y="5658"/>
                  <a:pt x="20985" y="5581"/>
                </a:cubicBezTo>
                <a:cubicBezTo>
                  <a:pt x="20975" y="5484"/>
                  <a:pt x="20956" y="5379"/>
                  <a:pt x="20935" y="5283"/>
                </a:cubicBezTo>
                <a:cubicBezTo>
                  <a:pt x="20903" y="5136"/>
                  <a:pt x="20910" y="4988"/>
                  <a:pt x="20910" y="4837"/>
                </a:cubicBezTo>
                <a:cubicBezTo>
                  <a:pt x="20910" y="4775"/>
                  <a:pt x="20900" y="4760"/>
                  <a:pt x="20935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Ink 15"/>
          <p:cNvSpPr/>
          <p:nvPr/>
        </p:nvSpPr>
        <p:spPr>
          <a:xfrm>
            <a:off x="7688160" y="1500120"/>
            <a:ext cx="1258920" cy="625680"/>
          </a:xfrm>
          <a:custGeom>
            <a:avLst/>
            <a:gdLst/>
            <a:ahLst/>
            <a:rect l="l" t="t" r="r" b="b"/>
            <a:pathLst>
              <a:path w="3498" h="1738">
                <a:moveTo>
                  <a:pt x="21580" y="4490"/>
                </a:moveTo>
                <a:cubicBezTo>
                  <a:pt x="21742" y="4467"/>
                  <a:pt x="21889" y="4440"/>
                  <a:pt x="22051" y="4440"/>
                </a:cubicBezTo>
                <a:cubicBezTo>
                  <a:pt x="22175" y="4440"/>
                  <a:pt x="22299" y="4440"/>
                  <a:pt x="22423" y="4440"/>
                </a:cubicBezTo>
              </a:path>
              <a:path w="3498" h="1738">
                <a:moveTo>
                  <a:pt x="22944" y="4738"/>
                </a:moveTo>
                <a:cubicBezTo>
                  <a:pt x="22944" y="5060"/>
                  <a:pt x="22936" y="5392"/>
                  <a:pt x="22969" y="5705"/>
                </a:cubicBezTo>
                <a:cubicBezTo>
                  <a:pt x="22969" y="5755"/>
                  <a:pt x="22969" y="5771"/>
                  <a:pt x="22969" y="5804"/>
                </a:cubicBezTo>
                <a:cubicBezTo>
                  <a:pt x="22987" y="5704"/>
                  <a:pt x="22973" y="5640"/>
                  <a:pt x="22969" y="5531"/>
                </a:cubicBezTo>
                <a:cubicBezTo>
                  <a:pt x="22964" y="5373"/>
                  <a:pt x="22944" y="5219"/>
                  <a:pt x="22944" y="5060"/>
                </a:cubicBezTo>
                <a:cubicBezTo>
                  <a:pt x="22944" y="4943"/>
                  <a:pt x="22944" y="4825"/>
                  <a:pt x="22969" y="4713"/>
                </a:cubicBezTo>
                <a:cubicBezTo>
                  <a:pt x="22987" y="4630"/>
                  <a:pt x="23030" y="4452"/>
                  <a:pt x="23093" y="4390"/>
                </a:cubicBezTo>
                <a:cubicBezTo>
                  <a:pt x="23158" y="4325"/>
                  <a:pt x="23214" y="4339"/>
                  <a:pt x="23292" y="4316"/>
                </a:cubicBezTo>
                <a:cubicBezTo>
                  <a:pt x="23392" y="4287"/>
                  <a:pt x="23481" y="4250"/>
                  <a:pt x="23589" y="4242"/>
                </a:cubicBezTo>
                <a:cubicBezTo>
                  <a:pt x="23779" y="4228"/>
                  <a:pt x="23972" y="4205"/>
                  <a:pt x="24160" y="4192"/>
                </a:cubicBezTo>
                <a:cubicBezTo>
                  <a:pt x="24287" y="4183"/>
                  <a:pt x="24404" y="4167"/>
                  <a:pt x="24532" y="4167"/>
                </a:cubicBezTo>
                <a:cubicBezTo>
                  <a:pt x="24610" y="4167"/>
                  <a:pt x="24689" y="4142"/>
                  <a:pt x="24681" y="4192"/>
                </a:cubicBezTo>
                <a:cubicBezTo>
                  <a:pt x="24664" y="4209"/>
                  <a:pt x="24648" y="4225"/>
                  <a:pt x="24631" y="4242"/>
                </a:cubicBezTo>
              </a:path>
              <a:path w="3498" h="1738">
                <a:moveTo>
                  <a:pt x="21406" y="4936"/>
                </a:moveTo>
                <a:cubicBezTo>
                  <a:pt x="21402" y="5057"/>
                  <a:pt x="21335" y="5164"/>
                  <a:pt x="21357" y="5283"/>
                </a:cubicBezTo>
                <a:cubicBezTo>
                  <a:pt x="21373" y="5372"/>
                  <a:pt x="21531" y="5310"/>
                  <a:pt x="21580" y="5308"/>
                </a:cubicBezTo>
                <a:cubicBezTo>
                  <a:pt x="21664" y="5305"/>
                  <a:pt x="21726" y="5316"/>
                  <a:pt x="21803" y="5283"/>
                </a:cubicBezTo>
                <a:cubicBezTo>
                  <a:pt x="21820" y="5275"/>
                  <a:pt x="21836" y="5267"/>
                  <a:pt x="21853" y="5259"/>
                </a:cubicBezTo>
              </a:path>
              <a:path w="3498" h="1738">
                <a:moveTo>
                  <a:pt x="21828" y="4688"/>
                </a:moveTo>
                <a:cubicBezTo>
                  <a:pt x="21794" y="4755"/>
                  <a:pt x="21784" y="4879"/>
                  <a:pt x="21779" y="4961"/>
                </a:cubicBezTo>
                <a:cubicBezTo>
                  <a:pt x="21760" y="5273"/>
                  <a:pt x="21779" y="5591"/>
                  <a:pt x="21779" y="5904"/>
                </a:cubicBezTo>
              </a:path>
              <a:path w="3498" h="1738">
                <a:moveTo>
                  <a:pt x="23465" y="4787"/>
                </a:moveTo>
                <a:cubicBezTo>
                  <a:pt x="23578" y="4787"/>
                  <a:pt x="23683" y="4773"/>
                  <a:pt x="23788" y="4762"/>
                </a:cubicBezTo>
                <a:cubicBezTo>
                  <a:pt x="23883" y="4752"/>
                  <a:pt x="23948" y="4746"/>
                  <a:pt x="24036" y="4713"/>
                </a:cubicBezTo>
              </a:path>
              <a:path w="3498" h="1738">
                <a:moveTo>
                  <a:pt x="23391" y="4862"/>
                </a:moveTo>
                <a:cubicBezTo>
                  <a:pt x="23371" y="4952"/>
                  <a:pt x="23346" y="5044"/>
                  <a:pt x="23341" y="5135"/>
                </a:cubicBezTo>
                <a:cubicBezTo>
                  <a:pt x="23341" y="5184"/>
                  <a:pt x="23341" y="5201"/>
                  <a:pt x="23341" y="5234"/>
                </a:cubicBezTo>
                <a:cubicBezTo>
                  <a:pt x="23379" y="5140"/>
                  <a:pt x="23405" y="5097"/>
                  <a:pt x="23515" y="5085"/>
                </a:cubicBezTo>
                <a:cubicBezTo>
                  <a:pt x="23618" y="5074"/>
                  <a:pt x="23654" y="5073"/>
                  <a:pt x="23713" y="5159"/>
                </a:cubicBezTo>
                <a:cubicBezTo>
                  <a:pt x="23760" y="5228"/>
                  <a:pt x="23798" y="5351"/>
                  <a:pt x="23812" y="5432"/>
                </a:cubicBezTo>
                <a:cubicBezTo>
                  <a:pt x="23826" y="5509"/>
                  <a:pt x="23797" y="5543"/>
                  <a:pt x="23763" y="5606"/>
                </a:cubicBezTo>
                <a:cubicBezTo>
                  <a:pt x="23724" y="5679"/>
                  <a:pt x="23687" y="5693"/>
                  <a:pt x="23614" y="5730"/>
                </a:cubicBezTo>
                <a:cubicBezTo>
                  <a:pt x="23557" y="5758"/>
                  <a:pt x="23526" y="5772"/>
                  <a:pt x="23465" y="5779"/>
                </a:cubicBezTo>
              </a:path>
              <a:path w="3498" h="1738">
                <a:moveTo>
                  <a:pt x="24284" y="4762"/>
                </a:moveTo>
                <a:cubicBezTo>
                  <a:pt x="24338" y="4702"/>
                  <a:pt x="24433" y="4610"/>
                  <a:pt x="24532" y="4614"/>
                </a:cubicBezTo>
                <a:cubicBezTo>
                  <a:pt x="24607" y="4617"/>
                  <a:pt x="24664" y="4661"/>
                  <a:pt x="24681" y="4738"/>
                </a:cubicBezTo>
                <a:cubicBezTo>
                  <a:pt x="24707" y="4854"/>
                  <a:pt x="24651" y="4923"/>
                  <a:pt x="24581" y="4986"/>
                </a:cubicBezTo>
                <a:cubicBezTo>
                  <a:pt x="24519" y="5042"/>
                  <a:pt x="24495" y="5069"/>
                  <a:pt x="24457" y="5135"/>
                </a:cubicBezTo>
                <a:cubicBezTo>
                  <a:pt x="24544" y="5135"/>
                  <a:pt x="24622" y="5129"/>
                  <a:pt x="24705" y="5159"/>
                </a:cubicBezTo>
                <a:cubicBezTo>
                  <a:pt x="24761" y="5179"/>
                  <a:pt x="24856" y="5265"/>
                  <a:pt x="24854" y="5333"/>
                </a:cubicBezTo>
                <a:cubicBezTo>
                  <a:pt x="24849" y="5486"/>
                  <a:pt x="24744" y="5505"/>
                  <a:pt x="24631" y="5581"/>
                </a:cubicBezTo>
                <a:cubicBezTo>
                  <a:pt x="24533" y="5647"/>
                  <a:pt x="24417" y="5708"/>
                  <a:pt x="24309" y="5755"/>
                </a:cubicBezTo>
                <a:cubicBezTo>
                  <a:pt x="24239" y="5786"/>
                  <a:pt x="24177" y="5816"/>
                  <a:pt x="24110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Ink 16"/>
          <p:cNvSpPr/>
          <p:nvPr/>
        </p:nvSpPr>
        <p:spPr>
          <a:xfrm>
            <a:off x="1098720" y="6518160"/>
            <a:ext cx="71280" cy="460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3249" y="18107"/>
                </a:moveTo>
                <a:cubicBezTo>
                  <a:pt x="3184" y="18138"/>
                  <a:pt x="3069" y="18160"/>
                  <a:pt x="3051" y="182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Ink 17"/>
          <p:cNvSpPr/>
          <p:nvPr/>
        </p:nvSpPr>
        <p:spPr>
          <a:xfrm>
            <a:off x="1616040" y="4367160"/>
            <a:ext cx="2313000" cy="71640"/>
          </a:xfrm>
          <a:custGeom>
            <a:avLst/>
            <a:gdLst/>
            <a:ahLst/>
            <a:rect l="l" t="t" r="r" b="b"/>
            <a:pathLst>
              <a:path w="6425" h="200">
                <a:moveTo>
                  <a:pt x="10914" y="12278"/>
                </a:moveTo>
                <a:cubicBezTo>
                  <a:pt x="10821" y="12288"/>
                  <a:pt x="10734" y="12300"/>
                  <a:pt x="10641" y="12303"/>
                </a:cubicBezTo>
                <a:cubicBezTo>
                  <a:pt x="10456" y="12310"/>
                  <a:pt x="10276" y="12311"/>
                  <a:pt x="10096" y="12303"/>
                </a:cubicBezTo>
                <a:cubicBezTo>
                  <a:pt x="9848" y="12292"/>
                  <a:pt x="9598" y="12282"/>
                  <a:pt x="9351" y="12278"/>
                </a:cubicBezTo>
                <a:cubicBezTo>
                  <a:pt x="9086" y="12274"/>
                  <a:pt x="8823" y="12257"/>
                  <a:pt x="8558" y="12254"/>
                </a:cubicBezTo>
                <a:cubicBezTo>
                  <a:pt x="8264" y="12250"/>
                  <a:pt x="7981" y="12217"/>
                  <a:pt x="7689" y="12204"/>
                </a:cubicBezTo>
                <a:cubicBezTo>
                  <a:pt x="7191" y="12182"/>
                  <a:pt x="6700" y="12129"/>
                  <a:pt x="6201" y="12129"/>
                </a:cubicBezTo>
                <a:cubicBezTo>
                  <a:pt x="5835" y="12129"/>
                  <a:pt x="5473" y="12134"/>
                  <a:pt x="5110" y="12154"/>
                </a:cubicBezTo>
                <a:cubicBezTo>
                  <a:pt x="4977" y="12161"/>
                  <a:pt x="4819" y="12184"/>
                  <a:pt x="4688" y="12179"/>
                </a:cubicBezTo>
                <a:cubicBezTo>
                  <a:pt x="4624" y="12176"/>
                  <a:pt x="4542" y="12142"/>
                  <a:pt x="4490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One More Video…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worksheet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P2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Go over homework from last night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-3x+2=-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-6x+5 = -4x+3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2x+1=2(x-3)+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4.  6x+5=4(x+1)+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Ink 4"/>
          <p:cNvSpPr/>
          <p:nvPr/>
        </p:nvSpPr>
        <p:spPr>
          <a:xfrm>
            <a:off x="1044720" y="2152800"/>
            <a:ext cx="598320" cy="303120"/>
          </a:xfrm>
          <a:custGeom>
            <a:avLst/>
            <a:gdLst/>
            <a:ahLst/>
            <a:rect l="l" t="t" r="r" b="b"/>
            <a:pathLst>
              <a:path w="1663" h="844">
                <a:moveTo>
                  <a:pt x="3101" y="6028"/>
                </a:moveTo>
                <a:cubicBezTo>
                  <a:pt x="3101" y="6077"/>
                  <a:pt x="3101" y="6094"/>
                  <a:pt x="3101" y="6127"/>
                </a:cubicBezTo>
                <a:cubicBezTo>
                  <a:pt x="3147" y="6033"/>
                  <a:pt x="3149" y="6041"/>
                  <a:pt x="3225" y="6003"/>
                </a:cubicBezTo>
                <a:cubicBezTo>
                  <a:pt x="3275" y="5977"/>
                  <a:pt x="3357" y="5994"/>
                  <a:pt x="3398" y="6052"/>
                </a:cubicBezTo>
                <a:cubicBezTo>
                  <a:pt x="3451" y="6125"/>
                  <a:pt x="3448" y="6190"/>
                  <a:pt x="3448" y="6276"/>
                </a:cubicBezTo>
                <a:cubicBezTo>
                  <a:pt x="3448" y="6392"/>
                  <a:pt x="3408" y="6504"/>
                  <a:pt x="3349" y="6598"/>
                </a:cubicBezTo>
                <a:cubicBezTo>
                  <a:pt x="3291" y="6690"/>
                  <a:pt x="3271" y="6725"/>
                  <a:pt x="3175" y="6772"/>
                </a:cubicBezTo>
                <a:cubicBezTo>
                  <a:pt x="3098" y="6810"/>
                  <a:pt x="3068" y="6785"/>
                  <a:pt x="3001" y="6772"/>
                </a:cubicBezTo>
                <a:cubicBezTo>
                  <a:pt x="2921" y="6756"/>
                  <a:pt x="2907" y="6737"/>
                  <a:pt x="2902" y="6648"/>
                </a:cubicBezTo>
                <a:cubicBezTo>
                  <a:pt x="2898" y="6570"/>
                  <a:pt x="2900" y="6495"/>
                  <a:pt x="2977" y="6449"/>
                </a:cubicBezTo>
                <a:cubicBezTo>
                  <a:pt x="3080" y="6387"/>
                  <a:pt x="3076" y="6475"/>
                  <a:pt x="3150" y="6524"/>
                </a:cubicBezTo>
                <a:cubicBezTo>
                  <a:pt x="3234" y="6579"/>
                  <a:pt x="3232" y="6618"/>
                  <a:pt x="3274" y="6697"/>
                </a:cubicBezTo>
                <a:cubicBezTo>
                  <a:pt x="3302" y="6748"/>
                  <a:pt x="3318" y="6782"/>
                  <a:pt x="3373" y="6796"/>
                </a:cubicBezTo>
              </a:path>
              <a:path w="1663" h="844">
                <a:moveTo>
                  <a:pt x="3597" y="6375"/>
                </a:moveTo>
                <a:cubicBezTo>
                  <a:pt x="3656" y="6435"/>
                  <a:pt x="3661" y="6512"/>
                  <a:pt x="3721" y="6573"/>
                </a:cubicBezTo>
                <a:cubicBezTo>
                  <a:pt x="3742" y="6594"/>
                  <a:pt x="3821" y="6710"/>
                  <a:pt x="3845" y="6722"/>
                </a:cubicBezTo>
                <a:cubicBezTo>
                  <a:pt x="3885" y="6742"/>
                  <a:pt x="3972" y="6768"/>
                  <a:pt x="4018" y="6772"/>
                </a:cubicBezTo>
                <a:cubicBezTo>
                  <a:pt x="4026" y="6772"/>
                  <a:pt x="4035" y="6772"/>
                  <a:pt x="4043" y="6772"/>
                </a:cubicBezTo>
              </a:path>
              <a:path w="1663" h="844">
                <a:moveTo>
                  <a:pt x="3919" y="6276"/>
                </a:moveTo>
                <a:cubicBezTo>
                  <a:pt x="3849" y="6354"/>
                  <a:pt x="3823" y="6412"/>
                  <a:pt x="3770" y="6499"/>
                </a:cubicBezTo>
                <a:cubicBezTo>
                  <a:pt x="3713" y="6594"/>
                  <a:pt x="3688" y="6625"/>
                  <a:pt x="3646" y="6722"/>
                </a:cubicBezTo>
                <a:cubicBezTo>
                  <a:pt x="3638" y="6741"/>
                  <a:pt x="3543" y="6804"/>
                  <a:pt x="3547" y="6821"/>
                </a:cubicBezTo>
                <a:cubicBezTo>
                  <a:pt x="3555" y="6821"/>
                  <a:pt x="3564" y="6821"/>
                  <a:pt x="3572" y="6821"/>
                </a:cubicBezTo>
              </a:path>
              <a:path w="1663" h="844">
                <a:moveTo>
                  <a:pt x="4341" y="6176"/>
                </a:moveTo>
                <a:cubicBezTo>
                  <a:pt x="4356" y="6292"/>
                  <a:pt x="4366" y="6385"/>
                  <a:pt x="4366" y="6499"/>
                </a:cubicBezTo>
                <a:cubicBezTo>
                  <a:pt x="4366" y="6561"/>
                  <a:pt x="4390" y="6603"/>
                  <a:pt x="4390" y="6672"/>
                </a:cubicBezTo>
                <a:cubicBezTo>
                  <a:pt x="4390" y="6707"/>
                  <a:pt x="4390" y="6771"/>
                  <a:pt x="4415" y="6722"/>
                </a:cubicBezTo>
              </a:path>
              <a:path w="1663" h="844">
                <a:moveTo>
                  <a:pt x="4142" y="6375"/>
                </a:moveTo>
                <a:cubicBezTo>
                  <a:pt x="4231" y="6375"/>
                  <a:pt x="4306" y="6395"/>
                  <a:pt x="4390" y="6400"/>
                </a:cubicBezTo>
                <a:cubicBezTo>
                  <a:pt x="4448" y="6403"/>
                  <a:pt x="4506" y="6400"/>
                  <a:pt x="4564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Ink 5"/>
          <p:cNvSpPr/>
          <p:nvPr/>
        </p:nvSpPr>
        <p:spPr>
          <a:xfrm>
            <a:off x="1830240" y="2170080"/>
            <a:ext cx="277920" cy="276120"/>
          </a:xfrm>
          <a:custGeom>
            <a:avLst/>
            <a:gdLst/>
            <a:ahLst/>
            <a:rect l="l" t="t" r="r" b="b"/>
            <a:pathLst>
              <a:path w="770" h="769">
                <a:moveTo>
                  <a:pt x="5085" y="6028"/>
                </a:moveTo>
                <a:cubicBezTo>
                  <a:pt x="5116" y="6089"/>
                  <a:pt x="5110" y="6152"/>
                  <a:pt x="5110" y="6226"/>
                </a:cubicBezTo>
                <a:cubicBezTo>
                  <a:pt x="5110" y="6345"/>
                  <a:pt x="5123" y="6468"/>
                  <a:pt x="5135" y="6573"/>
                </a:cubicBezTo>
                <a:cubicBezTo>
                  <a:pt x="5144" y="6647"/>
                  <a:pt x="5132" y="6762"/>
                  <a:pt x="5184" y="6796"/>
                </a:cubicBezTo>
              </a:path>
              <a:path w="770" h="769">
                <a:moveTo>
                  <a:pt x="5457" y="6499"/>
                </a:moveTo>
                <a:cubicBezTo>
                  <a:pt x="5543" y="6477"/>
                  <a:pt x="5620" y="6489"/>
                  <a:pt x="5705" y="6474"/>
                </a:cubicBezTo>
                <a:cubicBezTo>
                  <a:pt x="5738" y="6466"/>
                  <a:pt x="5771" y="6457"/>
                  <a:pt x="5804" y="6449"/>
                </a:cubicBezTo>
              </a:path>
              <a:path w="770" h="769">
                <a:moveTo>
                  <a:pt x="5531" y="6598"/>
                </a:moveTo>
                <a:cubicBezTo>
                  <a:pt x="5648" y="6605"/>
                  <a:pt x="5744" y="6635"/>
                  <a:pt x="5854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Ink 6"/>
          <p:cNvSpPr/>
          <p:nvPr/>
        </p:nvSpPr>
        <p:spPr>
          <a:xfrm>
            <a:off x="2367000" y="2224080"/>
            <a:ext cx="1374840" cy="384120"/>
          </a:xfrm>
          <a:custGeom>
            <a:avLst/>
            <a:gdLst/>
            <a:ahLst/>
            <a:rect l="l" t="t" r="r" b="b"/>
            <a:pathLst>
              <a:path w="3821" h="1068">
                <a:moveTo>
                  <a:pt x="6598" y="6375"/>
                </a:moveTo>
                <a:cubicBezTo>
                  <a:pt x="6657" y="6390"/>
                  <a:pt x="6652" y="6336"/>
                  <a:pt x="6697" y="6276"/>
                </a:cubicBezTo>
                <a:cubicBezTo>
                  <a:pt x="6718" y="6248"/>
                  <a:pt x="6796" y="6196"/>
                  <a:pt x="6821" y="6201"/>
                </a:cubicBezTo>
                <a:cubicBezTo>
                  <a:pt x="6858" y="6208"/>
                  <a:pt x="6907" y="6298"/>
                  <a:pt x="6921" y="6325"/>
                </a:cubicBezTo>
                <a:cubicBezTo>
                  <a:pt x="6957" y="6394"/>
                  <a:pt x="6991" y="6467"/>
                  <a:pt x="6970" y="6548"/>
                </a:cubicBezTo>
                <a:cubicBezTo>
                  <a:pt x="6943" y="6651"/>
                  <a:pt x="6856" y="6733"/>
                  <a:pt x="6821" y="6821"/>
                </a:cubicBezTo>
                <a:cubicBezTo>
                  <a:pt x="6807" y="6857"/>
                  <a:pt x="6778" y="6929"/>
                  <a:pt x="6722" y="6945"/>
                </a:cubicBezTo>
                <a:cubicBezTo>
                  <a:pt x="6679" y="6957"/>
                  <a:pt x="6589" y="6951"/>
                  <a:pt x="6573" y="6896"/>
                </a:cubicBezTo>
                <a:cubicBezTo>
                  <a:pt x="6555" y="6834"/>
                  <a:pt x="6589" y="6777"/>
                  <a:pt x="6598" y="6722"/>
                </a:cubicBezTo>
                <a:cubicBezTo>
                  <a:pt x="6598" y="6677"/>
                  <a:pt x="6594" y="6664"/>
                  <a:pt x="6623" y="6648"/>
                </a:cubicBezTo>
                <a:cubicBezTo>
                  <a:pt x="6675" y="6682"/>
                  <a:pt x="6757" y="6693"/>
                  <a:pt x="6796" y="6747"/>
                </a:cubicBezTo>
                <a:cubicBezTo>
                  <a:pt x="6839" y="6807"/>
                  <a:pt x="6842" y="6868"/>
                  <a:pt x="6896" y="6921"/>
                </a:cubicBezTo>
                <a:cubicBezTo>
                  <a:pt x="6938" y="6962"/>
                  <a:pt x="6953" y="6945"/>
                  <a:pt x="6995" y="6921"/>
                </a:cubicBezTo>
              </a:path>
              <a:path w="3821" h="1068">
                <a:moveTo>
                  <a:pt x="7169" y="6548"/>
                </a:moveTo>
                <a:cubicBezTo>
                  <a:pt x="7238" y="6717"/>
                  <a:pt x="7244" y="6667"/>
                  <a:pt x="7342" y="6772"/>
                </a:cubicBezTo>
                <a:cubicBezTo>
                  <a:pt x="7412" y="6847"/>
                  <a:pt x="7423" y="6862"/>
                  <a:pt x="7516" y="6921"/>
                </a:cubicBezTo>
                <a:cubicBezTo>
                  <a:pt x="7592" y="6969"/>
                  <a:pt x="7602" y="6978"/>
                  <a:pt x="7689" y="6945"/>
                </a:cubicBezTo>
              </a:path>
              <a:path w="3821" h="1068">
                <a:moveTo>
                  <a:pt x="7367" y="6524"/>
                </a:moveTo>
                <a:cubicBezTo>
                  <a:pt x="7309" y="6603"/>
                  <a:pt x="7258" y="6700"/>
                  <a:pt x="7193" y="6772"/>
                </a:cubicBezTo>
                <a:cubicBezTo>
                  <a:pt x="7159" y="6810"/>
                  <a:pt x="7106" y="6846"/>
                  <a:pt x="7119" y="6896"/>
                </a:cubicBezTo>
                <a:cubicBezTo>
                  <a:pt x="7127" y="6896"/>
                  <a:pt x="7136" y="6896"/>
                  <a:pt x="7144" y="6896"/>
                </a:cubicBezTo>
              </a:path>
              <a:path w="3821" h="1068">
                <a:moveTo>
                  <a:pt x="7615" y="6548"/>
                </a:moveTo>
                <a:cubicBezTo>
                  <a:pt x="7744" y="6555"/>
                  <a:pt x="7841" y="6563"/>
                  <a:pt x="7962" y="6548"/>
                </a:cubicBezTo>
                <a:cubicBezTo>
                  <a:pt x="7987" y="6548"/>
                  <a:pt x="8012" y="6548"/>
                  <a:pt x="8037" y="6548"/>
                </a:cubicBezTo>
              </a:path>
              <a:path w="3821" h="1068">
                <a:moveTo>
                  <a:pt x="8334" y="6176"/>
                </a:moveTo>
                <a:cubicBezTo>
                  <a:pt x="8306" y="6243"/>
                  <a:pt x="8309" y="6327"/>
                  <a:pt x="8285" y="6400"/>
                </a:cubicBezTo>
                <a:cubicBezTo>
                  <a:pt x="8259" y="6476"/>
                  <a:pt x="8260" y="6541"/>
                  <a:pt x="8260" y="6623"/>
                </a:cubicBezTo>
                <a:cubicBezTo>
                  <a:pt x="8260" y="6707"/>
                  <a:pt x="8256" y="6755"/>
                  <a:pt x="8310" y="6821"/>
                </a:cubicBezTo>
                <a:cubicBezTo>
                  <a:pt x="8376" y="6902"/>
                  <a:pt x="8458" y="6917"/>
                  <a:pt x="8558" y="6921"/>
                </a:cubicBezTo>
                <a:cubicBezTo>
                  <a:pt x="8673" y="6925"/>
                  <a:pt x="8670" y="6895"/>
                  <a:pt x="8731" y="6821"/>
                </a:cubicBezTo>
                <a:cubicBezTo>
                  <a:pt x="8773" y="6771"/>
                  <a:pt x="8822" y="6688"/>
                  <a:pt x="8756" y="6623"/>
                </a:cubicBezTo>
                <a:cubicBezTo>
                  <a:pt x="8739" y="6615"/>
                  <a:pt x="8723" y="6606"/>
                  <a:pt x="8706" y="6598"/>
                </a:cubicBezTo>
                <a:cubicBezTo>
                  <a:pt x="8653" y="6631"/>
                  <a:pt x="8575" y="6682"/>
                  <a:pt x="8558" y="6747"/>
                </a:cubicBezTo>
                <a:cubicBezTo>
                  <a:pt x="8543" y="6803"/>
                  <a:pt x="8557" y="6886"/>
                  <a:pt x="8607" y="6921"/>
                </a:cubicBezTo>
                <a:cubicBezTo>
                  <a:pt x="8638" y="6943"/>
                  <a:pt x="8673" y="6962"/>
                  <a:pt x="8706" y="6970"/>
                </a:cubicBezTo>
              </a:path>
              <a:path w="3821" h="1068">
                <a:moveTo>
                  <a:pt x="9277" y="6325"/>
                </a:moveTo>
                <a:cubicBezTo>
                  <a:pt x="9277" y="6475"/>
                  <a:pt x="9252" y="6665"/>
                  <a:pt x="9302" y="6796"/>
                </a:cubicBezTo>
                <a:cubicBezTo>
                  <a:pt x="9328" y="6865"/>
                  <a:pt x="9374" y="6911"/>
                  <a:pt x="9401" y="6970"/>
                </a:cubicBezTo>
                <a:cubicBezTo>
                  <a:pt x="9401" y="6978"/>
                  <a:pt x="9401" y="6987"/>
                  <a:pt x="9401" y="6995"/>
                </a:cubicBezTo>
              </a:path>
              <a:path w="3821" h="1068">
                <a:moveTo>
                  <a:pt x="9079" y="6598"/>
                </a:moveTo>
                <a:cubicBezTo>
                  <a:pt x="9211" y="6585"/>
                  <a:pt x="9294" y="6598"/>
                  <a:pt x="9426" y="6598"/>
                </a:cubicBezTo>
                <a:cubicBezTo>
                  <a:pt x="9508" y="6598"/>
                  <a:pt x="9541" y="6598"/>
                  <a:pt x="9599" y="6598"/>
                </a:cubicBezTo>
              </a:path>
              <a:path w="3821" h="1068">
                <a:moveTo>
                  <a:pt x="9971" y="6375"/>
                </a:moveTo>
                <a:cubicBezTo>
                  <a:pt x="9936" y="6410"/>
                  <a:pt x="9818" y="6516"/>
                  <a:pt x="9823" y="6573"/>
                </a:cubicBezTo>
                <a:cubicBezTo>
                  <a:pt x="9827" y="6623"/>
                  <a:pt x="9949" y="6644"/>
                  <a:pt x="9971" y="6648"/>
                </a:cubicBezTo>
                <a:cubicBezTo>
                  <a:pt x="10064" y="6665"/>
                  <a:pt x="10238" y="6667"/>
                  <a:pt x="10319" y="6623"/>
                </a:cubicBezTo>
                <a:cubicBezTo>
                  <a:pt x="10344" y="6606"/>
                  <a:pt x="10368" y="6590"/>
                  <a:pt x="10393" y="6573"/>
                </a:cubicBezTo>
              </a:path>
              <a:path w="3821" h="1068">
                <a:moveTo>
                  <a:pt x="10170" y="6226"/>
                </a:moveTo>
                <a:cubicBezTo>
                  <a:pt x="10157" y="6437"/>
                  <a:pt x="10160" y="6614"/>
                  <a:pt x="10195" y="6821"/>
                </a:cubicBezTo>
                <a:cubicBezTo>
                  <a:pt x="10219" y="6962"/>
                  <a:pt x="10257" y="7102"/>
                  <a:pt x="10269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Ink 7"/>
          <p:cNvSpPr/>
          <p:nvPr/>
        </p:nvSpPr>
        <p:spPr>
          <a:xfrm>
            <a:off x="901800" y="2554200"/>
            <a:ext cx="563400" cy="768600"/>
          </a:xfrm>
          <a:custGeom>
            <a:avLst/>
            <a:gdLst/>
            <a:ahLst/>
            <a:rect l="l" t="t" r="r" b="b"/>
            <a:pathLst>
              <a:path w="1564" h="2134">
                <a:moveTo>
                  <a:pt x="2505" y="8310"/>
                </a:moveTo>
                <a:cubicBezTo>
                  <a:pt x="2584" y="8310"/>
                  <a:pt x="2664" y="8325"/>
                  <a:pt x="2729" y="8334"/>
                </a:cubicBezTo>
                <a:cubicBezTo>
                  <a:pt x="2811" y="8334"/>
                  <a:pt x="2844" y="8334"/>
                  <a:pt x="2902" y="8334"/>
                </a:cubicBezTo>
              </a:path>
              <a:path w="1564" h="2134">
                <a:moveTo>
                  <a:pt x="3101" y="8210"/>
                </a:moveTo>
                <a:cubicBezTo>
                  <a:pt x="3178" y="8210"/>
                  <a:pt x="3237" y="8202"/>
                  <a:pt x="3299" y="8235"/>
                </a:cubicBezTo>
                <a:cubicBezTo>
                  <a:pt x="3343" y="8259"/>
                  <a:pt x="3420" y="8293"/>
                  <a:pt x="3398" y="8359"/>
                </a:cubicBezTo>
                <a:cubicBezTo>
                  <a:pt x="3380" y="8413"/>
                  <a:pt x="3309" y="8487"/>
                  <a:pt x="3274" y="8533"/>
                </a:cubicBezTo>
                <a:cubicBezTo>
                  <a:pt x="3232" y="8587"/>
                  <a:pt x="3152" y="8631"/>
                  <a:pt x="3101" y="8682"/>
                </a:cubicBezTo>
                <a:cubicBezTo>
                  <a:pt x="3058" y="8725"/>
                  <a:pt x="3017" y="8771"/>
                  <a:pt x="3076" y="8830"/>
                </a:cubicBezTo>
                <a:cubicBezTo>
                  <a:pt x="3152" y="8907"/>
                  <a:pt x="3218" y="8860"/>
                  <a:pt x="3299" y="8830"/>
                </a:cubicBezTo>
                <a:cubicBezTo>
                  <a:pt x="3324" y="8822"/>
                  <a:pt x="3348" y="8814"/>
                  <a:pt x="3373" y="8806"/>
                </a:cubicBezTo>
              </a:path>
              <a:path w="1564" h="2134">
                <a:moveTo>
                  <a:pt x="3547" y="8409"/>
                </a:moveTo>
                <a:cubicBezTo>
                  <a:pt x="3592" y="8498"/>
                  <a:pt x="3632" y="8604"/>
                  <a:pt x="3696" y="8682"/>
                </a:cubicBezTo>
                <a:cubicBezTo>
                  <a:pt x="3751" y="8749"/>
                  <a:pt x="3936" y="8959"/>
                  <a:pt x="4018" y="8954"/>
                </a:cubicBezTo>
                <a:cubicBezTo>
                  <a:pt x="4035" y="8946"/>
                  <a:pt x="4051" y="8938"/>
                  <a:pt x="4068" y="8930"/>
                </a:cubicBezTo>
              </a:path>
              <a:path w="1564" h="2134">
                <a:moveTo>
                  <a:pt x="3894" y="8434"/>
                </a:moveTo>
                <a:cubicBezTo>
                  <a:pt x="3823" y="8526"/>
                  <a:pt x="3738" y="8613"/>
                  <a:pt x="3671" y="8706"/>
                </a:cubicBezTo>
                <a:cubicBezTo>
                  <a:pt x="3638" y="8751"/>
                  <a:pt x="3607" y="8801"/>
                  <a:pt x="3597" y="8855"/>
                </a:cubicBezTo>
              </a:path>
              <a:path w="1564" h="2134">
                <a:moveTo>
                  <a:pt x="3721" y="7094"/>
                </a:moveTo>
                <a:cubicBezTo>
                  <a:pt x="3721" y="7196"/>
                  <a:pt x="3715" y="7293"/>
                  <a:pt x="3696" y="7392"/>
                </a:cubicBezTo>
                <a:cubicBezTo>
                  <a:pt x="3673" y="7514"/>
                  <a:pt x="3653" y="7675"/>
                  <a:pt x="3621" y="7789"/>
                </a:cubicBezTo>
                <a:cubicBezTo>
                  <a:pt x="3579" y="7940"/>
                  <a:pt x="3508" y="8080"/>
                  <a:pt x="3473" y="8235"/>
                </a:cubicBezTo>
                <a:cubicBezTo>
                  <a:pt x="3432" y="8416"/>
                  <a:pt x="3356" y="8581"/>
                  <a:pt x="3299" y="8756"/>
                </a:cubicBezTo>
                <a:cubicBezTo>
                  <a:pt x="3270" y="8846"/>
                  <a:pt x="3239" y="8939"/>
                  <a:pt x="3225" y="9029"/>
                </a:cubicBezTo>
                <a:cubicBezTo>
                  <a:pt x="3219" y="9070"/>
                  <a:pt x="3190" y="9169"/>
                  <a:pt x="3200" y="9203"/>
                </a:cubicBezTo>
                <a:cubicBezTo>
                  <a:pt x="3211" y="9241"/>
                  <a:pt x="3195" y="9237"/>
                  <a:pt x="3274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Ink 8"/>
          <p:cNvSpPr/>
          <p:nvPr/>
        </p:nvSpPr>
        <p:spPr>
          <a:xfrm>
            <a:off x="2017800" y="3017880"/>
            <a:ext cx="644400" cy="287280"/>
          </a:xfrm>
          <a:custGeom>
            <a:avLst/>
            <a:gdLst/>
            <a:ahLst/>
            <a:rect l="l" t="t" r="r" b="b"/>
            <a:pathLst>
              <a:path w="1787" h="795">
                <a:moveTo>
                  <a:pt x="5606" y="8657"/>
                </a:moveTo>
                <a:cubicBezTo>
                  <a:pt x="5717" y="8657"/>
                  <a:pt x="5824" y="8667"/>
                  <a:pt x="5928" y="8632"/>
                </a:cubicBezTo>
              </a:path>
              <a:path w="1787" h="795">
                <a:moveTo>
                  <a:pt x="6201" y="8384"/>
                </a:moveTo>
                <a:cubicBezTo>
                  <a:pt x="6267" y="8403"/>
                  <a:pt x="6379" y="8420"/>
                  <a:pt x="6424" y="8483"/>
                </a:cubicBezTo>
                <a:cubicBezTo>
                  <a:pt x="6468" y="8545"/>
                  <a:pt x="6486" y="8614"/>
                  <a:pt x="6424" y="8682"/>
                </a:cubicBezTo>
                <a:cubicBezTo>
                  <a:pt x="6394" y="8715"/>
                  <a:pt x="6267" y="8761"/>
                  <a:pt x="6251" y="8806"/>
                </a:cubicBezTo>
                <a:cubicBezTo>
                  <a:pt x="6228" y="8871"/>
                  <a:pt x="6232" y="8895"/>
                  <a:pt x="6276" y="8954"/>
                </a:cubicBezTo>
                <a:cubicBezTo>
                  <a:pt x="6309" y="8999"/>
                  <a:pt x="6421" y="9020"/>
                  <a:pt x="6474" y="9029"/>
                </a:cubicBezTo>
                <a:cubicBezTo>
                  <a:pt x="6533" y="9029"/>
                  <a:pt x="6559" y="9026"/>
                  <a:pt x="6598" y="9004"/>
                </a:cubicBezTo>
              </a:path>
              <a:path w="1787" h="795">
                <a:moveTo>
                  <a:pt x="6772" y="8582"/>
                </a:moveTo>
                <a:cubicBezTo>
                  <a:pt x="6832" y="8754"/>
                  <a:pt x="6834" y="8733"/>
                  <a:pt x="6945" y="8855"/>
                </a:cubicBezTo>
                <a:cubicBezTo>
                  <a:pt x="7021" y="8938"/>
                  <a:pt x="7091" y="8993"/>
                  <a:pt x="7193" y="9054"/>
                </a:cubicBezTo>
                <a:cubicBezTo>
                  <a:pt x="7258" y="9093"/>
                  <a:pt x="7319" y="9103"/>
                  <a:pt x="7392" y="9103"/>
                </a:cubicBezTo>
              </a:path>
              <a:path w="1787" h="795">
                <a:moveTo>
                  <a:pt x="7293" y="8558"/>
                </a:moveTo>
                <a:cubicBezTo>
                  <a:pt x="7076" y="8692"/>
                  <a:pt x="7036" y="8759"/>
                  <a:pt x="6871" y="8930"/>
                </a:cubicBezTo>
                <a:cubicBezTo>
                  <a:pt x="6795" y="9009"/>
                  <a:pt x="6752" y="9099"/>
                  <a:pt x="6672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Ink 9"/>
          <p:cNvSpPr/>
          <p:nvPr/>
        </p:nvSpPr>
        <p:spPr>
          <a:xfrm>
            <a:off x="1054080" y="2608200"/>
            <a:ext cx="2187720" cy="419040"/>
          </a:xfrm>
          <a:custGeom>
            <a:avLst/>
            <a:gdLst/>
            <a:ahLst/>
            <a:rect l="l" t="t" r="r" b="b"/>
            <a:pathLst>
              <a:path w="6078" h="1167">
                <a:moveTo>
                  <a:pt x="2952" y="7342"/>
                </a:moveTo>
                <a:cubicBezTo>
                  <a:pt x="2993" y="7301"/>
                  <a:pt x="3042" y="7256"/>
                  <a:pt x="3101" y="7243"/>
                </a:cubicBezTo>
                <a:cubicBezTo>
                  <a:pt x="3185" y="7224"/>
                  <a:pt x="3298" y="7275"/>
                  <a:pt x="3349" y="7342"/>
                </a:cubicBezTo>
                <a:cubicBezTo>
                  <a:pt x="3393" y="7400"/>
                  <a:pt x="3415" y="7493"/>
                  <a:pt x="3398" y="7565"/>
                </a:cubicBezTo>
                <a:cubicBezTo>
                  <a:pt x="3381" y="7636"/>
                  <a:pt x="3333" y="7750"/>
                  <a:pt x="3299" y="7813"/>
                </a:cubicBezTo>
                <a:cubicBezTo>
                  <a:pt x="3269" y="7869"/>
                  <a:pt x="3201" y="7906"/>
                  <a:pt x="3150" y="7938"/>
                </a:cubicBezTo>
                <a:cubicBezTo>
                  <a:pt x="3081" y="7982"/>
                  <a:pt x="3022" y="8013"/>
                  <a:pt x="2952" y="7938"/>
                </a:cubicBezTo>
                <a:cubicBezTo>
                  <a:pt x="2896" y="7878"/>
                  <a:pt x="2939" y="7795"/>
                  <a:pt x="2977" y="7739"/>
                </a:cubicBezTo>
                <a:cubicBezTo>
                  <a:pt x="3016" y="7682"/>
                  <a:pt x="3066" y="7671"/>
                  <a:pt x="3125" y="7714"/>
                </a:cubicBezTo>
                <a:cubicBezTo>
                  <a:pt x="3162" y="7741"/>
                  <a:pt x="3240" y="7814"/>
                  <a:pt x="3249" y="7863"/>
                </a:cubicBezTo>
                <a:cubicBezTo>
                  <a:pt x="3252" y="7878"/>
                  <a:pt x="3261" y="8063"/>
                  <a:pt x="3299" y="7987"/>
                </a:cubicBezTo>
                <a:cubicBezTo>
                  <a:pt x="3299" y="7979"/>
                  <a:pt x="3299" y="7970"/>
                  <a:pt x="3299" y="7962"/>
                </a:cubicBezTo>
              </a:path>
              <a:path w="6078" h="1167">
                <a:moveTo>
                  <a:pt x="3572" y="7590"/>
                </a:moveTo>
                <a:cubicBezTo>
                  <a:pt x="3616" y="7679"/>
                  <a:pt x="3653" y="7790"/>
                  <a:pt x="3721" y="7863"/>
                </a:cubicBezTo>
                <a:cubicBezTo>
                  <a:pt x="3797" y="7945"/>
                  <a:pt x="3849" y="8008"/>
                  <a:pt x="3969" y="8037"/>
                </a:cubicBezTo>
                <a:cubicBezTo>
                  <a:pt x="4013" y="8037"/>
                  <a:pt x="4027" y="8040"/>
                  <a:pt x="4043" y="8012"/>
                </a:cubicBezTo>
              </a:path>
              <a:path w="6078" h="1167">
                <a:moveTo>
                  <a:pt x="3944" y="7565"/>
                </a:moveTo>
                <a:cubicBezTo>
                  <a:pt x="3867" y="7666"/>
                  <a:pt x="3840" y="7767"/>
                  <a:pt x="3770" y="7863"/>
                </a:cubicBezTo>
                <a:cubicBezTo>
                  <a:pt x="3729" y="7919"/>
                  <a:pt x="3692" y="7986"/>
                  <a:pt x="3646" y="8037"/>
                </a:cubicBezTo>
                <a:cubicBezTo>
                  <a:pt x="3623" y="8060"/>
                  <a:pt x="3615" y="8071"/>
                  <a:pt x="3621" y="8037"/>
                </a:cubicBezTo>
              </a:path>
              <a:path w="6078" h="1167">
                <a:moveTo>
                  <a:pt x="4266" y="7441"/>
                </a:moveTo>
                <a:cubicBezTo>
                  <a:pt x="4290" y="7529"/>
                  <a:pt x="4291" y="7597"/>
                  <a:pt x="4291" y="7689"/>
                </a:cubicBezTo>
                <a:cubicBezTo>
                  <a:pt x="4291" y="7772"/>
                  <a:pt x="4312" y="7816"/>
                  <a:pt x="4316" y="7888"/>
                </a:cubicBezTo>
                <a:cubicBezTo>
                  <a:pt x="4319" y="7941"/>
                  <a:pt x="4335" y="7991"/>
                  <a:pt x="4366" y="8012"/>
                </a:cubicBezTo>
              </a:path>
              <a:path w="6078" h="1167">
                <a:moveTo>
                  <a:pt x="4093" y="7714"/>
                </a:moveTo>
                <a:cubicBezTo>
                  <a:pt x="4133" y="7746"/>
                  <a:pt x="4198" y="7782"/>
                  <a:pt x="4242" y="7789"/>
                </a:cubicBezTo>
                <a:cubicBezTo>
                  <a:pt x="4341" y="7804"/>
                  <a:pt x="4464" y="7789"/>
                  <a:pt x="4564" y="7789"/>
                </a:cubicBezTo>
              </a:path>
              <a:path w="6078" h="1167">
                <a:moveTo>
                  <a:pt x="4986" y="7392"/>
                </a:moveTo>
                <a:cubicBezTo>
                  <a:pt x="4980" y="7519"/>
                  <a:pt x="4961" y="7616"/>
                  <a:pt x="4961" y="7739"/>
                </a:cubicBezTo>
                <a:cubicBezTo>
                  <a:pt x="4961" y="7861"/>
                  <a:pt x="4966" y="7979"/>
                  <a:pt x="4986" y="8086"/>
                </a:cubicBezTo>
                <a:cubicBezTo>
                  <a:pt x="4998" y="8148"/>
                  <a:pt x="4999" y="8192"/>
                  <a:pt x="5060" y="8161"/>
                </a:cubicBezTo>
              </a:path>
              <a:path w="6078" h="1167">
                <a:moveTo>
                  <a:pt x="5358" y="7789"/>
                </a:moveTo>
                <a:cubicBezTo>
                  <a:pt x="5448" y="7789"/>
                  <a:pt x="5507" y="7792"/>
                  <a:pt x="5581" y="7813"/>
                </a:cubicBezTo>
                <a:cubicBezTo>
                  <a:pt x="5589" y="7813"/>
                  <a:pt x="5598" y="7813"/>
                  <a:pt x="5606" y="7813"/>
                </a:cubicBezTo>
              </a:path>
              <a:path w="6078" h="1167">
                <a:moveTo>
                  <a:pt x="5358" y="7888"/>
                </a:moveTo>
                <a:cubicBezTo>
                  <a:pt x="5470" y="7883"/>
                  <a:pt x="5570" y="7872"/>
                  <a:pt x="5680" y="7863"/>
                </a:cubicBezTo>
              </a:path>
              <a:path w="6078" h="1167">
                <a:moveTo>
                  <a:pt x="6077" y="7541"/>
                </a:moveTo>
                <a:cubicBezTo>
                  <a:pt x="6175" y="7455"/>
                  <a:pt x="6229" y="7472"/>
                  <a:pt x="6350" y="7491"/>
                </a:cubicBezTo>
                <a:cubicBezTo>
                  <a:pt x="6463" y="7509"/>
                  <a:pt x="6449" y="7527"/>
                  <a:pt x="6449" y="7640"/>
                </a:cubicBezTo>
                <a:cubicBezTo>
                  <a:pt x="6449" y="7707"/>
                  <a:pt x="6421" y="7765"/>
                  <a:pt x="6375" y="7813"/>
                </a:cubicBezTo>
                <a:cubicBezTo>
                  <a:pt x="6312" y="7879"/>
                  <a:pt x="6284" y="7948"/>
                  <a:pt x="6226" y="8012"/>
                </a:cubicBezTo>
                <a:cubicBezTo>
                  <a:pt x="6188" y="8054"/>
                  <a:pt x="6132" y="8094"/>
                  <a:pt x="6152" y="8161"/>
                </a:cubicBezTo>
                <a:cubicBezTo>
                  <a:pt x="6174" y="8236"/>
                  <a:pt x="6406" y="8216"/>
                  <a:pt x="6449" y="8210"/>
                </a:cubicBezTo>
                <a:cubicBezTo>
                  <a:pt x="6474" y="8202"/>
                  <a:pt x="6499" y="8194"/>
                  <a:pt x="6524" y="8186"/>
                </a:cubicBezTo>
              </a:path>
              <a:path w="6078" h="1167">
                <a:moveTo>
                  <a:pt x="6796" y="7764"/>
                </a:moveTo>
                <a:cubicBezTo>
                  <a:pt x="6802" y="7828"/>
                  <a:pt x="6809" y="7928"/>
                  <a:pt x="6846" y="7987"/>
                </a:cubicBezTo>
                <a:cubicBezTo>
                  <a:pt x="6915" y="8097"/>
                  <a:pt x="7027" y="8197"/>
                  <a:pt x="7119" y="8285"/>
                </a:cubicBezTo>
                <a:cubicBezTo>
                  <a:pt x="7196" y="8359"/>
                  <a:pt x="7259" y="8403"/>
                  <a:pt x="7367" y="8409"/>
                </a:cubicBezTo>
                <a:cubicBezTo>
                  <a:pt x="7384" y="8409"/>
                  <a:pt x="7400" y="8409"/>
                  <a:pt x="7417" y="8409"/>
                </a:cubicBezTo>
              </a:path>
              <a:path w="6078" h="1167">
                <a:moveTo>
                  <a:pt x="7218" y="7789"/>
                </a:moveTo>
                <a:cubicBezTo>
                  <a:pt x="7129" y="7914"/>
                  <a:pt x="7038" y="8040"/>
                  <a:pt x="6945" y="8161"/>
                </a:cubicBezTo>
                <a:cubicBezTo>
                  <a:pt x="6913" y="8203"/>
                  <a:pt x="6816" y="8270"/>
                  <a:pt x="6821" y="8334"/>
                </a:cubicBezTo>
                <a:cubicBezTo>
                  <a:pt x="6829" y="8342"/>
                  <a:pt x="6838" y="8351"/>
                  <a:pt x="6846" y="8359"/>
                </a:cubicBezTo>
              </a:path>
              <a:path w="6078" h="1167">
                <a:moveTo>
                  <a:pt x="7541" y="7987"/>
                </a:moveTo>
                <a:cubicBezTo>
                  <a:pt x="7665" y="7987"/>
                  <a:pt x="7789" y="7987"/>
                  <a:pt x="7913" y="7987"/>
                </a:cubicBezTo>
              </a:path>
              <a:path w="6078" h="1167">
                <a:moveTo>
                  <a:pt x="8136" y="7665"/>
                </a:moveTo>
                <a:cubicBezTo>
                  <a:pt x="8199" y="7577"/>
                  <a:pt x="8293" y="7549"/>
                  <a:pt x="8409" y="7565"/>
                </a:cubicBezTo>
                <a:cubicBezTo>
                  <a:pt x="8446" y="7570"/>
                  <a:pt x="8615" y="7620"/>
                  <a:pt x="8632" y="7665"/>
                </a:cubicBezTo>
                <a:cubicBezTo>
                  <a:pt x="8657" y="7731"/>
                  <a:pt x="8600" y="7817"/>
                  <a:pt x="8558" y="7863"/>
                </a:cubicBezTo>
                <a:cubicBezTo>
                  <a:pt x="8507" y="7918"/>
                  <a:pt x="8472" y="7992"/>
                  <a:pt x="8409" y="8037"/>
                </a:cubicBezTo>
                <a:cubicBezTo>
                  <a:pt x="8339" y="8087"/>
                  <a:pt x="8311" y="8143"/>
                  <a:pt x="8260" y="8210"/>
                </a:cubicBezTo>
                <a:cubicBezTo>
                  <a:pt x="8225" y="8256"/>
                  <a:pt x="8183" y="8290"/>
                  <a:pt x="8210" y="8359"/>
                </a:cubicBezTo>
                <a:cubicBezTo>
                  <a:pt x="8237" y="8428"/>
                  <a:pt x="8357" y="8409"/>
                  <a:pt x="8409" y="8409"/>
                </a:cubicBezTo>
                <a:cubicBezTo>
                  <a:pt x="8506" y="8409"/>
                  <a:pt x="8587" y="8386"/>
                  <a:pt x="8682" y="8384"/>
                </a:cubicBezTo>
                <a:cubicBezTo>
                  <a:pt x="8789" y="8381"/>
                  <a:pt x="8897" y="8384"/>
                  <a:pt x="9004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1108080" y="2670120"/>
            <a:ext cx="1392120" cy="1785960"/>
          </a:xfrm>
          <a:custGeom>
            <a:avLst/>
            <a:gdLst/>
            <a:ahLst/>
            <a:rect l="l" t="t" r="r" b="b"/>
            <a:pathLst>
              <a:path w="3870" h="4962">
                <a:moveTo>
                  <a:pt x="6945" y="7417"/>
                </a:moveTo>
                <a:cubicBezTo>
                  <a:pt x="6864" y="7570"/>
                  <a:pt x="6791" y="7728"/>
                  <a:pt x="6722" y="7888"/>
                </a:cubicBezTo>
                <a:cubicBezTo>
                  <a:pt x="6643" y="8073"/>
                  <a:pt x="6591" y="8274"/>
                  <a:pt x="6524" y="8458"/>
                </a:cubicBezTo>
                <a:cubicBezTo>
                  <a:pt x="6481" y="8578"/>
                  <a:pt x="6453" y="8709"/>
                  <a:pt x="6424" y="8830"/>
                </a:cubicBezTo>
                <a:cubicBezTo>
                  <a:pt x="6415" y="8869"/>
                  <a:pt x="6383" y="9008"/>
                  <a:pt x="6350" y="9029"/>
                </a:cubicBezTo>
                <a:cubicBezTo>
                  <a:pt x="6342" y="9029"/>
                  <a:pt x="6333" y="9029"/>
                  <a:pt x="6325" y="9029"/>
                </a:cubicBezTo>
              </a:path>
              <a:path w="3870" h="4962">
                <a:moveTo>
                  <a:pt x="4440" y="9674"/>
                </a:moveTo>
                <a:cubicBezTo>
                  <a:pt x="4475" y="9777"/>
                  <a:pt x="4503" y="9908"/>
                  <a:pt x="4490" y="10021"/>
                </a:cubicBezTo>
                <a:cubicBezTo>
                  <a:pt x="4480" y="10103"/>
                  <a:pt x="4450" y="10191"/>
                  <a:pt x="4440" y="10269"/>
                </a:cubicBezTo>
                <a:cubicBezTo>
                  <a:pt x="4429" y="10350"/>
                  <a:pt x="4418" y="10438"/>
                  <a:pt x="4415" y="10517"/>
                </a:cubicBezTo>
                <a:cubicBezTo>
                  <a:pt x="4409" y="10646"/>
                  <a:pt x="4441" y="10566"/>
                  <a:pt x="4490" y="10517"/>
                </a:cubicBezTo>
              </a:path>
              <a:path w="3870" h="4962">
                <a:moveTo>
                  <a:pt x="4713" y="9996"/>
                </a:moveTo>
                <a:cubicBezTo>
                  <a:pt x="4815" y="9996"/>
                  <a:pt x="4900" y="9987"/>
                  <a:pt x="4986" y="9971"/>
                </a:cubicBezTo>
                <a:cubicBezTo>
                  <a:pt x="5027" y="9971"/>
                  <a:pt x="5035" y="9971"/>
                  <a:pt x="5060" y="9971"/>
                </a:cubicBezTo>
              </a:path>
              <a:path w="3870" h="4962">
                <a:moveTo>
                  <a:pt x="4787" y="10145"/>
                </a:moveTo>
                <a:cubicBezTo>
                  <a:pt x="4886" y="10166"/>
                  <a:pt x="4960" y="10170"/>
                  <a:pt x="5060" y="10170"/>
                </a:cubicBezTo>
                <a:cubicBezTo>
                  <a:pt x="5077" y="10170"/>
                  <a:pt x="5093" y="10170"/>
                  <a:pt x="5110" y="10170"/>
                </a:cubicBezTo>
              </a:path>
              <a:path w="3870" h="4962">
                <a:moveTo>
                  <a:pt x="5308" y="9996"/>
                </a:moveTo>
                <a:cubicBezTo>
                  <a:pt x="5376" y="9977"/>
                  <a:pt x="5451" y="9979"/>
                  <a:pt x="5507" y="9947"/>
                </a:cubicBezTo>
              </a:path>
              <a:path w="3870" h="4962">
                <a:moveTo>
                  <a:pt x="5755" y="9674"/>
                </a:moveTo>
                <a:cubicBezTo>
                  <a:pt x="5809" y="9666"/>
                  <a:pt x="5982" y="9622"/>
                  <a:pt x="6052" y="9649"/>
                </a:cubicBezTo>
                <a:cubicBezTo>
                  <a:pt x="6116" y="9674"/>
                  <a:pt x="6174" y="9748"/>
                  <a:pt x="6152" y="9823"/>
                </a:cubicBezTo>
                <a:cubicBezTo>
                  <a:pt x="6139" y="9869"/>
                  <a:pt x="6076" y="10004"/>
                  <a:pt x="6028" y="10046"/>
                </a:cubicBezTo>
                <a:cubicBezTo>
                  <a:pt x="5975" y="10092"/>
                  <a:pt x="5932" y="10141"/>
                  <a:pt x="5879" y="10195"/>
                </a:cubicBezTo>
                <a:cubicBezTo>
                  <a:pt x="5801" y="10274"/>
                  <a:pt x="5678" y="10355"/>
                  <a:pt x="5655" y="10468"/>
                </a:cubicBezTo>
                <a:cubicBezTo>
                  <a:pt x="5655" y="10484"/>
                  <a:pt x="5655" y="10501"/>
                  <a:pt x="5655" y="10517"/>
                </a:cubicBezTo>
                <a:cubicBezTo>
                  <a:pt x="5720" y="10556"/>
                  <a:pt x="5799" y="10542"/>
                  <a:pt x="5879" y="10542"/>
                </a:cubicBezTo>
                <a:cubicBezTo>
                  <a:pt x="5990" y="10542"/>
                  <a:pt x="6067" y="10574"/>
                  <a:pt x="6176" y="10592"/>
                </a:cubicBezTo>
                <a:cubicBezTo>
                  <a:pt x="6241" y="10602"/>
                  <a:pt x="6339" y="10597"/>
                  <a:pt x="6400" y="10616"/>
                </a:cubicBezTo>
                <a:cubicBezTo>
                  <a:pt x="6494" y="10646"/>
                  <a:pt x="6542" y="10644"/>
                  <a:pt x="6598" y="10567"/>
                </a:cubicBezTo>
              </a:path>
              <a:path w="3870" h="4962">
                <a:moveTo>
                  <a:pt x="3076" y="12055"/>
                </a:moveTo>
                <a:cubicBezTo>
                  <a:pt x="3076" y="12080"/>
                  <a:pt x="3076" y="12104"/>
                  <a:pt x="3076" y="12129"/>
                </a:cubicBezTo>
                <a:cubicBezTo>
                  <a:pt x="3076" y="12264"/>
                  <a:pt x="3092" y="12033"/>
                  <a:pt x="3101" y="12005"/>
                </a:cubicBezTo>
                <a:cubicBezTo>
                  <a:pt x="3123" y="11937"/>
                  <a:pt x="3163" y="11852"/>
                  <a:pt x="3175" y="11782"/>
                </a:cubicBezTo>
                <a:cubicBezTo>
                  <a:pt x="3191" y="11694"/>
                  <a:pt x="3232" y="11623"/>
                  <a:pt x="3249" y="11534"/>
                </a:cubicBezTo>
                <a:cubicBezTo>
                  <a:pt x="3249" y="11490"/>
                  <a:pt x="3246" y="11476"/>
                  <a:pt x="3274" y="11460"/>
                </a:cubicBezTo>
                <a:cubicBezTo>
                  <a:pt x="3310" y="11541"/>
                  <a:pt x="3348" y="11623"/>
                  <a:pt x="3373" y="11708"/>
                </a:cubicBezTo>
                <a:cubicBezTo>
                  <a:pt x="3400" y="11803"/>
                  <a:pt x="3428" y="11917"/>
                  <a:pt x="3473" y="12005"/>
                </a:cubicBezTo>
                <a:cubicBezTo>
                  <a:pt x="3513" y="12082"/>
                  <a:pt x="3561" y="12143"/>
                  <a:pt x="3621" y="12204"/>
                </a:cubicBezTo>
                <a:cubicBezTo>
                  <a:pt x="3629" y="12212"/>
                  <a:pt x="3638" y="12221"/>
                  <a:pt x="3646" y="12229"/>
                </a:cubicBezTo>
                <a:cubicBezTo>
                  <a:pt x="3646" y="12060"/>
                  <a:pt x="3657" y="11898"/>
                  <a:pt x="3671" y="11733"/>
                </a:cubicBezTo>
                <a:cubicBezTo>
                  <a:pt x="3680" y="11626"/>
                  <a:pt x="3691" y="11516"/>
                  <a:pt x="3696" y="11410"/>
                </a:cubicBezTo>
                <a:cubicBezTo>
                  <a:pt x="3699" y="11347"/>
                  <a:pt x="3715" y="11301"/>
                  <a:pt x="3721" y="11237"/>
                </a:cubicBezTo>
              </a:path>
              <a:path w="3870" h="4962">
                <a:moveTo>
                  <a:pt x="4490" y="11584"/>
                </a:moveTo>
                <a:cubicBezTo>
                  <a:pt x="4451" y="11506"/>
                  <a:pt x="4434" y="11443"/>
                  <a:pt x="4341" y="11435"/>
                </a:cubicBezTo>
                <a:cubicBezTo>
                  <a:pt x="4268" y="11429"/>
                  <a:pt x="4232" y="11436"/>
                  <a:pt x="4167" y="11460"/>
                </a:cubicBezTo>
                <a:cubicBezTo>
                  <a:pt x="4178" y="11539"/>
                  <a:pt x="4205" y="11582"/>
                  <a:pt x="4266" y="11633"/>
                </a:cubicBezTo>
                <a:cubicBezTo>
                  <a:pt x="4406" y="11750"/>
                  <a:pt x="4550" y="11831"/>
                  <a:pt x="4614" y="12005"/>
                </a:cubicBezTo>
                <a:cubicBezTo>
                  <a:pt x="4642" y="12082"/>
                  <a:pt x="4687" y="12193"/>
                  <a:pt x="4663" y="12278"/>
                </a:cubicBezTo>
                <a:cubicBezTo>
                  <a:pt x="4640" y="12360"/>
                  <a:pt x="4559" y="12375"/>
                  <a:pt x="4490" y="12378"/>
                </a:cubicBezTo>
                <a:cubicBezTo>
                  <a:pt x="4390" y="12383"/>
                  <a:pt x="4307" y="12353"/>
                  <a:pt x="4217" y="12303"/>
                </a:cubicBezTo>
                <a:cubicBezTo>
                  <a:pt x="4180" y="12282"/>
                  <a:pt x="4072" y="12210"/>
                  <a:pt x="4043" y="12179"/>
                </a:cubicBezTo>
                <a:cubicBezTo>
                  <a:pt x="4035" y="12162"/>
                  <a:pt x="4026" y="12146"/>
                  <a:pt x="4018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5616720" y="2116080"/>
            <a:ext cx="876240" cy="258840"/>
          </a:xfrm>
          <a:custGeom>
            <a:avLst/>
            <a:gdLst/>
            <a:ahLst/>
            <a:rect l="l" t="t" r="r" b="b"/>
            <a:pathLst>
              <a:path w="2432" h="720">
                <a:moveTo>
                  <a:pt x="15726" y="6003"/>
                </a:moveTo>
                <a:cubicBezTo>
                  <a:pt x="15684" y="6087"/>
                  <a:pt x="15655" y="6167"/>
                  <a:pt x="15627" y="6251"/>
                </a:cubicBezTo>
                <a:cubicBezTo>
                  <a:pt x="15596" y="6344"/>
                  <a:pt x="15582" y="6453"/>
                  <a:pt x="15627" y="6548"/>
                </a:cubicBezTo>
                <a:cubicBezTo>
                  <a:pt x="15657" y="6612"/>
                  <a:pt x="15746" y="6598"/>
                  <a:pt x="15801" y="6598"/>
                </a:cubicBezTo>
                <a:cubicBezTo>
                  <a:pt x="15868" y="6598"/>
                  <a:pt x="15925" y="6570"/>
                  <a:pt x="15974" y="6524"/>
                </a:cubicBezTo>
                <a:cubicBezTo>
                  <a:pt x="16025" y="6477"/>
                  <a:pt x="16086" y="6428"/>
                  <a:pt x="16073" y="6350"/>
                </a:cubicBezTo>
                <a:cubicBezTo>
                  <a:pt x="16053" y="6289"/>
                  <a:pt x="16055" y="6275"/>
                  <a:pt x="16024" y="6251"/>
                </a:cubicBezTo>
                <a:cubicBezTo>
                  <a:pt x="15950" y="6262"/>
                  <a:pt x="15931" y="6294"/>
                  <a:pt x="15875" y="6350"/>
                </a:cubicBezTo>
                <a:cubicBezTo>
                  <a:pt x="15844" y="6381"/>
                  <a:pt x="15833" y="6479"/>
                  <a:pt x="15850" y="6524"/>
                </a:cubicBezTo>
                <a:cubicBezTo>
                  <a:pt x="15883" y="6608"/>
                  <a:pt x="15965" y="6580"/>
                  <a:pt x="16024" y="6573"/>
                </a:cubicBezTo>
                <a:cubicBezTo>
                  <a:pt x="16032" y="6573"/>
                  <a:pt x="16041" y="6573"/>
                  <a:pt x="16049" y="6573"/>
                </a:cubicBezTo>
              </a:path>
              <a:path w="2432" h="720">
                <a:moveTo>
                  <a:pt x="16222" y="6077"/>
                </a:moveTo>
                <a:cubicBezTo>
                  <a:pt x="16267" y="6155"/>
                  <a:pt x="16309" y="6235"/>
                  <a:pt x="16371" y="6300"/>
                </a:cubicBezTo>
                <a:cubicBezTo>
                  <a:pt x="16434" y="6366"/>
                  <a:pt x="16453" y="6500"/>
                  <a:pt x="16545" y="6499"/>
                </a:cubicBezTo>
                <a:cubicBezTo>
                  <a:pt x="16545" y="6482"/>
                  <a:pt x="16545" y="6466"/>
                  <a:pt x="16545" y="6449"/>
                </a:cubicBezTo>
              </a:path>
              <a:path w="2432" h="720">
                <a:moveTo>
                  <a:pt x="16495" y="6052"/>
                </a:moveTo>
                <a:cubicBezTo>
                  <a:pt x="16469" y="6170"/>
                  <a:pt x="16442" y="6288"/>
                  <a:pt x="16396" y="6400"/>
                </a:cubicBezTo>
                <a:cubicBezTo>
                  <a:pt x="16371" y="6460"/>
                  <a:pt x="16327" y="6513"/>
                  <a:pt x="16297" y="6573"/>
                </a:cubicBezTo>
              </a:path>
              <a:path w="2432" h="720">
                <a:moveTo>
                  <a:pt x="16694" y="6077"/>
                </a:moveTo>
                <a:cubicBezTo>
                  <a:pt x="16711" y="6219"/>
                  <a:pt x="16855" y="6410"/>
                  <a:pt x="16743" y="6499"/>
                </a:cubicBezTo>
                <a:cubicBezTo>
                  <a:pt x="16735" y="6491"/>
                  <a:pt x="16726" y="6482"/>
                  <a:pt x="16718" y="6474"/>
                </a:cubicBezTo>
              </a:path>
              <a:path w="2432" h="720">
                <a:moveTo>
                  <a:pt x="16644" y="6300"/>
                </a:moveTo>
                <a:cubicBezTo>
                  <a:pt x="16756" y="6294"/>
                  <a:pt x="16839" y="6268"/>
                  <a:pt x="16942" y="6251"/>
                </a:cubicBezTo>
                <a:cubicBezTo>
                  <a:pt x="16958" y="6251"/>
                  <a:pt x="16975" y="6251"/>
                  <a:pt x="16991" y="6251"/>
                </a:cubicBezTo>
              </a:path>
              <a:path w="2432" h="720">
                <a:moveTo>
                  <a:pt x="17264" y="5978"/>
                </a:moveTo>
                <a:cubicBezTo>
                  <a:pt x="17224" y="5879"/>
                  <a:pt x="17218" y="5859"/>
                  <a:pt x="17115" y="5904"/>
                </a:cubicBezTo>
                <a:cubicBezTo>
                  <a:pt x="17035" y="5939"/>
                  <a:pt x="17038" y="5985"/>
                  <a:pt x="16991" y="6052"/>
                </a:cubicBezTo>
                <a:cubicBezTo>
                  <a:pt x="16946" y="6117"/>
                  <a:pt x="16963" y="6126"/>
                  <a:pt x="16942" y="6201"/>
                </a:cubicBezTo>
                <a:cubicBezTo>
                  <a:pt x="16918" y="6287"/>
                  <a:pt x="16893" y="6321"/>
                  <a:pt x="16942" y="6226"/>
                </a:cubicBezTo>
                <a:cubicBezTo>
                  <a:pt x="16976" y="6162"/>
                  <a:pt x="17061" y="6139"/>
                  <a:pt x="17140" y="6152"/>
                </a:cubicBezTo>
                <a:cubicBezTo>
                  <a:pt x="17195" y="6161"/>
                  <a:pt x="17274" y="6214"/>
                  <a:pt x="17314" y="6251"/>
                </a:cubicBezTo>
                <a:cubicBezTo>
                  <a:pt x="17346" y="6281"/>
                  <a:pt x="17354" y="6381"/>
                  <a:pt x="17338" y="6424"/>
                </a:cubicBezTo>
                <a:cubicBezTo>
                  <a:pt x="17314" y="6488"/>
                  <a:pt x="17242" y="6474"/>
                  <a:pt x="17190" y="6474"/>
                </a:cubicBezTo>
                <a:cubicBezTo>
                  <a:pt x="17138" y="6474"/>
                  <a:pt x="17063" y="6452"/>
                  <a:pt x="17016" y="6424"/>
                </a:cubicBezTo>
                <a:cubicBezTo>
                  <a:pt x="16993" y="6402"/>
                  <a:pt x="16982" y="6394"/>
                  <a:pt x="17016" y="6400"/>
                </a:cubicBezTo>
              </a:path>
              <a:path w="2432" h="720">
                <a:moveTo>
                  <a:pt x="17636" y="6028"/>
                </a:moveTo>
                <a:cubicBezTo>
                  <a:pt x="17725" y="6022"/>
                  <a:pt x="17795" y="6003"/>
                  <a:pt x="17884" y="6003"/>
                </a:cubicBezTo>
                <a:cubicBezTo>
                  <a:pt x="17934" y="6003"/>
                  <a:pt x="17983" y="6003"/>
                  <a:pt x="18033" y="6003"/>
                </a:cubicBezTo>
              </a:path>
              <a:path w="2432" h="720">
                <a:moveTo>
                  <a:pt x="17711" y="6251"/>
                </a:moveTo>
                <a:cubicBezTo>
                  <a:pt x="17820" y="6251"/>
                  <a:pt x="17904" y="6246"/>
                  <a:pt x="18008" y="6226"/>
                </a:cubicBezTo>
                <a:cubicBezTo>
                  <a:pt x="18016" y="6226"/>
                  <a:pt x="18025" y="6226"/>
                  <a:pt x="18033" y="62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6626160" y="2081160"/>
            <a:ext cx="1143000" cy="303120"/>
          </a:xfrm>
          <a:custGeom>
            <a:avLst/>
            <a:gdLst/>
            <a:ahLst/>
            <a:rect l="l" t="t" r="r" b="b"/>
            <a:pathLst>
              <a:path w="3176" h="845">
                <a:moveTo>
                  <a:pt x="18777" y="5879"/>
                </a:moveTo>
                <a:cubicBezTo>
                  <a:pt x="18737" y="5959"/>
                  <a:pt x="18721" y="5978"/>
                  <a:pt x="18653" y="6028"/>
                </a:cubicBezTo>
                <a:cubicBezTo>
                  <a:pt x="18598" y="6068"/>
                  <a:pt x="18548" y="6158"/>
                  <a:pt x="18479" y="6176"/>
                </a:cubicBezTo>
                <a:cubicBezTo>
                  <a:pt x="18435" y="6176"/>
                  <a:pt x="18421" y="6173"/>
                  <a:pt x="18405" y="6201"/>
                </a:cubicBezTo>
                <a:cubicBezTo>
                  <a:pt x="18447" y="6226"/>
                  <a:pt x="18527" y="6244"/>
                  <a:pt x="18579" y="6251"/>
                </a:cubicBezTo>
                <a:cubicBezTo>
                  <a:pt x="18609" y="6255"/>
                  <a:pt x="18840" y="6288"/>
                  <a:pt x="18852" y="6276"/>
                </a:cubicBezTo>
                <a:cubicBezTo>
                  <a:pt x="18852" y="6234"/>
                  <a:pt x="18852" y="6226"/>
                  <a:pt x="18852" y="6201"/>
                </a:cubicBezTo>
              </a:path>
              <a:path w="3176" h="845">
                <a:moveTo>
                  <a:pt x="18703" y="5804"/>
                </a:moveTo>
                <a:cubicBezTo>
                  <a:pt x="18725" y="5898"/>
                  <a:pt x="18728" y="5980"/>
                  <a:pt x="18728" y="6077"/>
                </a:cubicBezTo>
                <a:cubicBezTo>
                  <a:pt x="18728" y="6251"/>
                  <a:pt x="18728" y="6424"/>
                  <a:pt x="18728" y="6598"/>
                </a:cubicBezTo>
              </a:path>
              <a:path w="3176" h="845">
                <a:moveTo>
                  <a:pt x="19025" y="6028"/>
                </a:moveTo>
                <a:cubicBezTo>
                  <a:pt x="19076" y="6068"/>
                  <a:pt x="19134" y="6096"/>
                  <a:pt x="19174" y="6152"/>
                </a:cubicBezTo>
                <a:cubicBezTo>
                  <a:pt x="19226" y="6225"/>
                  <a:pt x="19296" y="6256"/>
                  <a:pt x="19348" y="6325"/>
                </a:cubicBezTo>
                <a:cubicBezTo>
                  <a:pt x="19385" y="6373"/>
                  <a:pt x="19396" y="6475"/>
                  <a:pt x="19447" y="6424"/>
                </a:cubicBezTo>
              </a:path>
              <a:path w="3176" h="845">
                <a:moveTo>
                  <a:pt x="19323" y="6077"/>
                </a:moveTo>
                <a:cubicBezTo>
                  <a:pt x="19258" y="6193"/>
                  <a:pt x="19224" y="6293"/>
                  <a:pt x="19174" y="6400"/>
                </a:cubicBezTo>
                <a:cubicBezTo>
                  <a:pt x="19156" y="6438"/>
                  <a:pt x="19124" y="6494"/>
                  <a:pt x="19100" y="6524"/>
                </a:cubicBezTo>
                <a:cubicBezTo>
                  <a:pt x="19092" y="6532"/>
                  <a:pt x="19083" y="6540"/>
                  <a:pt x="19075" y="6548"/>
                </a:cubicBezTo>
              </a:path>
              <a:path w="3176" h="845">
                <a:moveTo>
                  <a:pt x="19769" y="6003"/>
                </a:moveTo>
                <a:cubicBezTo>
                  <a:pt x="19778" y="6067"/>
                  <a:pt x="19794" y="6105"/>
                  <a:pt x="19794" y="6176"/>
                </a:cubicBezTo>
                <a:cubicBezTo>
                  <a:pt x="19794" y="6248"/>
                  <a:pt x="19773" y="6285"/>
                  <a:pt x="19769" y="6350"/>
                </a:cubicBezTo>
                <a:cubicBezTo>
                  <a:pt x="19769" y="6400"/>
                  <a:pt x="19769" y="6416"/>
                  <a:pt x="19769" y="6449"/>
                </a:cubicBezTo>
              </a:path>
              <a:path w="3176" h="845">
                <a:moveTo>
                  <a:pt x="19745" y="6152"/>
                </a:moveTo>
                <a:cubicBezTo>
                  <a:pt x="19870" y="6173"/>
                  <a:pt x="19924" y="6183"/>
                  <a:pt x="20042" y="6152"/>
                </a:cubicBezTo>
              </a:path>
              <a:path w="3176" h="845">
                <a:moveTo>
                  <a:pt x="20464" y="5854"/>
                </a:moveTo>
                <a:cubicBezTo>
                  <a:pt x="20436" y="5903"/>
                  <a:pt x="20381" y="5992"/>
                  <a:pt x="20340" y="6028"/>
                </a:cubicBezTo>
                <a:cubicBezTo>
                  <a:pt x="20284" y="6077"/>
                  <a:pt x="20239" y="6095"/>
                  <a:pt x="20191" y="6152"/>
                </a:cubicBezTo>
                <a:cubicBezTo>
                  <a:pt x="20168" y="6180"/>
                  <a:pt x="20089" y="6246"/>
                  <a:pt x="20166" y="6276"/>
                </a:cubicBezTo>
                <a:cubicBezTo>
                  <a:pt x="20236" y="6303"/>
                  <a:pt x="20315" y="6286"/>
                  <a:pt x="20389" y="6300"/>
                </a:cubicBezTo>
                <a:cubicBezTo>
                  <a:pt x="20473" y="6316"/>
                  <a:pt x="20514" y="6344"/>
                  <a:pt x="20588" y="6300"/>
                </a:cubicBezTo>
              </a:path>
              <a:path w="3176" h="845">
                <a:moveTo>
                  <a:pt x="20265" y="5779"/>
                </a:moveTo>
                <a:cubicBezTo>
                  <a:pt x="20284" y="5875"/>
                  <a:pt x="20290" y="5955"/>
                  <a:pt x="20290" y="6052"/>
                </a:cubicBezTo>
                <a:cubicBezTo>
                  <a:pt x="20290" y="6182"/>
                  <a:pt x="20303" y="6296"/>
                  <a:pt x="20315" y="6424"/>
                </a:cubicBezTo>
                <a:cubicBezTo>
                  <a:pt x="20322" y="6502"/>
                  <a:pt x="20302" y="6559"/>
                  <a:pt x="20340" y="6623"/>
                </a:cubicBezTo>
              </a:path>
              <a:path w="3176" h="845">
                <a:moveTo>
                  <a:pt x="21034" y="6028"/>
                </a:moveTo>
                <a:cubicBezTo>
                  <a:pt x="21001" y="6117"/>
                  <a:pt x="21020" y="6162"/>
                  <a:pt x="21034" y="6251"/>
                </a:cubicBezTo>
                <a:cubicBezTo>
                  <a:pt x="21042" y="6301"/>
                  <a:pt x="21034" y="6506"/>
                  <a:pt x="21034" y="6474"/>
                </a:cubicBezTo>
              </a:path>
              <a:path w="3176" h="845">
                <a:moveTo>
                  <a:pt x="20762" y="6226"/>
                </a:moveTo>
                <a:cubicBezTo>
                  <a:pt x="20849" y="6226"/>
                  <a:pt x="20983" y="6257"/>
                  <a:pt x="21059" y="6251"/>
                </a:cubicBezTo>
                <a:cubicBezTo>
                  <a:pt x="21141" y="6244"/>
                  <a:pt x="21173" y="6237"/>
                  <a:pt x="21258" y="6226"/>
                </a:cubicBezTo>
              </a:path>
              <a:path w="3176" h="845">
                <a:moveTo>
                  <a:pt x="21530" y="5829"/>
                </a:moveTo>
                <a:cubicBezTo>
                  <a:pt x="21547" y="5925"/>
                  <a:pt x="21535" y="6034"/>
                  <a:pt x="21555" y="6127"/>
                </a:cubicBezTo>
                <a:cubicBezTo>
                  <a:pt x="21577" y="6229"/>
                  <a:pt x="21560" y="6272"/>
                  <a:pt x="21555" y="6375"/>
                </a:cubicBezTo>
                <a:cubicBezTo>
                  <a:pt x="21552" y="6434"/>
                  <a:pt x="21530" y="6461"/>
                  <a:pt x="21530" y="65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5653080" y="2438280"/>
            <a:ext cx="1884240" cy="401760"/>
          </a:xfrm>
          <a:custGeom>
            <a:avLst/>
            <a:gdLst/>
            <a:ahLst/>
            <a:rect l="l" t="t" r="r" b="b"/>
            <a:pathLst>
              <a:path w="5235" h="1117">
                <a:moveTo>
                  <a:pt x="15974" y="6896"/>
                </a:moveTo>
                <a:cubicBezTo>
                  <a:pt x="15925" y="6958"/>
                  <a:pt x="15906" y="7021"/>
                  <a:pt x="15875" y="7094"/>
                </a:cubicBezTo>
                <a:cubicBezTo>
                  <a:pt x="15832" y="7194"/>
                  <a:pt x="15803" y="7261"/>
                  <a:pt x="15776" y="7367"/>
                </a:cubicBezTo>
                <a:cubicBezTo>
                  <a:pt x="15758" y="7437"/>
                  <a:pt x="15685" y="7601"/>
                  <a:pt x="15701" y="7665"/>
                </a:cubicBezTo>
                <a:cubicBezTo>
                  <a:pt x="15736" y="7811"/>
                  <a:pt x="15769" y="7922"/>
                  <a:pt x="15925" y="7888"/>
                </a:cubicBezTo>
                <a:cubicBezTo>
                  <a:pt x="16001" y="7871"/>
                  <a:pt x="16060" y="7828"/>
                  <a:pt x="16098" y="7764"/>
                </a:cubicBezTo>
                <a:cubicBezTo>
                  <a:pt x="16144" y="7686"/>
                  <a:pt x="16149" y="7650"/>
                  <a:pt x="16173" y="7565"/>
                </a:cubicBezTo>
                <a:cubicBezTo>
                  <a:pt x="16189" y="7506"/>
                  <a:pt x="16190" y="7450"/>
                  <a:pt x="16148" y="7392"/>
                </a:cubicBezTo>
                <a:cubicBezTo>
                  <a:pt x="16116" y="7349"/>
                  <a:pt x="16031" y="7353"/>
                  <a:pt x="15999" y="7392"/>
                </a:cubicBezTo>
                <a:cubicBezTo>
                  <a:pt x="15947" y="7454"/>
                  <a:pt x="15888" y="7493"/>
                  <a:pt x="15850" y="7565"/>
                </a:cubicBezTo>
                <a:cubicBezTo>
                  <a:pt x="15806" y="7648"/>
                  <a:pt x="15832" y="7689"/>
                  <a:pt x="15875" y="7764"/>
                </a:cubicBezTo>
                <a:cubicBezTo>
                  <a:pt x="15942" y="7881"/>
                  <a:pt x="16022" y="7832"/>
                  <a:pt x="16123" y="7789"/>
                </a:cubicBezTo>
              </a:path>
              <a:path w="5235" h="1117">
                <a:moveTo>
                  <a:pt x="16148" y="7342"/>
                </a:moveTo>
                <a:cubicBezTo>
                  <a:pt x="16214" y="7439"/>
                  <a:pt x="16273" y="7503"/>
                  <a:pt x="16346" y="7590"/>
                </a:cubicBezTo>
                <a:cubicBezTo>
                  <a:pt x="16380" y="7630"/>
                  <a:pt x="16481" y="7770"/>
                  <a:pt x="16520" y="7789"/>
                </a:cubicBezTo>
                <a:cubicBezTo>
                  <a:pt x="16520" y="7781"/>
                  <a:pt x="16520" y="7772"/>
                  <a:pt x="16520" y="7764"/>
                </a:cubicBezTo>
              </a:path>
              <a:path w="5235" h="1117">
                <a:moveTo>
                  <a:pt x="16396" y="7293"/>
                </a:moveTo>
                <a:cubicBezTo>
                  <a:pt x="16337" y="7376"/>
                  <a:pt x="16320" y="7464"/>
                  <a:pt x="16247" y="7541"/>
                </a:cubicBezTo>
                <a:cubicBezTo>
                  <a:pt x="16195" y="7595"/>
                  <a:pt x="16152" y="7668"/>
                  <a:pt x="16123" y="7739"/>
                </a:cubicBezTo>
                <a:cubicBezTo>
                  <a:pt x="16111" y="7767"/>
                  <a:pt x="16020" y="7893"/>
                  <a:pt x="16073" y="7838"/>
                </a:cubicBezTo>
              </a:path>
              <a:path w="5235" h="1117">
                <a:moveTo>
                  <a:pt x="16669" y="7243"/>
                </a:moveTo>
                <a:cubicBezTo>
                  <a:pt x="16692" y="7347"/>
                  <a:pt x="16718" y="7436"/>
                  <a:pt x="16718" y="7541"/>
                </a:cubicBezTo>
                <a:cubicBezTo>
                  <a:pt x="16718" y="7612"/>
                  <a:pt x="16744" y="7732"/>
                  <a:pt x="16694" y="7714"/>
                </a:cubicBezTo>
              </a:path>
              <a:path w="5235" h="1117">
                <a:moveTo>
                  <a:pt x="16495" y="7491"/>
                </a:moveTo>
                <a:cubicBezTo>
                  <a:pt x="16636" y="7491"/>
                  <a:pt x="16776" y="7491"/>
                  <a:pt x="16917" y="7491"/>
                </a:cubicBezTo>
              </a:path>
              <a:path w="5235" h="1117">
                <a:moveTo>
                  <a:pt x="17314" y="6871"/>
                </a:moveTo>
                <a:cubicBezTo>
                  <a:pt x="17249" y="6928"/>
                  <a:pt x="17149" y="6957"/>
                  <a:pt x="17090" y="7020"/>
                </a:cubicBezTo>
                <a:cubicBezTo>
                  <a:pt x="17049" y="7064"/>
                  <a:pt x="16995" y="7119"/>
                  <a:pt x="16966" y="7169"/>
                </a:cubicBezTo>
                <a:cubicBezTo>
                  <a:pt x="16933" y="7226"/>
                  <a:pt x="16925" y="7303"/>
                  <a:pt x="16917" y="7367"/>
                </a:cubicBezTo>
                <a:cubicBezTo>
                  <a:pt x="16863" y="7340"/>
                  <a:pt x="17005" y="7300"/>
                  <a:pt x="17041" y="7293"/>
                </a:cubicBezTo>
                <a:cubicBezTo>
                  <a:pt x="17112" y="7280"/>
                  <a:pt x="17203" y="7307"/>
                  <a:pt x="17264" y="7342"/>
                </a:cubicBezTo>
                <a:cubicBezTo>
                  <a:pt x="17316" y="7371"/>
                  <a:pt x="17338" y="7442"/>
                  <a:pt x="17363" y="7491"/>
                </a:cubicBezTo>
                <a:cubicBezTo>
                  <a:pt x="17397" y="7560"/>
                  <a:pt x="17396" y="7603"/>
                  <a:pt x="17363" y="7665"/>
                </a:cubicBezTo>
                <a:cubicBezTo>
                  <a:pt x="17325" y="7736"/>
                  <a:pt x="17272" y="7772"/>
                  <a:pt x="17190" y="7789"/>
                </a:cubicBezTo>
                <a:cubicBezTo>
                  <a:pt x="17106" y="7807"/>
                  <a:pt x="17045" y="7816"/>
                  <a:pt x="16966" y="7764"/>
                </a:cubicBezTo>
                <a:cubicBezTo>
                  <a:pt x="16958" y="7756"/>
                  <a:pt x="16950" y="7747"/>
                  <a:pt x="16942" y="7739"/>
                </a:cubicBezTo>
              </a:path>
              <a:path w="5235" h="1117">
                <a:moveTo>
                  <a:pt x="17735" y="7243"/>
                </a:moveTo>
                <a:cubicBezTo>
                  <a:pt x="17834" y="7225"/>
                  <a:pt x="17910" y="7218"/>
                  <a:pt x="18008" y="7218"/>
                </a:cubicBezTo>
                <a:cubicBezTo>
                  <a:pt x="18033" y="7218"/>
                  <a:pt x="18058" y="7218"/>
                  <a:pt x="18083" y="7218"/>
                </a:cubicBezTo>
              </a:path>
              <a:path w="5235" h="1117">
                <a:moveTo>
                  <a:pt x="17686" y="7491"/>
                </a:moveTo>
                <a:cubicBezTo>
                  <a:pt x="17753" y="7491"/>
                  <a:pt x="17823" y="7487"/>
                  <a:pt x="17884" y="7466"/>
                </a:cubicBezTo>
                <a:cubicBezTo>
                  <a:pt x="17940" y="7447"/>
                  <a:pt x="17972" y="7441"/>
                  <a:pt x="18033" y="7441"/>
                </a:cubicBezTo>
              </a:path>
              <a:path w="5235" h="1117">
                <a:moveTo>
                  <a:pt x="18876" y="6821"/>
                </a:moveTo>
                <a:cubicBezTo>
                  <a:pt x="18854" y="6878"/>
                  <a:pt x="18839" y="6953"/>
                  <a:pt x="18802" y="6995"/>
                </a:cubicBezTo>
                <a:cubicBezTo>
                  <a:pt x="18753" y="7052"/>
                  <a:pt x="18681" y="7127"/>
                  <a:pt x="18628" y="7169"/>
                </a:cubicBezTo>
                <a:cubicBezTo>
                  <a:pt x="18572" y="7213"/>
                  <a:pt x="18533" y="7263"/>
                  <a:pt x="18479" y="7317"/>
                </a:cubicBezTo>
                <a:cubicBezTo>
                  <a:pt x="18471" y="7325"/>
                  <a:pt x="18463" y="7334"/>
                  <a:pt x="18455" y="7342"/>
                </a:cubicBezTo>
                <a:cubicBezTo>
                  <a:pt x="18519" y="7375"/>
                  <a:pt x="18602" y="7385"/>
                  <a:pt x="18678" y="7417"/>
                </a:cubicBezTo>
                <a:cubicBezTo>
                  <a:pt x="18750" y="7448"/>
                  <a:pt x="18828" y="7487"/>
                  <a:pt x="18901" y="7491"/>
                </a:cubicBezTo>
                <a:cubicBezTo>
                  <a:pt x="18970" y="7495"/>
                  <a:pt x="18952" y="7516"/>
                  <a:pt x="19000" y="7491"/>
                </a:cubicBezTo>
              </a:path>
              <a:path w="5235" h="1117">
                <a:moveTo>
                  <a:pt x="18802" y="6821"/>
                </a:moveTo>
                <a:cubicBezTo>
                  <a:pt x="18821" y="6891"/>
                  <a:pt x="18843" y="6976"/>
                  <a:pt x="18852" y="7045"/>
                </a:cubicBezTo>
                <a:cubicBezTo>
                  <a:pt x="18865" y="7143"/>
                  <a:pt x="18861" y="7243"/>
                  <a:pt x="18876" y="7342"/>
                </a:cubicBezTo>
                <a:cubicBezTo>
                  <a:pt x="18890" y="7433"/>
                  <a:pt x="18880" y="7552"/>
                  <a:pt x="18901" y="7640"/>
                </a:cubicBezTo>
                <a:cubicBezTo>
                  <a:pt x="18917" y="7706"/>
                  <a:pt x="18940" y="7779"/>
                  <a:pt x="18926" y="7813"/>
                </a:cubicBezTo>
              </a:path>
              <a:path w="5235" h="1117">
                <a:moveTo>
                  <a:pt x="19174" y="7094"/>
                </a:moveTo>
                <a:cubicBezTo>
                  <a:pt x="19253" y="7165"/>
                  <a:pt x="19332" y="7239"/>
                  <a:pt x="19422" y="7293"/>
                </a:cubicBezTo>
                <a:cubicBezTo>
                  <a:pt x="19510" y="7346"/>
                  <a:pt x="19555" y="7375"/>
                  <a:pt x="19621" y="7441"/>
                </a:cubicBezTo>
                <a:cubicBezTo>
                  <a:pt x="19679" y="7500"/>
                  <a:pt x="19645" y="7494"/>
                  <a:pt x="19720" y="7441"/>
                </a:cubicBezTo>
              </a:path>
              <a:path w="5235" h="1117">
                <a:moveTo>
                  <a:pt x="19521" y="7045"/>
                </a:moveTo>
                <a:cubicBezTo>
                  <a:pt x="19477" y="7141"/>
                  <a:pt x="19391" y="7283"/>
                  <a:pt x="19372" y="7392"/>
                </a:cubicBezTo>
                <a:cubicBezTo>
                  <a:pt x="19358" y="7473"/>
                  <a:pt x="19353" y="7523"/>
                  <a:pt x="19298" y="7590"/>
                </a:cubicBezTo>
                <a:cubicBezTo>
                  <a:pt x="19256" y="7632"/>
                  <a:pt x="19248" y="7639"/>
                  <a:pt x="19224" y="7665"/>
                </a:cubicBezTo>
              </a:path>
              <a:path w="5235" h="1117">
                <a:moveTo>
                  <a:pt x="19943" y="7045"/>
                </a:moveTo>
                <a:cubicBezTo>
                  <a:pt x="19943" y="7235"/>
                  <a:pt x="19943" y="7425"/>
                  <a:pt x="19943" y="7615"/>
                </a:cubicBezTo>
              </a:path>
              <a:path w="5235" h="1117">
                <a:moveTo>
                  <a:pt x="19794" y="7342"/>
                </a:moveTo>
                <a:cubicBezTo>
                  <a:pt x="19910" y="7342"/>
                  <a:pt x="20095" y="7375"/>
                  <a:pt x="20191" y="7317"/>
                </a:cubicBezTo>
              </a:path>
              <a:path w="5235" h="1117">
                <a:moveTo>
                  <a:pt x="20687" y="6772"/>
                </a:moveTo>
                <a:cubicBezTo>
                  <a:pt x="20593" y="6772"/>
                  <a:pt x="20503" y="6762"/>
                  <a:pt x="20414" y="6796"/>
                </a:cubicBezTo>
                <a:cubicBezTo>
                  <a:pt x="20350" y="6820"/>
                  <a:pt x="20344" y="6908"/>
                  <a:pt x="20340" y="6970"/>
                </a:cubicBezTo>
                <a:cubicBezTo>
                  <a:pt x="20335" y="7052"/>
                  <a:pt x="20340" y="7136"/>
                  <a:pt x="20340" y="7218"/>
                </a:cubicBezTo>
                <a:cubicBezTo>
                  <a:pt x="20394" y="7144"/>
                  <a:pt x="20441" y="7124"/>
                  <a:pt x="20538" y="7119"/>
                </a:cubicBezTo>
                <a:cubicBezTo>
                  <a:pt x="20617" y="7115"/>
                  <a:pt x="20768" y="7152"/>
                  <a:pt x="20836" y="7193"/>
                </a:cubicBezTo>
                <a:cubicBezTo>
                  <a:pt x="20875" y="7217"/>
                  <a:pt x="20925" y="7323"/>
                  <a:pt x="20935" y="7367"/>
                </a:cubicBezTo>
                <a:cubicBezTo>
                  <a:pt x="20952" y="7442"/>
                  <a:pt x="20930" y="7506"/>
                  <a:pt x="20886" y="7565"/>
                </a:cubicBezTo>
                <a:cubicBezTo>
                  <a:pt x="20848" y="7615"/>
                  <a:pt x="20792" y="7638"/>
                  <a:pt x="20737" y="7665"/>
                </a:cubicBezTo>
                <a:cubicBezTo>
                  <a:pt x="20665" y="7700"/>
                  <a:pt x="20592" y="7689"/>
                  <a:pt x="20513" y="7689"/>
                </a:cubicBezTo>
                <a:cubicBezTo>
                  <a:pt x="20497" y="7689"/>
                  <a:pt x="20480" y="7689"/>
                  <a:pt x="20464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5688000" y="2847960"/>
            <a:ext cx="554040" cy="420840"/>
          </a:xfrm>
          <a:custGeom>
            <a:avLst/>
            <a:gdLst/>
            <a:ahLst/>
            <a:rect l="l" t="t" r="r" b="b"/>
            <a:pathLst>
              <a:path w="1538" h="1167">
                <a:moveTo>
                  <a:pt x="15801" y="8310"/>
                </a:moveTo>
                <a:cubicBezTo>
                  <a:pt x="15882" y="8310"/>
                  <a:pt x="15929" y="8301"/>
                  <a:pt x="15999" y="8285"/>
                </a:cubicBezTo>
                <a:cubicBezTo>
                  <a:pt x="16081" y="8264"/>
                  <a:pt x="16097" y="8256"/>
                  <a:pt x="16148" y="8260"/>
                </a:cubicBezTo>
              </a:path>
              <a:path w="1538" h="1167">
                <a:moveTo>
                  <a:pt x="16669" y="7913"/>
                </a:moveTo>
                <a:cubicBezTo>
                  <a:pt x="16631" y="7979"/>
                  <a:pt x="16589" y="7985"/>
                  <a:pt x="16545" y="8037"/>
                </a:cubicBezTo>
                <a:cubicBezTo>
                  <a:pt x="16486" y="8105"/>
                  <a:pt x="16402" y="8170"/>
                  <a:pt x="16346" y="8235"/>
                </a:cubicBezTo>
                <a:cubicBezTo>
                  <a:pt x="16306" y="8281"/>
                  <a:pt x="16293" y="8338"/>
                  <a:pt x="16247" y="8384"/>
                </a:cubicBezTo>
                <a:cubicBezTo>
                  <a:pt x="16316" y="8430"/>
                  <a:pt x="16364" y="8434"/>
                  <a:pt x="16446" y="8434"/>
                </a:cubicBezTo>
                <a:cubicBezTo>
                  <a:pt x="16523" y="8434"/>
                  <a:pt x="16589" y="8513"/>
                  <a:pt x="16669" y="8508"/>
                </a:cubicBezTo>
                <a:cubicBezTo>
                  <a:pt x="16677" y="8500"/>
                  <a:pt x="16686" y="8491"/>
                  <a:pt x="16694" y="8483"/>
                </a:cubicBezTo>
              </a:path>
              <a:path w="1538" h="1167">
                <a:moveTo>
                  <a:pt x="16619" y="8012"/>
                </a:moveTo>
                <a:cubicBezTo>
                  <a:pt x="16641" y="8141"/>
                  <a:pt x="16644" y="8253"/>
                  <a:pt x="16644" y="8384"/>
                </a:cubicBezTo>
                <a:cubicBezTo>
                  <a:pt x="16644" y="8494"/>
                  <a:pt x="16669" y="8595"/>
                  <a:pt x="16669" y="8706"/>
                </a:cubicBezTo>
                <a:cubicBezTo>
                  <a:pt x="16669" y="8819"/>
                  <a:pt x="16676" y="8923"/>
                  <a:pt x="16694" y="9029"/>
                </a:cubicBezTo>
                <a:cubicBezTo>
                  <a:pt x="16694" y="9046"/>
                  <a:pt x="16694" y="9062"/>
                  <a:pt x="16694" y="9079"/>
                </a:cubicBezTo>
              </a:path>
              <a:path w="1538" h="1167">
                <a:moveTo>
                  <a:pt x="16892" y="8334"/>
                </a:moveTo>
                <a:cubicBezTo>
                  <a:pt x="16991" y="8433"/>
                  <a:pt x="17090" y="8542"/>
                  <a:pt x="17190" y="8632"/>
                </a:cubicBezTo>
                <a:cubicBezTo>
                  <a:pt x="17231" y="8669"/>
                  <a:pt x="17270" y="8756"/>
                  <a:pt x="17314" y="8781"/>
                </a:cubicBezTo>
                <a:cubicBezTo>
                  <a:pt x="17322" y="8781"/>
                  <a:pt x="17330" y="8781"/>
                  <a:pt x="17338" y="8781"/>
                </a:cubicBezTo>
              </a:path>
              <a:path w="1538" h="1167">
                <a:moveTo>
                  <a:pt x="17140" y="8334"/>
                </a:moveTo>
                <a:cubicBezTo>
                  <a:pt x="17092" y="8437"/>
                  <a:pt x="17039" y="8537"/>
                  <a:pt x="16991" y="8632"/>
                </a:cubicBezTo>
                <a:cubicBezTo>
                  <a:pt x="16950" y="8713"/>
                  <a:pt x="16928" y="8775"/>
                  <a:pt x="16892" y="8855"/>
                </a:cubicBezTo>
                <a:cubicBezTo>
                  <a:pt x="16868" y="8903"/>
                  <a:pt x="16860" y="8917"/>
                  <a:pt x="16867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6715080" y="2776680"/>
            <a:ext cx="554040" cy="33948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18653" y="8235"/>
                </a:moveTo>
                <a:cubicBezTo>
                  <a:pt x="18746" y="8225"/>
                  <a:pt x="18829" y="8210"/>
                  <a:pt x="18926" y="8210"/>
                </a:cubicBezTo>
                <a:cubicBezTo>
                  <a:pt x="18981" y="8210"/>
                  <a:pt x="19021" y="8192"/>
                  <a:pt x="19075" y="8186"/>
                </a:cubicBezTo>
              </a:path>
              <a:path w="1539" h="944">
                <a:moveTo>
                  <a:pt x="19546" y="7714"/>
                </a:moveTo>
                <a:cubicBezTo>
                  <a:pt x="19514" y="7754"/>
                  <a:pt x="19492" y="7809"/>
                  <a:pt x="19447" y="7838"/>
                </a:cubicBezTo>
                <a:cubicBezTo>
                  <a:pt x="19384" y="7878"/>
                  <a:pt x="19373" y="7910"/>
                  <a:pt x="19323" y="7962"/>
                </a:cubicBezTo>
                <a:cubicBezTo>
                  <a:pt x="19269" y="8019"/>
                  <a:pt x="19175" y="8070"/>
                  <a:pt x="19199" y="8161"/>
                </a:cubicBezTo>
                <a:cubicBezTo>
                  <a:pt x="19216" y="8224"/>
                  <a:pt x="19278" y="8235"/>
                  <a:pt x="19323" y="8260"/>
                </a:cubicBezTo>
                <a:cubicBezTo>
                  <a:pt x="19397" y="8300"/>
                  <a:pt x="19420" y="8369"/>
                  <a:pt x="19496" y="8409"/>
                </a:cubicBezTo>
                <a:cubicBezTo>
                  <a:pt x="19537" y="8429"/>
                  <a:pt x="19553" y="8448"/>
                  <a:pt x="19546" y="8409"/>
                </a:cubicBezTo>
              </a:path>
              <a:path w="1539" h="944">
                <a:moveTo>
                  <a:pt x="19496" y="7962"/>
                </a:moveTo>
                <a:cubicBezTo>
                  <a:pt x="19496" y="8163"/>
                  <a:pt x="19497" y="8364"/>
                  <a:pt x="19472" y="8558"/>
                </a:cubicBezTo>
                <a:cubicBezTo>
                  <a:pt x="19472" y="8607"/>
                  <a:pt x="19472" y="8624"/>
                  <a:pt x="19472" y="8657"/>
                </a:cubicBezTo>
              </a:path>
              <a:path w="1539" h="944">
                <a:moveTo>
                  <a:pt x="19720" y="8012"/>
                </a:moveTo>
                <a:cubicBezTo>
                  <a:pt x="19791" y="8102"/>
                  <a:pt x="19862" y="8179"/>
                  <a:pt x="19943" y="8260"/>
                </a:cubicBezTo>
                <a:cubicBezTo>
                  <a:pt x="20007" y="8324"/>
                  <a:pt x="20103" y="8461"/>
                  <a:pt x="20191" y="8483"/>
                </a:cubicBezTo>
              </a:path>
              <a:path w="1539" h="944">
                <a:moveTo>
                  <a:pt x="20191" y="7987"/>
                </a:moveTo>
                <a:cubicBezTo>
                  <a:pt x="20125" y="8063"/>
                  <a:pt x="20064" y="8139"/>
                  <a:pt x="19993" y="8210"/>
                </a:cubicBezTo>
                <a:cubicBezTo>
                  <a:pt x="19955" y="8248"/>
                  <a:pt x="19919" y="8289"/>
                  <a:pt x="19893" y="8334"/>
                </a:cubicBezTo>
                <a:cubicBezTo>
                  <a:pt x="19873" y="8375"/>
                  <a:pt x="19876" y="8392"/>
                  <a:pt x="19844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5813280" y="3224160"/>
            <a:ext cx="1616400" cy="785880"/>
          </a:xfrm>
          <a:custGeom>
            <a:avLst/>
            <a:gdLst/>
            <a:ahLst/>
            <a:rect l="l" t="t" r="r" b="b"/>
            <a:pathLst>
              <a:path w="4491" h="2184">
                <a:moveTo>
                  <a:pt x="16148" y="9302"/>
                </a:moveTo>
                <a:cubicBezTo>
                  <a:pt x="16321" y="9274"/>
                  <a:pt x="16496" y="9241"/>
                  <a:pt x="16669" y="9203"/>
                </a:cubicBezTo>
                <a:cubicBezTo>
                  <a:pt x="16853" y="9162"/>
                  <a:pt x="17029" y="9149"/>
                  <a:pt x="17214" y="9128"/>
                </a:cubicBezTo>
                <a:cubicBezTo>
                  <a:pt x="17430" y="9104"/>
                  <a:pt x="17644" y="9082"/>
                  <a:pt x="17859" y="9054"/>
                </a:cubicBezTo>
                <a:cubicBezTo>
                  <a:pt x="18107" y="9022"/>
                  <a:pt x="18355" y="8990"/>
                  <a:pt x="18604" y="8979"/>
                </a:cubicBezTo>
                <a:cubicBezTo>
                  <a:pt x="18927" y="8965"/>
                  <a:pt x="19247" y="8954"/>
                  <a:pt x="19571" y="8954"/>
                </a:cubicBezTo>
                <a:cubicBezTo>
                  <a:pt x="19900" y="8954"/>
                  <a:pt x="20268" y="8910"/>
                  <a:pt x="20588" y="8979"/>
                </a:cubicBezTo>
              </a:path>
              <a:path w="4491" h="2184">
                <a:moveTo>
                  <a:pt x="16197" y="11137"/>
                </a:moveTo>
                <a:cubicBezTo>
                  <a:pt x="16248" y="11108"/>
                  <a:pt x="16296" y="11082"/>
                  <a:pt x="16346" y="11063"/>
                </a:cubicBezTo>
                <a:cubicBezTo>
                  <a:pt x="16469" y="11015"/>
                  <a:pt x="16586" y="10977"/>
                  <a:pt x="16718" y="10964"/>
                </a:cubicBezTo>
                <a:cubicBezTo>
                  <a:pt x="16860" y="10950"/>
                  <a:pt x="17000" y="10938"/>
                  <a:pt x="17140" y="10914"/>
                </a:cubicBezTo>
                <a:cubicBezTo>
                  <a:pt x="17330" y="10881"/>
                  <a:pt x="17520" y="10872"/>
                  <a:pt x="17711" y="10840"/>
                </a:cubicBezTo>
                <a:cubicBezTo>
                  <a:pt x="17985" y="10794"/>
                  <a:pt x="18277" y="10781"/>
                  <a:pt x="18554" y="10765"/>
                </a:cubicBezTo>
                <a:cubicBezTo>
                  <a:pt x="18958" y="10742"/>
                  <a:pt x="19368" y="10769"/>
                  <a:pt x="19769" y="10790"/>
                </a:cubicBezTo>
                <a:cubicBezTo>
                  <a:pt x="19951" y="10799"/>
                  <a:pt x="20135" y="10790"/>
                  <a:pt x="20315" y="10815"/>
                </a:cubicBezTo>
                <a:cubicBezTo>
                  <a:pt x="20423" y="10830"/>
                  <a:pt x="20530" y="10848"/>
                  <a:pt x="20638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5732640" y="3268800"/>
            <a:ext cx="1519200" cy="615960"/>
          </a:xfrm>
          <a:custGeom>
            <a:avLst/>
            <a:gdLst/>
            <a:ahLst/>
            <a:rect l="l" t="t" r="r" b="b"/>
            <a:pathLst>
              <a:path w="4217" h="1712">
                <a:moveTo>
                  <a:pt x="15974" y="9525"/>
                </a:moveTo>
                <a:cubicBezTo>
                  <a:pt x="15983" y="9411"/>
                  <a:pt x="15977" y="9423"/>
                  <a:pt x="16049" y="9351"/>
                </a:cubicBezTo>
                <a:cubicBezTo>
                  <a:pt x="16090" y="9310"/>
                  <a:pt x="16168" y="9320"/>
                  <a:pt x="16197" y="9376"/>
                </a:cubicBezTo>
                <a:cubicBezTo>
                  <a:pt x="16241" y="9461"/>
                  <a:pt x="16228" y="9563"/>
                  <a:pt x="16197" y="9649"/>
                </a:cubicBezTo>
                <a:cubicBezTo>
                  <a:pt x="16165" y="9738"/>
                  <a:pt x="16113" y="9829"/>
                  <a:pt x="16049" y="9897"/>
                </a:cubicBezTo>
                <a:cubicBezTo>
                  <a:pt x="16021" y="9927"/>
                  <a:pt x="15879" y="10062"/>
                  <a:pt x="15949" y="10021"/>
                </a:cubicBezTo>
                <a:cubicBezTo>
                  <a:pt x="16020" y="9979"/>
                  <a:pt x="16067" y="9971"/>
                  <a:pt x="16148" y="9971"/>
                </a:cubicBezTo>
                <a:cubicBezTo>
                  <a:pt x="16231" y="9971"/>
                  <a:pt x="16271" y="9983"/>
                  <a:pt x="16346" y="10021"/>
                </a:cubicBezTo>
                <a:cubicBezTo>
                  <a:pt x="16404" y="10050"/>
                  <a:pt x="16470" y="10066"/>
                  <a:pt x="16520" y="10021"/>
                </a:cubicBezTo>
                <a:cubicBezTo>
                  <a:pt x="16545" y="9996"/>
                  <a:pt x="16569" y="9972"/>
                  <a:pt x="16594" y="9947"/>
                </a:cubicBezTo>
              </a:path>
              <a:path w="4217" h="1712">
                <a:moveTo>
                  <a:pt x="16570" y="9525"/>
                </a:moveTo>
                <a:cubicBezTo>
                  <a:pt x="16623" y="9595"/>
                  <a:pt x="16695" y="9673"/>
                  <a:pt x="16743" y="9748"/>
                </a:cubicBezTo>
                <a:cubicBezTo>
                  <a:pt x="16780" y="9806"/>
                  <a:pt x="16852" y="9867"/>
                  <a:pt x="16917" y="9897"/>
                </a:cubicBezTo>
                <a:cubicBezTo>
                  <a:pt x="16925" y="9897"/>
                  <a:pt x="16934" y="9897"/>
                  <a:pt x="16942" y="9897"/>
                </a:cubicBezTo>
              </a:path>
              <a:path w="4217" h="1712">
                <a:moveTo>
                  <a:pt x="16892" y="9426"/>
                </a:moveTo>
                <a:cubicBezTo>
                  <a:pt x="16860" y="9511"/>
                  <a:pt x="16842" y="9542"/>
                  <a:pt x="16793" y="9624"/>
                </a:cubicBezTo>
                <a:cubicBezTo>
                  <a:pt x="16750" y="9696"/>
                  <a:pt x="16721" y="9782"/>
                  <a:pt x="16669" y="9847"/>
                </a:cubicBezTo>
                <a:cubicBezTo>
                  <a:pt x="16618" y="9911"/>
                  <a:pt x="16539" y="9969"/>
                  <a:pt x="16520" y="10046"/>
                </a:cubicBezTo>
              </a:path>
              <a:path w="4217" h="1712">
                <a:moveTo>
                  <a:pt x="17289" y="9401"/>
                </a:moveTo>
                <a:cubicBezTo>
                  <a:pt x="17289" y="9553"/>
                  <a:pt x="17291" y="9712"/>
                  <a:pt x="17264" y="9847"/>
                </a:cubicBezTo>
                <a:cubicBezTo>
                  <a:pt x="17264" y="9889"/>
                  <a:pt x="17272" y="9905"/>
                  <a:pt x="17239" y="9897"/>
                </a:cubicBezTo>
              </a:path>
              <a:path w="4217" h="1712">
                <a:moveTo>
                  <a:pt x="17041" y="9575"/>
                </a:moveTo>
                <a:cubicBezTo>
                  <a:pt x="17179" y="9575"/>
                  <a:pt x="17307" y="9571"/>
                  <a:pt x="17438" y="9550"/>
                </a:cubicBezTo>
                <a:cubicBezTo>
                  <a:pt x="17489" y="9550"/>
                  <a:pt x="17508" y="9549"/>
                  <a:pt x="17537" y="9525"/>
                </a:cubicBezTo>
              </a:path>
              <a:path w="4217" h="1712">
                <a:moveTo>
                  <a:pt x="18033" y="9079"/>
                </a:moveTo>
                <a:cubicBezTo>
                  <a:pt x="17938" y="9113"/>
                  <a:pt x="17820" y="9149"/>
                  <a:pt x="17735" y="9203"/>
                </a:cubicBezTo>
                <a:cubicBezTo>
                  <a:pt x="17696" y="9228"/>
                  <a:pt x="17668" y="9317"/>
                  <a:pt x="17661" y="9351"/>
                </a:cubicBezTo>
                <a:cubicBezTo>
                  <a:pt x="17661" y="9401"/>
                  <a:pt x="17661" y="9418"/>
                  <a:pt x="17661" y="9451"/>
                </a:cubicBezTo>
                <a:cubicBezTo>
                  <a:pt x="17710" y="9402"/>
                  <a:pt x="17738" y="9378"/>
                  <a:pt x="17810" y="9376"/>
                </a:cubicBezTo>
                <a:cubicBezTo>
                  <a:pt x="17887" y="9374"/>
                  <a:pt x="18020" y="9358"/>
                  <a:pt x="18083" y="9426"/>
                </a:cubicBezTo>
                <a:cubicBezTo>
                  <a:pt x="18127" y="9473"/>
                  <a:pt x="18212" y="9530"/>
                  <a:pt x="18231" y="9599"/>
                </a:cubicBezTo>
                <a:cubicBezTo>
                  <a:pt x="18251" y="9671"/>
                  <a:pt x="18231" y="9746"/>
                  <a:pt x="18182" y="9798"/>
                </a:cubicBezTo>
                <a:cubicBezTo>
                  <a:pt x="18126" y="9857"/>
                  <a:pt x="18080" y="9886"/>
                  <a:pt x="18008" y="9922"/>
                </a:cubicBezTo>
                <a:cubicBezTo>
                  <a:pt x="17963" y="9945"/>
                  <a:pt x="17859" y="9982"/>
                  <a:pt x="17810" y="9971"/>
                </a:cubicBezTo>
                <a:cubicBezTo>
                  <a:pt x="17756" y="9945"/>
                  <a:pt x="17736" y="9933"/>
                  <a:pt x="17711" y="9897"/>
                </a:cubicBezTo>
              </a:path>
              <a:path w="4217" h="1712">
                <a:moveTo>
                  <a:pt x="18331" y="9327"/>
                </a:moveTo>
                <a:cubicBezTo>
                  <a:pt x="18407" y="9318"/>
                  <a:pt x="18506" y="9321"/>
                  <a:pt x="18579" y="9302"/>
                </a:cubicBezTo>
                <a:cubicBezTo>
                  <a:pt x="18638" y="9286"/>
                  <a:pt x="18691" y="9269"/>
                  <a:pt x="18752" y="9252"/>
                </a:cubicBezTo>
              </a:path>
              <a:path w="4217" h="1712">
                <a:moveTo>
                  <a:pt x="18380" y="9550"/>
                </a:moveTo>
                <a:cubicBezTo>
                  <a:pt x="18508" y="9550"/>
                  <a:pt x="18608" y="9539"/>
                  <a:pt x="18728" y="9525"/>
                </a:cubicBezTo>
                <a:cubicBezTo>
                  <a:pt x="18820" y="9514"/>
                  <a:pt x="18885" y="9525"/>
                  <a:pt x="18976" y="9500"/>
                </a:cubicBezTo>
              </a:path>
              <a:path w="4217" h="1712">
                <a:moveTo>
                  <a:pt x="19596" y="9178"/>
                </a:moveTo>
                <a:cubicBezTo>
                  <a:pt x="19555" y="9137"/>
                  <a:pt x="19506" y="9092"/>
                  <a:pt x="19447" y="9079"/>
                </a:cubicBezTo>
                <a:cubicBezTo>
                  <a:pt x="19430" y="9079"/>
                  <a:pt x="19414" y="9079"/>
                  <a:pt x="19397" y="9079"/>
                </a:cubicBezTo>
                <a:cubicBezTo>
                  <a:pt x="19357" y="9144"/>
                  <a:pt x="19372" y="9221"/>
                  <a:pt x="19372" y="9302"/>
                </a:cubicBezTo>
                <a:cubicBezTo>
                  <a:pt x="19372" y="9368"/>
                  <a:pt x="19358" y="9422"/>
                  <a:pt x="19348" y="9475"/>
                </a:cubicBezTo>
                <a:cubicBezTo>
                  <a:pt x="19348" y="9492"/>
                  <a:pt x="19348" y="9508"/>
                  <a:pt x="19348" y="9525"/>
                </a:cubicBezTo>
                <a:cubicBezTo>
                  <a:pt x="19259" y="9570"/>
                  <a:pt x="19402" y="9455"/>
                  <a:pt x="19422" y="9451"/>
                </a:cubicBezTo>
                <a:cubicBezTo>
                  <a:pt x="19500" y="9436"/>
                  <a:pt x="19564" y="9429"/>
                  <a:pt x="19645" y="9451"/>
                </a:cubicBezTo>
                <a:cubicBezTo>
                  <a:pt x="19726" y="9474"/>
                  <a:pt x="19770" y="9520"/>
                  <a:pt x="19819" y="9575"/>
                </a:cubicBezTo>
                <a:cubicBezTo>
                  <a:pt x="19878" y="9641"/>
                  <a:pt x="19925" y="9679"/>
                  <a:pt x="19943" y="9773"/>
                </a:cubicBezTo>
                <a:cubicBezTo>
                  <a:pt x="19961" y="9865"/>
                  <a:pt x="19886" y="9894"/>
                  <a:pt x="19844" y="9947"/>
                </a:cubicBezTo>
                <a:cubicBezTo>
                  <a:pt x="19785" y="10020"/>
                  <a:pt x="19758" y="10023"/>
                  <a:pt x="19670" y="10046"/>
                </a:cubicBezTo>
                <a:cubicBezTo>
                  <a:pt x="19571" y="10072"/>
                  <a:pt x="19503" y="10071"/>
                  <a:pt x="19397" y="10071"/>
                </a:cubicBezTo>
              </a:path>
              <a:path w="4217" h="1712">
                <a:moveTo>
                  <a:pt x="17066" y="10368"/>
                </a:moveTo>
                <a:cubicBezTo>
                  <a:pt x="17238" y="10368"/>
                  <a:pt x="17535" y="10417"/>
                  <a:pt x="17686" y="10344"/>
                </a:cubicBezTo>
              </a:path>
              <a:path w="4217" h="1712">
                <a:moveTo>
                  <a:pt x="18058" y="10046"/>
                </a:moveTo>
                <a:cubicBezTo>
                  <a:pt x="18020" y="10027"/>
                  <a:pt x="17979" y="10035"/>
                  <a:pt x="17934" y="10071"/>
                </a:cubicBezTo>
                <a:cubicBezTo>
                  <a:pt x="17876" y="10118"/>
                  <a:pt x="17855" y="10210"/>
                  <a:pt x="17810" y="10269"/>
                </a:cubicBezTo>
                <a:cubicBezTo>
                  <a:pt x="17785" y="10294"/>
                  <a:pt x="17777" y="10302"/>
                  <a:pt x="17760" y="10319"/>
                </a:cubicBezTo>
                <a:cubicBezTo>
                  <a:pt x="17837" y="10309"/>
                  <a:pt x="17901" y="10294"/>
                  <a:pt x="17983" y="10294"/>
                </a:cubicBezTo>
                <a:cubicBezTo>
                  <a:pt x="18082" y="10294"/>
                  <a:pt x="18162" y="10354"/>
                  <a:pt x="18231" y="10418"/>
                </a:cubicBezTo>
                <a:cubicBezTo>
                  <a:pt x="18282" y="10465"/>
                  <a:pt x="18302" y="10497"/>
                  <a:pt x="18306" y="10567"/>
                </a:cubicBezTo>
                <a:cubicBezTo>
                  <a:pt x="18308" y="10608"/>
                  <a:pt x="18244" y="10723"/>
                  <a:pt x="18207" y="10740"/>
                </a:cubicBezTo>
                <a:cubicBezTo>
                  <a:pt x="18187" y="10749"/>
                  <a:pt x="18007" y="10793"/>
                  <a:pt x="17983" y="10790"/>
                </a:cubicBezTo>
                <a:cubicBezTo>
                  <a:pt x="17934" y="10765"/>
                  <a:pt x="17917" y="10756"/>
                  <a:pt x="17884" y="10740"/>
                </a:cubicBezTo>
              </a:path>
              <a:path w="4217" h="1712">
                <a:moveTo>
                  <a:pt x="19000" y="10244"/>
                </a:moveTo>
                <a:cubicBezTo>
                  <a:pt x="19123" y="10244"/>
                  <a:pt x="19233" y="10239"/>
                  <a:pt x="19348" y="10220"/>
                </a:cubicBezTo>
                <a:cubicBezTo>
                  <a:pt x="19364" y="10220"/>
                  <a:pt x="19381" y="10220"/>
                  <a:pt x="19397" y="10220"/>
                </a:cubicBezTo>
              </a:path>
              <a:path w="4217" h="1712">
                <a:moveTo>
                  <a:pt x="19968" y="9971"/>
                </a:moveTo>
                <a:cubicBezTo>
                  <a:pt x="19915" y="9954"/>
                  <a:pt x="19829" y="9959"/>
                  <a:pt x="19769" y="9996"/>
                </a:cubicBezTo>
                <a:cubicBezTo>
                  <a:pt x="19728" y="10022"/>
                  <a:pt x="19681" y="10064"/>
                  <a:pt x="19645" y="10096"/>
                </a:cubicBezTo>
                <a:cubicBezTo>
                  <a:pt x="19637" y="10104"/>
                  <a:pt x="19629" y="10112"/>
                  <a:pt x="19621" y="10120"/>
                </a:cubicBezTo>
                <a:cubicBezTo>
                  <a:pt x="19683" y="10184"/>
                  <a:pt x="19711" y="10197"/>
                  <a:pt x="19794" y="10220"/>
                </a:cubicBezTo>
                <a:cubicBezTo>
                  <a:pt x="19881" y="10244"/>
                  <a:pt x="19948" y="10236"/>
                  <a:pt x="20017" y="10294"/>
                </a:cubicBezTo>
                <a:cubicBezTo>
                  <a:pt x="20043" y="10316"/>
                  <a:pt x="20131" y="10407"/>
                  <a:pt x="20141" y="10443"/>
                </a:cubicBezTo>
                <a:cubicBezTo>
                  <a:pt x="20169" y="10541"/>
                  <a:pt x="20090" y="10621"/>
                  <a:pt x="20017" y="10666"/>
                </a:cubicBezTo>
                <a:cubicBezTo>
                  <a:pt x="19928" y="10720"/>
                  <a:pt x="19845" y="10716"/>
                  <a:pt x="19745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6161040" y="3938760"/>
            <a:ext cx="1359000" cy="1098360"/>
          </a:xfrm>
          <a:custGeom>
            <a:avLst/>
            <a:gdLst/>
            <a:ahLst/>
            <a:rect l="l" t="t" r="r" b="b"/>
            <a:pathLst>
              <a:path w="3772" h="3052">
                <a:moveTo>
                  <a:pt x="17239" y="11187"/>
                </a:moveTo>
                <a:cubicBezTo>
                  <a:pt x="17214" y="11187"/>
                  <a:pt x="17190" y="11187"/>
                  <a:pt x="17165" y="11187"/>
                </a:cubicBezTo>
                <a:cubicBezTo>
                  <a:pt x="17174" y="11114"/>
                  <a:pt x="17207" y="11059"/>
                  <a:pt x="17264" y="11013"/>
                </a:cubicBezTo>
                <a:cubicBezTo>
                  <a:pt x="17317" y="10970"/>
                  <a:pt x="17402" y="10984"/>
                  <a:pt x="17462" y="10964"/>
                </a:cubicBezTo>
                <a:cubicBezTo>
                  <a:pt x="17546" y="10936"/>
                  <a:pt x="17590" y="10925"/>
                  <a:pt x="17661" y="10988"/>
                </a:cubicBezTo>
                <a:cubicBezTo>
                  <a:pt x="17714" y="11035"/>
                  <a:pt x="17683" y="11130"/>
                  <a:pt x="17661" y="11187"/>
                </a:cubicBezTo>
                <a:cubicBezTo>
                  <a:pt x="17628" y="11274"/>
                  <a:pt x="17569" y="11315"/>
                  <a:pt x="17512" y="11385"/>
                </a:cubicBezTo>
                <a:cubicBezTo>
                  <a:pt x="17440" y="11473"/>
                  <a:pt x="17349" y="11562"/>
                  <a:pt x="17264" y="11633"/>
                </a:cubicBezTo>
                <a:cubicBezTo>
                  <a:pt x="17216" y="11673"/>
                  <a:pt x="17161" y="11687"/>
                  <a:pt x="17115" y="11733"/>
                </a:cubicBezTo>
                <a:cubicBezTo>
                  <a:pt x="17208" y="11721"/>
                  <a:pt x="17271" y="11722"/>
                  <a:pt x="17363" y="11733"/>
                </a:cubicBezTo>
                <a:cubicBezTo>
                  <a:pt x="17458" y="11744"/>
                  <a:pt x="17481" y="11764"/>
                  <a:pt x="17562" y="11807"/>
                </a:cubicBezTo>
                <a:cubicBezTo>
                  <a:pt x="17622" y="11839"/>
                  <a:pt x="17693" y="11895"/>
                  <a:pt x="17760" y="11906"/>
                </a:cubicBezTo>
                <a:cubicBezTo>
                  <a:pt x="17869" y="11923"/>
                  <a:pt x="17869" y="11887"/>
                  <a:pt x="17909" y="11807"/>
                </a:cubicBezTo>
              </a:path>
              <a:path w="3772" h="3052">
                <a:moveTo>
                  <a:pt x="18033" y="11212"/>
                </a:moveTo>
                <a:cubicBezTo>
                  <a:pt x="18057" y="11337"/>
                  <a:pt x="18077" y="11423"/>
                  <a:pt x="18132" y="11534"/>
                </a:cubicBezTo>
                <a:cubicBezTo>
                  <a:pt x="18167" y="11604"/>
                  <a:pt x="18190" y="11683"/>
                  <a:pt x="18207" y="11757"/>
                </a:cubicBezTo>
                <a:cubicBezTo>
                  <a:pt x="18207" y="11765"/>
                  <a:pt x="18207" y="11774"/>
                  <a:pt x="18207" y="11782"/>
                </a:cubicBezTo>
              </a:path>
              <a:path w="3772" h="3052">
                <a:moveTo>
                  <a:pt x="18256" y="11212"/>
                </a:moveTo>
                <a:cubicBezTo>
                  <a:pt x="18197" y="11294"/>
                  <a:pt x="18146" y="11379"/>
                  <a:pt x="18083" y="11460"/>
                </a:cubicBezTo>
                <a:cubicBezTo>
                  <a:pt x="18015" y="11547"/>
                  <a:pt x="17918" y="11685"/>
                  <a:pt x="17835" y="11757"/>
                </a:cubicBezTo>
                <a:cubicBezTo>
                  <a:pt x="17795" y="11792"/>
                  <a:pt x="17750" y="11817"/>
                  <a:pt x="17711" y="11857"/>
                </a:cubicBezTo>
              </a:path>
              <a:path w="3772" h="3052">
                <a:moveTo>
                  <a:pt x="18529" y="11385"/>
                </a:moveTo>
                <a:cubicBezTo>
                  <a:pt x="18629" y="11378"/>
                  <a:pt x="18705" y="11347"/>
                  <a:pt x="18802" y="11336"/>
                </a:cubicBezTo>
                <a:cubicBezTo>
                  <a:pt x="18827" y="11336"/>
                  <a:pt x="18851" y="11336"/>
                  <a:pt x="18876" y="11336"/>
                </a:cubicBezTo>
              </a:path>
              <a:path w="3772" h="3052">
                <a:moveTo>
                  <a:pt x="18678" y="11485"/>
                </a:moveTo>
                <a:cubicBezTo>
                  <a:pt x="18733" y="11517"/>
                  <a:pt x="18785" y="11509"/>
                  <a:pt x="18852" y="11509"/>
                </a:cubicBezTo>
                <a:cubicBezTo>
                  <a:pt x="18885" y="11509"/>
                  <a:pt x="18918" y="11509"/>
                  <a:pt x="18951" y="11509"/>
                </a:cubicBezTo>
              </a:path>
              <a:path w="3772" h="3052">
                <a:moveTo>
                  <a:pt x="20191" y="11088"/>
                </a:moveTo>
                <a:cubicBezTo>
                  <a:pt x="20191" y="11038"/>
                  <a:pt x="20191" y="11021"/>
                  <a:pt x="20191" y="10988"/>
                </a:cubicBezTo>
                <a:cubicBezTo>
                  <a:pt x="20119" y="10988"/>
                  <a:pt x="20029" y="10968"/>
                  <a:pt x="19968" y="11013"/>
                </a:cubicBezTo>
                <a:cubicBezTo>
                  <a:pt x="19898" y="11064"/>
                  <a:pt x="19807" y="11160"/>
                  <a:pt x="19769" y="11237"/>
                </a:cubicBezTo>
                <a:cubicBezTo>
                  <a:pt x="19725" y="11325"/>
                  <a:pt x="19664" y="11407"/>
                  <a:pt x="19645" y="11509"/>
                </a:cubicBezTo>
                <a:cubicBezTo>
                  <a:pt x="19633" y="11576"/>
                  <a:pt x="19679" y="11680"/>
                  <a:pt x="19720" y="11733"/>
                </a:cubicBezTo>
                <a:cubicBezTo>
                  <a:pt x="19791" y="11825"/>
                  <a:pt x="19887" y="11865"/>
                  <a:pt x="19993" y="11881"/>
                </a:cubicBezTo>
                <a:cubicBezTo>
                  <a:pt x="20061" y="11891"/>
                  <a:pt x="20136" y="11875"/>
                  <a:pt x="20191" y="11832"/>
                </a:cubicBezTo>
                <a:cubicBezTo>
                  <a:pt x="20248" y="11788"/>
                  <a:pt x="20326" y="11737"/>
                  <a:pt x="20340" y="11658"/>
                </a:cubicBezTo>
                <a:cubicBezTo>
                  <a:pt x="20357" y="11560"/>
                  <a:pt x="20366" y="11508"/>
                  <a:pt x="20340" y="11410"/>
                </a:cubicBezTo>
                <a:cubicBezTo>
                  <a:pt x="20307" y="11282"/>
                  <a:pt x="20283" y="11229"/>
                  <a:pt x="20191" y="11137"/>
                </a:cubicBezTo>
              </a:path>
              <a:path w="3772" h="3052">
                <a:moveTo>
                  <a:pt x="17438" y="12055"/>
                </a:moveTo>
                <a:cubicBezTo>
                  <a:pt x="17860" y="12055"/>
                  <a:pt x="18281" y="12055"/>
                  <a:pt x="18703" y="12055"/>
                </a:cubicBezTo>
              </a:path>
              <a:path w="3772" h="3052">
                <a:moveTo>
                  <a:pt x="17686" y="12254"/>
                </a:moveTo>
                <a:cubicBezTo>
                  <a:pt x="17734" y="12187"/>
                  <a:pt x="17782" y="12167"/>
                  <a:pt x="17859" y="12129"/>
                </a:cubicBezTo>
                <a:cubicBezTo>
                  <a:pt x="17930" y="12094"/>
                  <a:pt x="18007" y="12065"/>
                  <a:pt x="18083" y="12055"/>
                </a:cubicBezTo>
                <a:cubicBezTo>
                  <a:pt x="18159" y="12045"/>
                  <a:pt x="18238" y="12050"/>
                  <a:pt x="18306" y="12080"/>
                </a:cubicBezTo>
                <a:cubicBezTo>
                  <a:pt x="18368" y="12108"/>
                  <a:pt x="18409" y="12154"/>
                  <a:pt x="18380" y="12229"/>
                </a:cubicBezTo>
                <a:cubicBezTo>
                  <a:pt x="18365" y="12269"/>
                  <a:pt x="18286" y="12363"/>
                  <a:pt x="18256" y="12402"/>
                </a:cubicBezTo>
                <a:cubicBezTo>
                  <a:pt x="18204" y="12469"/>
                  <a:pt x="18051" y="12572"/>
                  <a:pt x="17983" y="12626"/>
                </a:cubicBezTo>
                <a:cubicBezTo>
                  <a:pt x="17927" y="12671"/>
                  <a:pt x="17858" y="12697"/>
                  <a:pt x="17810" y="12725"/>
                </a:cubicBezTo>
                <a:cubicBezTo>
                  <a:pt x="17802" y="12733"/>
                  <a:pt x="17793" y="12742"/>
                  <a:pt x="17785" y="12750"/>
                </a:cubicBezTo>
                <a:cubicBezTo>
                  <a:pt x="17861" y="12740"/>
                  <a:pt x="17931" y="12709"/>
                  <a:pt x="18008" y="12700"/>
                </a:cubicBezTo>
                <a:cubicBezTo>
                  <a:pt x="18126" y="12686"/>
                  <a:pt x="18231" y="12675"/>
                  <a:pt x="18355" y="12675"/>
                </a:cubicBezTo>
                <a:cubicBezTo>
                  <a:pt x="18439" y="12675"/>
                  <a:pt x="18520" y="12713"/>
                  <a:pt x="18604" y="12725"/>
                </a:cubicBezTo>
                <a:cubicBezTo>
                  <a:pt x="18675" y="12735"/>
                  <a:pt x="18755" y="12725"/>
                  <a:pt x="18827" y="12725"/>
                </a:cubicBezTo>
              </a:path>
              <a:path w="3772" h="3052">
                <a:moveTo>
                  <a:pt x="19769" y="11906"/>
                </a:moveTo>
                <a:cubicBezTo>
                  <a:pt x="19979" y="11906"/>
                  <a:pt x="20184" y="11913"/>
                  <a:pt x="20389" y="11931"/>
                </a:cubicBezTo>
                <a:cubicBezTo>
                  <a:pt x="20491" y="11940"/>
                  <a:pt x="20587" y="11945"/>
                  <a:pt x="20687" y="11956"/>
                </a:cubicBezTo>
              </a:path>
              <a:path w="3772" h="3052">
                <a:moveTo>
                  <a:pt x="19794" y="12204"/>
                </a:moveTo>
                <a:cubicBezTo>
                  <a:pt x="19846" y="12113"/>
                  <a:pt x="19861" y="12155"/>
                  <a:pt x="19943" y="12105"/>
                </a:cubicBezTo>
                <a:cubicBezTo>
                  <a:pt x="19998" y="12071"/>
                  <a:pt x="20071" y="12059"/>
                  <a:pt x="20141" y="12055"/>
                </a:cubicBezTo>
                <a:cubicBezTo>
                  <a:pt x="20219" y="12051"/>
                  <a:pt x="20257" y="12045"/>
                  <a:pt x="20340" y="12055"/>
                </a:cubicBezTo>
                <a:cubicBezTo>
                  <a:pt x="20408" y="12064"/>
                  <a:pt x="20514" y="12052"/>
                  <a:pt x="20538" y="12129"/>
                </a:cubicBezTo>
                <a:cubicBezTo>
                  <a:pt x="20570" y="12232"/>
                  <a:pt x="20515" y="12360"/>
                  <a:pt x="20439" y="12427"/>
                </a:cubicBezTo>
                <a:cubicBezTo>
                  <a:pt x="20373" y="12485"/>
                  <a:pt x="20292" y="12554"/>
                  <a:pt x="20216" y="12601"/>
                </a:cubicBezTo>
                <a:cubicBezTo>
                  <a:pt x="20138" y="12649"/>
                  <a:pt x="20069" y="12703"/>
                  <a:pt x="19993" y="12750"/>
                </a:cubicBezTo>
                <a:cubicBezTo>
                  <a:pt x="19934" y="12787"/>
                  <a:pt x="19871" y="12792"/>
                  <a:pt x="19819" y="12824"/>
                </a:cubicBezTo>
                <a:cubicBezTo>
                  <a:pt x="19990" y="12824"/>
                  <a:pt x="20176" y="12802"/>
                  <a:pt x="20340" y="12849"/>
                </a:cubicBezTo>
                <a:cubicBezTo>
                  <a:pt x="20415" y="12871"/>
                  <a:pt x="20479" y="12870"/>
                  <a:pt x="20538" y="12923"/>
                </a:cubicBezTo>
                <a:cubicBezTo>
                  <a:pt x="20597" y="12976"/>
                  <a:pt x="20649" y="13005"/>
                  <a:pt x="20712" y="13047"/>
                </a:cubicBezTo>
              </a:path>
              <a:path w="3772" h="3052">
                <a:moveTo>
                  <a:pt x="18802" y="13196"/>
                </a:moveTo>
                <a:cubicBezTo>
                  <a:pt x="18848" y="13254"/>
                  <a:pt x="18873" y="13315"/>
                  <a:pt x="18926" y="13370"/>
                </a:cubicBezTo>
                <a:cubicBezTo>
                  <a:pt x="18989" y="13436"/>
                  <a:pt x="19025" y="13516"/>
                  <a:pt x="19075" y="13593"/>
                </a:cubicBezTo>
                <a:cubicBezTo>
                  <a:pt x="19122" y="13665"/>
                  <a:pt x="19185" y="13716"/>
                  <a:pt x="19224" y="13791"/>
                </a:cubicBezTo>
                <a:cubicBezTo>
                  <a:pt x="19257" y="13855"/>
                  <a:pt x="19277" y="13854"/>
                  <a:pt x="19348" y="13866"/>
                </a:cubicBezTo>
              </a:path>
              <a:path w="3772" h="3052">
                <a:moveTo>
                  <a:pt x="19372" y="13221"/>
                </a:moveTo>
                <a:cubicBezTo>
                  <a:pt x="19308" y="13304"/>
                  <a:pt x="19256" y="13389"/>
                  <a:pt x="19199" y="13469"/>
                </a:cubicBezTo>
                <a:cubicBezTo>
                  <a:pt x="19141" y="13550"/>
                  <a:pt x="19063" y="13641"/>
                  <a:pt x="19000" y="13717"/>
                </a:cubicBezTo>
                <a:cubicBezTo>
                  <a:pt x="18926" y="13806"/>
                  <a:pt x="18832" y="13898"/>
                  <a:pt x="18777" y="13990"/>
                </a:cubicBezTo>
              </a:path>
              <a:path w="3772" h="3052">
                <a:moveTo>
                  <a:pt x="19546" y="13295"/>
                </a:moveTo>
                <a:cubicBezTo>
                  <a:pt x="19680" y="13289"/>
                  <a:pt x="19746" y="13284"/>
                  <a:pt x="19869" y="13295"/>
                </a:cubicBezTo>
              </a:path>
              <a:path w="3772" h="3052">
                <a:moveTo>
                  <a:pt x="19571" y="13469"/>
                </a:moveTo>
                <a:cubicBezTo>
                  <a:pt x="19640" y="13479"/>
                  <a:pt x="19691" y="13494"/>
                  <a:pt x="19769" y="13494"/>
                </a:cubicBezTo>
                <a:cubicBezTo>
                  <a:pt x="19844" y="13494"/>
                  <a:pt x="19885" y="13494"/>
                  <a:pt x="19943" y="13494"/>
                </a:cubicBezTo>
              </a:path>
              <a:path w="3772" h="3052">
                <a:moveTo>
                  <a:pt x="20836" y="13122"/>
                </a:moveTo>
                <a:cubicBezTo>
                  <a:pt x="20771" y="13040"/>
                  <a:pt x="20729" y="12994"/>
                  <a:pt x="20613" y="13022"/>
                </a:cubicBezTo>
                <a:cubicBezTo>
                  <a:pt x="20520" y="13044"/>
                  <a:pt x="20421" y="13121"/>
                  <a:pt x="20340" y="13171"/>
                </a:cubicBezTo>
                <a:cubicBezTo>
                  <a:pt x="20250" y="13227"/>
                  <a:pt x="20182" y="13320"/>
                  <a:pt x="20141" y="13419"/>
                </a:cubicBezTo>
                <a:cubicBezTo>
                  <a:pt x="20111" y="13492"/>
                  <a:pt x="20052" y="13612"/>
                  <a:pt x="20067" y="13692"/>
                </a:cubicBezTo>
                <a:cubicBezTo>
                  <a:pt x="20080" y="13760"/>
                  <a:pt x="20134" y="13891"/>
                  <a:pt x="20191" y="13940"/>
                </a:cubicBezTo>
                <a:cubicBezTo>
                  <a:pt x="20237" y="13979"/>
                  <a:pt x="20355" y="13987"/>
                  <a:pt x="20414" y="13990"/>
                </a:cubicBezTo>
                <a:cubicBezTo>
                  <a:pt x="20495" y="13994"/>
                  <a:pt x="20571" y="13961"/>
                  <a:pt x="20638" y="13915"/>
                </a:cubicBezTo>
                <a:cubicBezTo>
                  <a:pt x="20749" y="13840"/>
                  <a:pt x="20748" y="13794"/>
                  <a:pt x="20811" y="13692"/>
                </a:cubicBezTo>
                <a:cubicBezTo>
                  <a:pt x="20877" y="13584"/>
                  <a:pt x="20886" y="13546"/>
                  <a:pt x="20886" y="13419"/>
                </a:cubicBezTo>
                <a:cubicBezTo>
                  <a:pt x="20886" y="13313"/>
                  <a:pt x="20873" y="13266"/>
                  <a:pt x="20836" y="13171"/>
                </a:cubicBezTo>
                <a:cubicBezTo>
                  <a:pt x="20794" y="13063"/>
                  <a:pt x="20716" y="12986"/>
                  <a:pt x="20638" y="128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6491160" y="4938840"/>
            <a:ext cx="1322640" cy="633240"/>
          </a:xfrm>
          <a:custGeom>
            <a:avLst/>
            <a:gdLst/>
            <a:ahLst/>
            <a:rect l="l" t="t" r="r" b="b"/>
            <a:pathLst>
              <a:path w="3672" h="1762">
                <a:moveTo>
                  <a:pt x="18083" y="14238"/>
                </a:moveTo>
                <a:cubicBezTo>
                  <a:pt x="18083" y="14399"/>
                  <a:pt x="18072" y="14551"/>
                  <a:pt x="18058" y="14709"/>
                </a:cubicBezTo>
                <a:cubicBezTo>
                  <a:pt x="18049" y="14815"/>
                  <a:pt x="18036" y="14928"/>
                  <a:pt x="18033" y="15032"/>
                </a:cubicBezTo>
                <a:cubicBezTo>
                  <a:pt x="18031" y="15114"/>
                  <a:pt x="18033" y="15197"/>
                  <a:pt x="18033" y="15280"/>
                </a:cubicBezTo>
              </a:path>
              <a:path w="3672" h="1762">
                <a:moveTo>
                  <a:pt x="18058" y="14759"/>
                </a:moveTo>
                <a:cubicBezTo>
                  <a:pt x="18058" y="14603"/>
                  <a:pt x="18056" y="14440"/>
                  <a:pt x="18083" y="14288"/>
                </a:cubicBezTo>
                <a:cubicBezTo>
                  <a:pt x="18104" y="14168"/>
                  <a:pt x="18138" y="14114"/>
                  <a:pt x="18182" y="14015"/>
                </a:cubicBezTo>
                <a:cubicBezTo>
                  <a:pt x="18212" y="13947"/>
                  <a:pt x="18235" y="13779"/>
                  <a:pt x="18331" y="13742"/>
                </a:cubicBezTo>
                <a:cubicBezTo>
                  <a:pt x="18395" y="13717"/>
                  <a:pt x="18475" y="13789"/>
                  <a:pt x="18504" y="13841"/>
                </a:cubicBezTo>
                <a:cubicBezTo>
                  <a:pt x="18545" y="13913"/>
                  <a:pt x="18610" y="14012"/>
                  <a:pt x="18628" y="14089"/>
                </a:cubicBezTo>
                <a:cubicBezTo>
                  <a:pt x="18661" y="14234"/>
                  <a:pt x="18663" y="14411"/>
                  <a:pt x="18678" y="14560"/>
                </a:cubicBezTo>
                <a:cubicBezTo>
                  <a:pt x="18688" y="14659"/>
                  <a:pt x="18658" y="14741"/>
                  <a:pt x="18653" y="14833"/>
                </a:cubicBezTo>
                <a:cubicBezTo>
                  <a:pt x="18653" y="14883"/>
                  <a:pt x="18653" y="14899"/>
                  <a:pt x="18653" y="14932"/>
                </a:cubicBezTo>
                <a:cubicBezTo>
                  <a:pt x="18684" y="14851"/>
                  <a:pt x="18662" y="14793"/>
                  <a:pt x="18678" y="14709"/>
                </a:cubicBezTo>
                <a:cubicBezTo>
                  <a:pt x="18695" y="14619"/>
                  <a:pt x="18709" y="14524"/>
                  <a:pt x="18728" y="14436"/>
                </a:cubicBezTo>
                <a:cubicBezTo>
                  <a:pt x="18755" y="14312"/>
                  <a:pt x="18797" y="14174"/>
                  <a:pt x="18827" y="14064"/>
                </a:cubicBezTo>
                <a:cubicBezTo>
                  <a:pt x="18857" y="13952"/>
                  <a:pt x="18863" y="13909"/>
                  <a:pt x="18926" y="13816"/>
                </a:cubicBezTo>
                <a:cubicBezTo>
                  <a:pt x="18971" y="13749"/>
                  <a:pt x="19080" y="13647"/>
                  <a:pt x="19174" y="13717"/>
                </a:cubicBezTo>
                <a:cubicBezTo>
                  <a:pt x="19233" y="13761"/>
                  <a:pt x="19287" y="13919"/>
                  <a:pt x="19298" y="13990"/>
                </a:cubicBezTo>
                <a:cubicBezTo>
                  <a:pt x="19315" y="14100"/>
                  <a:pt x="19315" y="14198"/>
                  <a:pt x="19298" y="14312"/>
                </a:cubicBezTo>
                <a:cubicBezTo>
                  <a:pt x="19272" y="14486"/>
                  <a:pt x="19213" y="14657"/>
                  <a:pt x="19199" y="14833"/>
                </a:cubicBezTo>
                <a:cubicBezTo>
                  <a:pt x="19188" y="14979"/>
                  <a:pt x="19186" y="15090"/>
                  <a:pt x="19199" y="15230"/>
                </a:cubicBezTo>
                <a:cubicBezTo>
                  <a:pt x="19209" y="15340"/>
                  <a:pt x="19207" y="15383"/>
                  <a:pt x="19298" y="15453"/>
                </a:cubicBezTo>
                <a:cubicBezTo>
                  <a:pt x="19353" y="15481"/>
                  <a:pt x="19376" y="15489"/>
                  <a:pt x="19422" y="15478"/>
                </a:cubicBezTo>
              </a:path>
              <a:path w="3672" h="1762">
                <a:moveTo>
                  <a:pt x="19819" y="14759"/>
                </a:moveTo>
                <a:cubicBezTo>
                  <a:pt x="19779" y="14719"/>
                  <a:pt x="19734" y="14684"/>
                  <a:pt x="19670" y="14709"/>
                </a:cubicBezTo>
                <a:cubicBezTo>
                  <a:pt x="19621" y="14728"/>
                  <a:pt x="19576" y="14799"/>
                  <a:pt x="19546" y="14833"/>
                </a:cubicBezTo>
                <a:cubicBezTo>
                  <a:pt x="19459" y="14931"/>
                  <a:pt x="19443" y="14982"/>
                  <a:pt x="19397" y="15106"/>
                </a:cubicBezTo>
                <a:cubicBezTo>
                  <a:pt x="19372" y="15174"/>
                  <a:pt x="19348" y="15233"/>
                  <a:pt x="19422" y="15280"/>
                </a:cubicBezTo>
                <a:cubicBezTo>
                  <a:pt x="19513" y="15337"/>
                  <a:pt x="19573" y="15286"/>
                  <a:pt x="19645" y="15230"/>
                </a:cubicBezTo>
                <a:cubicBezTo>
                  <a:pt x="19709" y="15181"/>
                  <a:pt x="19732" y="15155"/>
                  <a:pt x="19769" y="15081"/>
                </a:cubicBezTo>
                <a:cubicBezTo>
                  <a:pt x="19800" y="15018"/>
                  <a:pt x="19833" y="14950"/>
                  <a:pt x="19844" y="14883"/>
                </a:cubicBezTo>
                <a:cubicBezTo>
                  <a:pt x="19854" y="14826"/>
                  <a:pt x="19899" y="14713"/>
                  <a:pt x="19893" y="14660"/>
                </a:cubicBezTo>
                <a:cubicBezTo>
                  <a:pt x="19885" y="14643"/>
                  <a:pt x="19877" y="14627"/>
                  <a:pt x="19869" y="14610"/>
                </a:cubicBezTo>
                <a:cubicBezTo>
                  <a:pt x="19811" y="14668"/>
                  <a:pt x="19817" y="14711"/>
                  <a:pt x="19794" y="14784"/>
                </a:cubicBezTo>
                <a:cubicBezTo>
                  <a:pt x="19771" y="14855"/>
                  <a:pt x="19756" y="14934"/>
                  <a:pt x="19745" y="15007"/>
                </a:cubicBezTo>
                <a:cubicBezTo>
                  <a:pt x="19735" y="15072"/>
                  <a:pt x="19745" y="15090"/>
                  <a:pt x="19745" y="15156"/>
                </a:cubicBezTo>
                <a:cubicBezTo>
                  <a:pt x="19745" y="15279"/>
                  <a:pt x="19730" y="15364"/>
                  <a:pt x="19869" y="15404"/>
                </a:cubicBezTo>
                <a:cubicBezTo>
                  <a:pt x="19942" y="15425"/>
                  <a:pt x="19984" y="15385"/>
                  <a:pt x="20042" y="15354"/>
                </a:cubicBezTo>
                <a:cubicBezTo>
                  <a:pt x="20059" y="15346"/>
                  <a:pt x="20075" y="15337"/>
                  <a:pt x="20092" y="15329"/>
                </a:cubicBezTo>
              </a:path>
              <a:path w="3672" h="1762">
                <a:moveTo>
                  <a:pt x="20117" y="14709"/>
                </a:moveTo>
                <a:cubicBezTo>
                  <a:pt x="20124" y="14763"/>
                  <a:pt x="20126" y="14828"/>
                  <a:pt x="20141" y="14883"/>
                </a:cubicBezTo>
                <a:cubicBezTo>
                  <a:pt x="20165" y="14968"/>
                  <a:pt x="20160" y="15076"/>
                  <a:pt x="20191" y="15156"/>
                </a:cubicBezTo>
                <a:cubicBezTo>
                  <a:pt x="20217" y="15225"/>
                  <a:pt x="20175" y="15080"/>
                  <a:pt x="20166" y="15007"/>
                </a:cubicBezTo>
                <a:cubicBezTo>
                  <a:pt x="20157" y="14933"/>
                  <a:pt x="20150" y="14854"/>
                  <a:pt x="20141" y="14784"/>
                </a:cubicBezTo>
                <a:cubicBezTo>
                  <a:pt x="20135" y="14738"/>
                  <a:pt x="20150" y="14606"/>
                  <a:pt x="20166" y="14560"/>
                </a:cubicBezTo>
                <a:cubicBezTo>
                  <a:pt x="20223" y="14401"/>
                  <a:pt x="20288" y="14443"/>
                  <a:pt x="20414" y="14461"/>
                </a:cubicBezTo>
                <a:cubicBezTo>
                  <a:pt x="20473" y="14469"/>
                  <a:pt x="20489" y="14456"/>
                  <a:pt x="20538" y="14486"/>
                </a:cubicBezTo>
              </a:path>
              <a:path w="3672" h="1762">
                <a:moveTo>
                  <a:pt x="20613" y="14610"/>
                </a:moveTo>
                <a:cubicBezTo>
                  <a:pt x="20594" y="14720"/>
                  <a:pt x="20612" y="14851"/>
                  <a:pt x="20588" y="14957"/>
                </a:cubicBezTo>
                <a:cubicBezTo>
                  <a:pt x="20568" y="15044"/>
                  <a:pt x="20563" y="15107"/>
                  <a:pt x="20563" y="15205"/>
                </a:cubicBezTo>
              </a:path>
              <a:path w="3672" h="1762">
                <a:moveTo>
                  <a:pt x="20712" y="14238"/>
                </a:moveTo>
                <a:lnTo>
                  <a:pt x="20712" y="14238"/>
                </a:lnTo>
              </a:path>
              <a:path w="3672" h="1762">
                <a:moveTo>
                  <a:pt x="21332" y="14560"/>
                </a:moveTo>
                <a:cubicBezTo>
                  <a:pt x="21332" y="14489"/>
                  <a:pt x="21345" y="14432"/>
                  <a:pt x="21258" y="14412"/>
                </a:cubicBezTo>
                <a:cubicBezTo>
                  <a:pt x="21174" y="14393"/>
                  <a:pt x="21085" y="14427"/>
                  <a:pt x="21010" y="14461"/>
                </a:cubicBezTo>
                <a:cubicBezTo>
                  <a:pt x="20926" y="14499"/>
                  <a:pt x="20798" y="14565"/>
                  <a:pt x="20737" y="14635"/>
                </a:cubicBezTo>
                <a:cubicBezTo>
                  <a:pt x="20702" y="14675"/>
                  <a:pt x="20627" y="14782"/>
                  <a:pt x="20613" y="14833"/>
                </a:cubicBezTo>
                <a:cubicBezTo>
                  <a:pt x="20595" y="14900"/>
                  <a:pt x="20643" y="14986"/>
                  <a:pt x="20687" y="15032"/>
                </a:cubicBezTo>
                <a:cubicBezTo>
                  <a:pt x="20768" y="15118"/>
                  <a:pt x="20759" y="15098"/>
                  <a:pt x="20861" y="15081"/>
                </a:cubicBezTo>
                <a:cubicBezTo>
                  <a:pt x="20937" y="15068"/>
                  <a:pt x="20950" y="15046"/>
                  <a:pt x="21010" y="15007"/>
                </a:cubicBezTo>
                <a:cubicBezTo>
                  <a:pt x="21101" y="14948"/>
                  <a:pt x="21127" y="14850"/>
                  <a:pt x="21158" y="14759"/>
                </a:cubicBezTo>
                <a:cubicBezTo>
                  <a:pt x="21180" y="14694"/>
                  <a:pt x="21243" y="14533"/>
                  <a:pt x="21233" y="14461"/>
                </a:cubicBezTo>
                <a:cubicBezTo>
                  <a:pt x="21208" y="14436"/>
                  <a:pt x="21200" y="14428"/>
                  <a:pt x="21183" y="14412"/>
                </a:cubicBezTo>
                <a:cubicBezTo>
                  <a:pt x="21183" y="14544"/>
                  <a:pt x="21166" y="14683"/>
                  <a:pt x="21208" y="14808"/>
                </a:cubicBezTo>
                <a:cubicBezTo>
                  <a:pt x="21241" y="14906"/>
                  <a:pt x="21277" y="15017"/>
                  <a:pt x="21332" y="15106"/>
                </a:cubicBezTo>
                <a:cubicBezTo>
                  <a:pt x="21370" y="15168"/>
                  <a:pt x="21455" y="15258"/>
                  <a:pt x="21530" y="15280"/>
                </a:cubicBezTo>
                <a:cubicBezTo>
                  <a:pt x="21629" y="15299"/>
                  <a:pt x="21645" y="15307"/>
                  <a:pt x="21704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                                 6.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5638680" y="1676520"/>
          <a:ext cx="28432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8432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914400" y="1676520"/>
          <a:ext cx="3060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3060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Ink 6"/>
          <p:cNvSpPr/>
          <p:nvPr/>
        </p:nvSpPr>
        <p:spPr>
          <a:xfrm>
            <a:off x="3606840" y="1428840"/>
            <a:ext cx="1768320" cy="1581120"/>
          </a:xfrm>
          <a:custGeom>
            <a:avLst/>
            <a:gdLst/>
            <a:ahLst/>
            <a:rect l="l" t="t" r="r" b="b"/>
            <a:pathLst>
              <a:path w="4912" h="4391">
                <a:moveTo>
                  <a:pt x="10021" y="4068"/>
                </a:moveTo>
                <a:cubicBezTo>
                  <a:pt x="10129" y="4055"/>
                  <a:pt x="10233" y="4051"/>
                  <a:pt x="10344" y="4043"/>
                </a:cubicBezTo>
                <a:cubicBezTo>
                  <a:pt x="10508" y="4031"/>
                  <a:pt x="10693" y="3998"/>
                  <a:pt x="10864" y="3994"/>
                </a:cubicBezTo>
                <a:cubicBezTo>
                  <a:pt x="10957" y="3992"/>
                  <a:pt x="11052" y="3975"/>
                  <a:pt x="11137" y="3969"/>
                </a:cubicBezTo>
                <a:cubicBezTo>
                  <a:pt x="11238" y="3962"/>
                  <a:pt x="11244" y="3979"/>
                  <a:pt x="11286" y="4068"/>
                </a:cubicBezTo>
                <a:cubicBezTo>
                  <a:pt x="11320" y="4140"/>
                  <a:pt x="11302" y="4237"/>
                  <a:pt x="11311" y="4316"/>
                </a:cubicBezTo>
                <a:cubicBezTo>
                  <a:pt x="11323" y="4421"/>
                  <a:pt x="11319" y="4533"/>
                  <a:pt x="11336" y="4638"/>
                </a:cubicBezTo>
                <a:cubicBezTo>
                  <a:pt x="11362" y="4802"/>
                  <a:pt x="11399" y="4969"/>
                  <a:pt x="11410" y="5135"/>
                </a:cubicBezTo>
                <a:cubicBezTo>
                  <a:pt x="11421" y="5294"/>
                  <a:pt x="11432" y="5448"/>
                  <a:pt x="11460" y="5606"/>
                </a:cubicBezTo>
                <a:cubicBezTo>
                  <a:pt x="11488" y="5761"/>
                  <a:pt x="11506" y="5920"/>
                  <a:pt x="11509" y="6077"/>
                </a:cubicBezTo>
                <a:cubicBezTo>
                  <a:pt x="11514" y="6302"/>
                  <a:pt x="11555" y="6523"/>
                  <a:pt x="11559" y="6747"/>
                </a:cubicBezTo>
                <a:cubicBezTo>
                  <a:pt x="11562" y="6924"/>
                  <a:pt x="11596" y="7093"/>
                  <a:pt x="11609" y="7268"/>
                </a:cubicBezTo>
                <a:cubicBezTo>
                  <a:pt x="11620" y="7408"/>
                  <a:pt x="11630" y="7550"/>
                  <a:pt x="11633" y="7689"/>
                </a:cubicBezTo>
                <a:cubicBezTo>
                  <a:pt x="11636" y="7831"/>
                  <a:pt x="11638" y="7971"/>
                  <a:pt x="11658" y="8111"/>
                </a:cubicBezTo>
                <a:cubicBezTo>
                  <a:pt x="11670" y="8196"/>
                  <a:pt x="11679" y="8271"/>
                  <a:pt x="11683" y="8359"/>
                </a:cubicBezTo>
                <a:cubicBezTo>
                  <a:pt x="11558" y="8331"/>
                  <a:pt x="11438" y="8294"/>
                  <a:pt x="11311" y="8260"/>
                </a:cubicBezTo>
                <a:cubicBezTo>
                  <a:pt x="11127" y="8211"/>
                  <a:pt x="10945" y="8196"/>
                  <a:pt x="10765" y="8136"/>
                </a:cubicBezTo>
              </a:path>
              <a:path w="4912" h="4391">
                <a:moveTo>
                  <a:pt x="14288" y="7392"/>
                </a:moveTo>
                <a:cubicBezTo>
                  <a:pt x="14288" y="7491"/>
                  <a:pt x="14297" y="7573"/>
                  <a:pt x="14312" y="7665"/>
                </a:cubicBezTo>
                <a:cubicBezTo>
                  <a:pt x="14328" y="7766"/>
                  <a:pt x="14312" y="7884"/>
                  <a:pt x="14312" y="7987"/>
                </a:cubicBezTo>
              </a:path>
              <a:path w="4912" h="4391">
                <a:moveTo>
                  <a:pt x="14337" y="7466"/>
                </a:moveTo>
                <a:cubicBezTo>
                  <a:pt x="14372" y="7396"/>
                  <a:pt x="14412" y="7325"/>
                  <a:pt x="14511" y="7342"/>
                </a:cubicBezTo>
                <a:cubicBezTo>
                  <a:pt x="14605" y="7359"/>
                  <a:pt x="14631" y="7430"/>
                  <a:pt x="14635" y="7516"/>
                </a:cubicBezTo>
                <a:cubicBezTo>
                  <a:pt x="14638" y="7588"/>
                  <a:pt x="14607" y="7673"/>
                  <a:pt x="14585" y="7739"/>
                </a:cubicBezTo>
                <a:cubicBezTo>
                  <a:pt x="14566" y="7795"/>
                  <a:pt x="14521" y="7915"/>
                  <a:pt x="14635" y="7888"/>
                </a:cubicBezTo>
                <a:cubicBezTo>
                  <a:pt x="14675" y="7868"/>
                  <a:pt x="14681" y="7859"/>
                  <a:pt x="14709" y="7863"/>
                </a:cubicBezTo>
              </a:path>
              <a:path w="4912" h="4391">
                <a:moveTo>
                  <a:pt x="14932" y="7789"/>
                </a:moveTo>
                <a:lnTo>
                  <a:pt x="14932" y="778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Ink 7"/>
          <p:cNvSpPr/>
          <p:nvPr/>
        </p:nvSpPr>
        <p:spPr>
          <a:xfrm>
            <a:off x="884160" y="1571760"/>
            <a:ext cx="2224080" cy="3268440"/>
          </a:xfrm>
          <a:custGeom>
            <a:avLst/>
            <a:gdLst/>
            <a:ahLst/>
            <a:rect l="l" t="t" r="r" b="b"/>
            <a:pathLst>
              <a:path w="6177" h="9079">
                <a:moveTo>
                  <a:pt x="3497" y="4390"/>
                </a:moveTo>
                <a:cubicBezTo>
                  <a:pt x="3397" y="4366"/>
                  <a:pt x="3324" y="4369"/>
                  <a:pt x="3225" y="4390"/>
                </a:cubicBezTo>
                <a:cubicBezTo>
                  <a:pt x="3140" y="4408"/>
                  <a:pt x="3031" y="4433"/>
                  <a:pt x="2952" y="4465"/>
                </a:cubicBezTo>
                <a:cubicBezTo>
                  <a:pt x="2904" y="4484"/>
                  <a:pt x="2743" y="4529"/>
                  <a:pt x="2704" y="4564"/>
                </a:cubicBezTo>
                <a:cubicBezTo>
                  <a:pt x="2675" y="4590"/>
                  <a:pt x="2704" y="4660"/>
                  <a:pt x="2704" y="4713"/>
                </a:cubicBezTo>
                <a:cubicBezTo>
                  <a:pt x="2704" y="4841"/>
                  <a:pt x="2687" y="4959"/>
                  <a:pt x="2679" y="5085"/>
                </a:cubicBezTo>
                <a:cubicBezTo>
                  <a:pt x="2672" y="5200"/>
                  <a:pt x="2642" y="5295"/>
                  <a:pt x="2629" y="5407"/>
                </a:cubicBezTo>
                <a:cubicBezTo>
                  <a:pt x="2604" y="5623"/>
                  <a:pt x="2578" y="5836"/>
                  <a:pt x="2555" y="6052"/>
                </a:cubicBezTo>
                <a:cubicBezTo>
                  <a:pt x="2536" y="6226"/>
                  <a:pt x="2549" y="6400"/>
                  <a:pt x="2530" y="6573"/>
                </a:cubicBezTo>
                <a:cubicBezTo>
                  <a:pt x="2512" y="6740"/>
                  <a:pt x="2505" y="6899"/>
                  <a:pt x="2505" y="7069"/>
                </a:cubicBezTo>
                <a:cubicBezTo>
                  <a:pt x="2505" y="7182"/>
                  <a:pt x="2491" y="7284"/>
                  <a:pt x="2480" y="7392"/>
                </a:cubicBezTo>
                <a:cubicBezTo>
                  <a:pt x="2472" y="7469"/>
                  <a:pt x="2425" y="7544"/>
                  <a:pt x="2456" y="7615"/>
                </a:cubicBezTo>
                <a:cubicBezTo>
                  <a:pt x="2487" y="7685"/>
                  <a:pt x="2598" y="7664"/>
                  <a:pt x="2654" y="7665"/>
                </a:cubicBezTo>
                <a:cubicBezTo>
                  <a:pt x="2844" y="7670"/>
                  <a:pt x="3043" y="7645"/>
                  <a:pt x="3225" y="7689"/>
                </a:cubicBezTo>
                <a:cubicBezTo>
                  <a:pt x="3303" y="7708"/>
                  <a:pt x="3319" y="7700"/>
                  <a:pt x="3398" y="7689"/>
                </a:cubicBezTo>
              </a:path>
              <a:path w="6177" h="9079">
                <a:moveTo>
                  <a:pt x="5631" y="9649"/>
                </a:moveTo>
                <a:cubicBezTo>
                  <a:pt x="5586" y="9738"/>
                  <a:pt x="5584" y="9864"/>
                  <a:pt x="5581" y="9971"/>
                </a:cubicBezTo>
                <a:cubicBezTo>
                  <a:pt x="5578" y="10051"/>
                  <a:pt x="5597" y="10131"/>
                  <a:pt x="5631" y="10195"/>
                </a:cubicBezTo>
                <a:cubicBezTo>
                  <a:pt x="5651" y="10235"/>
                  <a:pt x="5659" y="10242"/>
                  <a:pt x="5655" y="10269"/>
                </a:cubicBezTo>
              </a:path>
              <a:path w="6177" h="9079">
                <a:moveTo>
                  <a:pt x="5383" y="9947"/>
                </a:moveTo>
                <a:cubicBezTo>
                  <a:pt x="5578" y="10000"/>
                  <a:pt x="5677" y="9996"/>
                  <a:pt x="5879" y="9971"/>
                </a:cubicBezTo>
              </a:path>
              <a:path w="6177" h="9079">
                <a:moveTo>
                  <a:pt x="6325" y="9723"/>
                </a:moveTo>
                <a:cubicBezTo>
                  <a:pt x="6244" y="9700"/>
                  <a:pt x="6212" y="9757"/>
                  <a:pt x="6127" y="9798"/>
                </a:cubicBezTo>
                <a:cubicBezTo>
                  <a:pt x="6059" y="9831"/>
                  <a:pt x="6030" y="9894"/>
                  <a:pt x="6052" y="9971"/>
                </a:cubicBezTo>
                <a:cubicBezTo>
                  <a:pt x="6072" y="10041"/>
                  <a:pt x="6156" y="10042"/>
                  <a:pt x="6201" y="10021"/>
                </a:cubicBezTo>
                <a:cubicBezTo>
                  <a:pt x="6285" y="9982"/>
                  <a:pt x="6321" y="9914"/>
                  <a:pt x="6375" y="9847"/>
                </a:cubicBezTo>
                <a:cubicBezTo>
                  <a:pt x="6396" y="9900"/>
                  <a:pt x="6375" y="9994"/>
                  <a:pt x="6375" y="10071"/>
                </a:cubicBezTo>
                <a:cubicBezTo>
                  <a:pt x="6375" y="10206"/>
                  <a:pt x="6393" y="10394"/>
                  <a:pt x="6449" y="10517"/>
                </a:cubicBezTo>
                <a:cubicBezTo>
                  <a:pt x="6495" y="10563"/>
                  <a:pt x="6510" y="10575"/>
                  <a:pt x="6524" y="10616"/>
                </a:cubicBezTo>
              </a:path>
              <a:path w="6177" h="9079">
                <a:moveTo>
                  <a:pt x="3101" y="8334"/>
                </a:moveTo>
                <a:cubicBezTo>
                  <a:pt x="3183" y="8536"/>
                  <a:pt x="3218" y="8647"/>
                  <a:pt x="3249" y="8855"/>
                </a:cubicBezTo>
                <a:cubicBezTo>
                  <a:pt x="3275" y="9026"/>
                  <a:pt x="3373" y="9167"/>
                  <a:pt x="3423" y="9327"/>
                </a:cubicBezTo>
                <a:cubicBezTo>
                  <a:pt x="3471" y="9482"/>
                  <a:pt x="3517" y="9621"/>
                  <a:pt x="3572" y="9773"/>
                </a:cubicBezTo>
                <a:cubicBezTo>
                  <a:pt x="3608" y="9873"/>
                  <a:pt x="3611" y="9936"/>
                  <a:pt x="3671" y="10021"/>
                </a:cubicBezTo>
              </a:path>
              <a:path w="6177" h="9079">
                <a:moveTo>
                  <a:pt x="5184" y="10914"/>
                </a:moveTo>
                <a:cubicBezTo>
                  <a:pt x="5225" y="11047"/>
                  <a:pt x="5236" y="11176"/>
                  <a:pt x="5259" y="11311"/>
                </a:cubicBezTo>
                <a:cubicBezTo>
                  <a:pt x="5277" y="11417"/>
                  <a:pt x="5296" y="11528"/>
                  <a:pt x="5308" y="11633"/>
                </a:cubicBezTo>
                <a:cubicBezTo>
                  <a:pt x="5318" y="11719"/>
                  <a:pt x="5303" y="11776"/>
                  <a:pt x="5333" y="11857"/>
                </a:cubicBezTo>
              </a:path>
              <a:path w="6177" h="9079">
                <a:moveTo>
                  <a:pt x="5531" y="11237"/>
                </a:moveTo>
                <a:cubicBezTo>
                  <a:pt x="5593" y="11205"/>
                  <a:pt x="5761" y="11069"/>
                  <a:pt x="5854" y="11162"/>
                </a:cubicBezTo>
                <a:cubicBezTo>
                  <a:pt x="5902" y="11210"/>
                  <a:pt x="5891" y="11316"/>
                  <a:pt x="5854" y="11361"/>
                </a:cubicBezTo>
                <a:cubicBezTo>
                  <a:pt x="5820" y="11403"/>
                  <a:pt x="5752" y="11433"/>
                  <a:pt x="5705" y="11460"/>
                </a:cubicBezTo>
                <a:cubicBezTo>
                  <a:pt x="5764" y="11476"/>
                  <a:pt x="5861" y="11471"/>
                  <a:pt x="5904" y="11509"/>
                </a:cubicBezTo>
                <a:cubicBezTo>
                  <a:pt x="5959" y="11557"/>
                  <a:pt x="6039" y="11631"/>
                  <a:pt x="6052" y="11708"/>
                </a:cubicBezTo>
                <a:cubicBezTo>
                  <a:pt x="6063" y="11773"/>
                  <a:pt x="6063" y="11843"/>
                  <a:pt x="6003" y="11881"/>
                </a:cubicBezTo>
                <a:cubicBezTo>
                  <a:pt x="5918" y="11935"/>
                  <a:pt x="5821" y="11935"/>
                  <a:pt x="5730" y="11906"/>
                </a:cubicBezTo>
                <a:cubicBezTo>
                  <a:pt x="5657" y="11883"/>
                  <a:pt x="5663" y="11845"/>
                  <a:pt x="5655" y="11782"/>
                </a:cubicBezTo>
              </a:path>
              <a:path w="6177" h="9079">
                <a:moveTo>
                  <a:pt x="6573" y="11534"/>
                </a:moveTo>
                <a:cubicBezTo>
                  <a:pt x="6647" y="11542"/>
                  <a:pt x="6722" y="11551"/>
                  <a:pt x="6796" y="11559"/>
                </a:cubicBezTo>
              </a:path>
              <a:path w="6177" h="9079">
                <a:moveTo>
                  <a:pt x="6648" y="11782"/>
                </a:moveTo>
                <a:cubicBezTo>
                  <a:pt x="6751" y="11800"/>
                  <a:pt x="6840" y="11807"/>
                  <a:pt x="6945" y="11807"/>
                </a:cubicBezTo>
              </a:path>
              <a:path w="6177" h="9079">
                <a:moveTo>
                  <a:pt x="7491" y="11385"/>
                </a:moveTo>
                <a:cubicBezTo>
                  <a:pt x="7420" y="11435"/>
                  <a:pt x="7345" y="11469"/>
                  <a:pt x="7417" y="11559"/>
                </a:cubicBezTo>
                <a:cubicBezTo>
                  <a:pt x="7468" y="11622"/>
                  <a:pt x="7537" y="11655"/>
                  <a:pt x="7615" y="11658"/>
                </a:cubicBezTo>
                <a:cubicBezTo>
                  <a:pt x="7684" y="11661"/>
                  <a:pt x="7712" y="11664"/>
                  <a:pt x="7764" y="11633"/>
                </a:cubicBezTo>
              </a:path>
              <a:path w="6177" h="9079">
                <a:moveTo>
                  <a:pt x="7838" y="11063"/>
                </a:moveTo>
                <a:cubicBezTo>
                  <a:pt x="7767" y="11272"/>
                  <a:pt x="7713" y="11414"/>
                  <a:pt x="7739" y="11633"/>
                </a:cubicBezTo>
                <a:cubicBezTo>
                  <a:pt x="7755" y="11768"/>
                  <a:pt x="7793" y="11926"/>
                  <a:pt x="7838" y="12055"/>
                </a:cubicBezTo>
                <a:cubicBezTo>
                  <a:pt x="7857" y="12110"/>
                  <a:pt x="7864" y="12157"/>
                  <a:pt x="7888" y="12204"/>
                </a:cubicBezTo>
              </a:path>
              <a:path w="6177" h="9079">
                <a:moveTo>
                  <a:pt x="8136" y="11757"/>
                </a:moveTo>
                <a:cubicBezTo>
                  <a:pt x="8212" y="11862"/>
                  <a:pt x="8272" y="11987"/>
                  <a:pt x="8359" y="12080"/>
                </a:cubicBezTo>
                <a:cubicBezTo>
                  <a:pt x="8422" y="12148"/>
                  <a:pt x="8492" y="12213"/>
                  <a:pt x="8558" y="12278"/>
                </a:cubicBezTo>
              </a:path>
              <a:path w="6177" h="9079">
                <a:moveTo>
                  <a:pt x="8582" y="11658"/>
                </a:moveTo>
                <a:cubicBezTo>
                  <a:pt x="8409" y="11751"/>
                  <a:pt x="8320" y="11831"/>
                  <a:pt x="8210" y="12005"/>
                </a:cubicBezTo>
                <a:cubicBezTo>
                  <a:pt x="8149" y="12102"/>
                  <a:pt x="8121" y="12219"/>
                  <a:pt x="8111" y="12328"/>
                </a:cubicBezTo>
              </a:path>
              <a:path w="6177" h="9079">
                <a:moveTo>
                  <a:pt x="7714" y="12229"/>
                </a:moveTo>
                <a:cubicBezTo>
                  <a:pt x="7868" y="12250"/>
                  <a:pt x="8010" y="12268"/>
                  <a:pt x="8161" y="12303"/>
                </a:cubicBezTo>
                <a:cubicBezTo>
                  <a:pt x="8337" y="12344"/>
                  <a:pt x="8463" y="12329"/>
                  <a:pt x="8632" y="12278"/>
                </a:cubicBezTo>
              </a:path>
              <a:path w="6177" h="9079">
                <a:moveTo>
                  <a:pt x="8210" y="12551"/>
                </a:moveTo>
                <a:cubicBezTo>
                  <a:pt x="8175" y="12660"/>
                  <a:pt x="8181" y="12676"/>
                  <a:pt x="8235" y="12750"/>
                </a:cubicBezTo>
                <a:cubicBezTo>
                  <a:pt x="8300" y="12838"/>
                  <a:pt x="8335" y="12875"/>
                  <a:pt x="8434" y="12923"/>
                </a:cubicBezTo>
                <a:cubicBezTo>
                  <a:pt x="8496" y="12955"/>
                  <a:pt x="8527" y="12963"/>
                  <a:pt x="8582" y="12948"/>
                </a:cubicBezTo>
              </a:path>
              <a:path w="6177" h="9079">
                <a:moveTo>
                  <a:pt x="8607" y="12551"/>
                </a:moveTo>
                <a:cubicBezTo>
                  <a:pt x="8501" y="12682"/>
                  <a:pt x="8451" y="12795"/>
                  <a:pt x="8434" y="12973"/>
                </a:cubicBezTo>
                <a:cubicBezTo>
                  <a:pt x="8419" y="13129"/>
                  <a:pt x="8432" y="13291"/>
                  <a:pt x="8458" y="13444"/>
                </a:cubicBezTo>
              </a:path>
              <a:path w="6177" h="9079">
                <a:moveTo>
                  <a:pt x="5159" y="11956"/>
                </a:moveTo>
                <a:cubicBezTo>
                  <a:pt x="5345" y="11919"/>
                  <a:pt x="5512" y="11930"/>
                  <a:pt x="5705" y="11956"/>
                </a:cubicBezTo>
                <a:cubicBezTo>
                  <a:pt x="5896" y="11982"/>
                  <a:pt x="6071" y="12011"/>
                  <a:pt x="6251" y="11931"/>
                </a:cubicBezTo>
              </a:path>
              <a:path w="6177" h="9079">
                <a:moveTo>
                  <a:pt x="5705" y="12229"/>
                </a:moveTo>
                <a:cubicBezTo>
                  <a:pt x="5633" y="12391"/>
                  <a:pt x="5588" y="12407"/>
                  <a:pt x="5730" y="12502"/>
                </a:cubicBezTo>
                <a:cubicBezTo>
                  <a:pt x="5802" y="12550"/>
                  <a:pt x="5899" y="12567"/>
                  <a:pt x="5978" y="12601"/>
                </a:cubicBezTo>
                <a:cubicBezTo>
                  <a:pt x="6026" y="12625"/>
                  <a:pt x="6040" y="12633"/>
                  <a:pt x="6077" y="12626"/>
                </a:cubicBezTo>
              </a:path>
              <a:path w="6177" h="9079">
                <a:moveTo>
                  <a:pt x="6176" y="12328"/>
                </a:moveTo>
                <a:cubicBezTo>
                  <a:pt x="6095" y="12540"/>
                  <a:pt x="6077" y="12673"/>
                  <a:pt x="6077" y="12898"/>
                </a:cubicBezTo>
                <a:cubicBezTo>
                  <a:pt x="6077" y="13053"/>
                  <a:pt x="6107" y="13197"/>
                  <a:pt x="6152" y="13345"/>
                </a:cubicBezTo>
                <a:cubicBezTo>
                  <a:pt x="6172" y="13406"/>
                  <a:pt x="6170" y="13420"/>
                  <a:pt x="6201" y="13444"/>
                </a:cubicBezTo>
              </a:path>
              <a:path w="6177" h="9079">
                <a:moveTo>
                  <a:pt x="7441" y="10988"/>
                </a:moveTo>
                <a:cubicBezTo>
                  <a:pt x="7515" y="11168"/>
                  <a:pt x="7539" y="11352"/>
                  <a:pt x="7615" y="11534"/>
                </a:cubicBezTo>
                <a:cubicBezTo>
                  <a:pt x="7761" y="11885"/>
                  <a:pt x="7896" y="12239"/>
                  <a:pt x="8012" y="12601"/>
                </a:cubicBezTo>
                <a:cubicBezTo>
                  <a:pt x="8045" y="12708"/>
                  <a:pt x="8078" y="12816"/>
                  <a:pt x="8111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Ink 8"/>
          <p:cNvSpPr/>
          <p:nvPr/>
        </p:nvSpPr>
        <p:spPr>
          <a:xfrm>
            <a:off x="1071720" y="3044880"/>
            <a:ext cx="741240" cy="312840"/>
          </a:xfrm>
          <a:custGeom>
            <a:avLst/>
            <a:gdLst/>
            <a:ahLst/>
            <a:rect l="l" t="t" r="r" b="b"/>
            <a:pathLst>
              <a:path w="2059" h="870">
                <a:moveTo>
                  <a:pt x="3076" y="8458"/>
                </a:moveTo>
                <a:cubicBezTo>
                  <a:pt x="3076" y="8535"/>
                  <a:pt x="3068" y="8586"/>
                  <a:pt x="3051" y="8657"/>
                </a:cubicBezTo>
                <a:cubicBezTo>
                  <a:pt x="3026" y="8759"/>
                  <a:pt x="2989" y="8875"/>
                  <a:pt x="2977" y="8979"/>
                </a:cubicBezTo>
                <a:cubicBezTo>
                  <a:pt x="2968" y="9061"/>
                  <a:pt x="2984" y="9133"/>
                  <a:pt x="3026" y="9203"/>
                </a:cubicBezTo>
                <a:cubicBezTo>
                  <a:pt x="3065" y="9268"/>
                  <a:pt x="3094" y="9311"/>
                  <a:pt x="3175" y="9327"/>
                </a:cubicBezTo>
                <a:cubicBezTo>
                  <a:pt x="3241" y="9340"/>
                  <a:pt x="3315" y="9328"/>
                  <a:pt x="3373" y="9302"/>
                </a:cubicBezTo>
                <a:cubicBezTo>
                  <a:pt x="3457" y="9264"/>
                  <a:pt x="3471" y="9199"/>
                  <a:pt x="3522" y="9128"/>
                </a:cubicBezTo>
                <a:cubicBezTo>
                  <a:pt x="3553" y="9084"/>
                  <a:pt x="3560" y="8966"/>
                  <a:pt x="3497" y="8930"/>
                </a:cubicBezTo>
                <a:cubicBezTo>
                  <a:pt x="3419" y="8886"/>
                  <a:pt x="3335" y="8985"/>
                  <a:pt x="3299" y="9029"/>
                </a:cubicBezTo>
                <a:cubicBezTo>
                  <a:pt x="3255" y="9082"/>
                  <a:pt x="3223" y="9155"/>
                  <a:pt x="3249" y="9227"/>
                </a:cubicBezTo>
                <a:cubicBezTo>
                  <a:pt x="3265" y="9273"/>
                  <a:pt x="3340" y="9289"/>
                  <a:pt x="3373" y="9302"/>
                </a:cubicBezTo>
              </a:path>
              <a:path w="2059" h="870">
                <a:moveTo>
                  <a:pt x="3696" y="8830"/>
                </a:moveTo>
                <a:cubicBezTo>
                  <a:pt x="3730" y="8889"/>
                  <a:pt x="3764" y="8942"/>
                  <a:pt x="3795" y="9004"/>
                </a:cubicBezTo>
                <a:cubicBezTo>
                  <a:pt x="3845" y="9104"/>
                  <a:pt x="3903" y="9180"/>
                  <a:pt x="3994" y="9252"/>
                </a:cubicBezTo>
                <a:cubicBezTo>
                  <a:pt x="4044" y="9291"/>
                  <a:pt x="4133" y="9315"/>
                  <a:pt x="4192" y="9327"/>
                </a:cubicBezTo>
              </a:path>
              <a:path w="2059" h="870">
                <a:moveTo>
                  <a:pt x="4043" y="8731"/>
                </a:moveTo>
                <a:cubicBezTo>
                  <a:pt x="3965" y="8843"/>
                  <a:pt x="3877" y="8936"/>
                  <a:pt x="3820" y="9054"/>
                </a:cubicBezTo>
                <a:cubicBezTo>
                  <a:pt x="3801" y="9093"/>
                  <a:pt x="3693" y="9247"/>
                  <a:pt x="3721" y="9302"/>
                </a:cubicBezTo>
                <a:cubicBezTo>
                  <a:pt x="3729" y="9302"/>
                  <a:pt x="3738" y="9302"/>
                  <a:pt x="3746" y="9302"/>
                </a:cubicBezTo>
              </a:path>
              <a:path w="2059" h="870">
                <a:moveTo>
                  <a:pt x="4713" y="8682"/>
                </a:moveTo>
                <a:cubicBezTo>
                  <a:pt x="4713" y="8813"/>
                  <a:pt x="4731" y="8929"/>
                  <a:pt x="4738" y="9054"/>
                </a:cubicBezTo>
                <a:cubicBezTo>
                  <a:pt x="4741" y="9116"/>
                  <a:pt x="4754" y="9199"/>
                  <a:pt x="4787" y="9252"/>
                </a:cubicBezTo>
                <a:cubicBezTo>
                  <a:pt x="4795" y="9260"/>
                  <a:pt x="4804" y="9269"/>
                  <a:pt x="4812" y="9277"/>
                </a:cubicBezTo>
              </a:path>
              <a:path w="2059" h="870">
                <a:moveTo>
                  <a:pt x="4465" y="8905"/>
                </a:moveTo>
                <a:cubicBezTo>
                  <a:pt x="4618" y="8905"/>
                  <a:pt x="4761" y="8925"/>
                  <a:pt x="4911" y="8930"/>
                </a:cubicBezTo>
                <a:cubicBezTo>
                  <a:pt x="4977" y="8930"/>
                  <a:pt x="4994" y="8930"/>
                  <a:pt x="5035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Ink 9"/>
          <p:cNvSpPr/>
          <p:nvPr/>
        </p:nvSpPr>
        <p:spPr>
          <a:xfrm>
            <a:off x="2009880" y="2990880"/>
            <a:ext cx="249120" cy="519120"/>
          </a:xfrm>
          <a:custGeom>
            <a:avLst/>
            <a:gdLst/>
            <a:ahLst/>
            <a:rect l="l" t="t" r="r" b="b"/>
            <a:pathLst>
              <a:path w="696" h="1439">
                <a:moveTo>
                  <a:pt x="5705" y="8582"/>
                </a:moveTo>
                <a:cubicBezTo>
                  <a:pt x="5676" y="8662"/>
                  <a:pt x="5640" y="8730"/>
                  <a:pt x="5606" y="8806"/>
                </a:cubicBezTo>
                <a:cubicBezTo>
                  <a:pt x="5573" y="8878"/>
                  <a:pt x="5604" y="8901"/>
                  <a:pt x="5680" y="8905"/>
                </a:cubicBezTo>
                <a:cubicBezTo>
                  <a:pt x="5779" y="8911"/>
                  <a:pt x="5908" y="8948"/>
                  <a:pt x="6003" y="8979"/>
                </a:cubicBezTo>
                <a:cubicBezTo>
                  <a:pt x="6051" y="9003"/>
                  <a:pt x="6065" y="9012"/>
                  <a:pt x="6102" y="9004"/>
                </a:cubicBezTo>
              </a:path>
              <a:path w="696" h="1439">
                <a:moveTo>
                  <a:pt x="6127" y="8310"/>
                </a:moveTo>
                <a:cubicBezTo>
                  <a:pt x="6097" y="8427"/>
                  <a:pt x="6085" y="8561"/>
                  <a:pt x="6077" y="8682"/>
                </a:cubicBezTo>
                <a:cubicBezTo>
                  <a:pt x="6065" y="8854"/>
                  <a:pt x="6068" y="9035"/>
                  <a:pt x="6102" y="9203"/>
                </a:cubicBezTo>
                <a:cubicBezTo>
                  <a:pt x="6131" y="9347"/>
                  <a:pt x="6199" y="9489"/>
                  <a:pt x="6251" y="9624"/>
                </a:cubicBezTo>
                <a:cubicBezTo>
                  <a:pt x="6279" y="9679"/>
                  <a:pt x="6287" y="9702"/>
                  <a:pt x="6276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Ink 10"/>
          <p:cNvSpPr/>
          <p:nvPr/>
        </p:nvSpPr>
        <p:spPr>
          <a:xfrm>
            <a:off x="2455920" y="3241800"/>
            <a:ext cx="187200" cy="9828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6821" y="9004"/>
                </a:moveTo>
                <a:cubicBezTo>
                  <a:pt x="6935" y="9012"/>
                  <a:pt x="7057" y="9030"/>
                  <a:pt x="7169" y="9054"/>
                </a:cubicBezTo>
                <a:cubicBezTo>
                  <a:pt x="7194" y="9062"/>
                  <a:pt x="7218" y="9071"/>
                  <a:pt x="7243" y="9079"/>
                </a:cubicBezTo>
              </a:path>
              <a:path w="522" h="274">
                <a:moveTo>
                  <a:pt x="6995" y="9227"/>
                </a:moveTo>
                <a:cubicBezTo>
                  <a:pt x="7132" y="9258"/>
                  <a:pt x="7208" y="9286"/>
                  <a:pt x="7342" y="92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Ink 11"/>
          <p:cNvSpPr/>
          <p:nvPr/>
        </p:nvSpPr>
        <p:spPr>
          <a:xfrm>
            <a:off x="2901960" y="3187800"/>
            <a:ext cx="1189080" cy="492120"/>
          </a:xfrm>
          <a:custGeom>
            <a:avLst/>
            <a:gdLst/>
            <a:ahLst/>
            <a:rect l="l" t="t" r="r" b="b"/>
            <a:pathLst>
              <a:path w="3300" h="1366">
                <a:moveTo>
                  <a:pt x="8086" y="8855"/>
                </a:moveTo>
                <a:cubicBezTo>
                  <a:pt x="8086" y="9008"/>
                  <a:pt x="8073" y="9150"/>
                  <a:pt x="8062" y="9302"/>
                </a:cubicBezTo>
                <a:cubicBezTo>
                  <a:pt x="8055" y="9400"/>
                  <a:pt x="8086" y="9498"/>
                  <a:pt x="8086" y="9599"/>
                </a:cubicBezTo>
                <a:cubicBezTo>
                  <a:pt x="8086" y="9678"/>
                  <a:pt x="8073" y="9759"/>
                  <a:pt x="8111" y="9823"/>
                </a:cubicBezTo>
              </a:path>
              <a:path w="3300" h="1366">
                <a:moveTo>
                  <a:pt x="8434" y="8979"/>
                </a:moveTo>
                <a:cubicBezTo>
                  <a:pt x="8394" y="9097"/>
                  <a:pt x="8358" y="9208"/>
                  <a:pt x="8334" y="9327"/>
                </a:cubicBezTo>
                <a:cubicBezTo>
                  <a:pt x="8316" y="9418"/>
                  <a:pt x="8307" y="9561"/>
                  <a:pt x="8359" y="9649"/>
                </a:cubicBezTo>
                <a:cubicBezTo>
                  <a:pt x="8403" y="9723"/>
                  <a:pt x="8504" y="9825"/>
                  <a:pt x="8582" y="9847"/>
                </a:cubicBezTo>
                <a:cubicBezTo>
                  <a:pt x="8645" y="9865"/>
                  <a:pt x="8731" y="9837"/>
                  <a:pt x="8781" y="9798"/>
                </a:cubicBezTo>
                <a:cubicBezTo>
                  <a:pt x="8849" y="9744"/>
                  <a:pt x="8893" y="9634"/>
                  <a:pt x="8905" y="9550"/>
                </a:cubicBezTo>
                <a:cubicBezTo>
                  <a:pt x="8922" y="9433"/>
                  <a:pt x="8921" y="9264"/>
                  <a:pt x="8880" y="9153"/>
                </a:cubicBezTo>
                <a:cubicBezTo>
                  <a:pt x="8853" y="9078"/>
                  <a:pt x="8812" y="8966"/>
                  <a:pt x="8731" y="8930"/>
                </a:cubicBezTo>
                <a:cubicBezTo>
                  <a:pt x="8674" y="8905"/>
                  <a:pt x="8582" y="8891"/>
                  <a:pt x="8533" y="8930"/>
                </a:cubicBezTo>
                <a:cubicBezTo>
                  <a:pt x="8489" y="8965"/>
                  <a:pt x="8446" y="9024"/>
                  <a:pt x="8434" y="9079"/>
                </a:cubicBezTo>
                <a:cubicBezTo>
                  <a:pt x="8434" y="9128"/>
                  <a:pt x="8434" y="9145"/>
                  <a:pt x="8434" y="9178"/>
                </a:cubicBezTo>
              </a:path>
              <a:path w="3300" h="1366">
                <a:moveTo>
                  <a:pt x="9128" y="9227"/>
                </a:moveTo>
                <a:cubicBezTo>
                  <a:pt x="9164" y="9290"/>
                  <a:pt x="9185" y="9369"/>
                  <a:pt x="9227" y="9426"/>
                </a:cubicBezTo>
                <a:cubicBezTo>
                  <a:pt x="9314" y="9544"/>
                  <a:pt x="9448" y="9663"/>
                  <a:pt x="9575" y="9723"/>
                </a:cubicBezTo>
                <a:cubicBezTo>
                  <a:pt x="9631" y="9752"/>
                  <a:pt x="9655" y="9763"/>
                  <a:pt x="9699" y="9773"/>
                </a:cubicBezTo>
              </a:path>
              <a:path w="3300" h="1366">
                <a:moveTo>
                  <a:pt x="9451" y="9103"/>
                </a:moveTo>
                <a:cubicBezTo>
                  <a:pt x="9349" y="9245"/>
                  <a:pt x="9271" y="9380"/>
                  <a:pt x="9178" y="9525"/>
                </a:cubicBezTo>
                <a:cubicBezTo>
                  <a:pt x="9100" y="9646"/>
                  <a:pt x="9045" y="9766"/>
                  <a:pt x="8979" y="9897"/>
                </a:cubicBezTo>
              </a:path>
              <a:path w="3300" h="1366">
                <a:moveTo>
                  <a:pt x="9947" y="9426"/>
                </a:moveTo>
                <a:cubicBezTo>
                  <a:pt x="10074" y="9426"/>
                  <a:pt x="10192" y="9408"/>
                  <a:pt x="10319" y="9401"/>
                </a:cubicBezTo>
              </a:path>
              <a:path w="3300" h="1366">
                <a:moveTo>
                  <a:pt x="11112" y="9302"/>
                </a:moveTo>
                <a:cubicBezTo>
                  <a:pt x="11184" y="9230"/>
                  <a:pt x="11250" y="9182"/>
                  <a:pt x="11261" y="9079"/>
                </a:cubicBezTo>
                <a:cubicBezTo>
                  <a:pt x="11267" y="9019"/>
                  <a:pt x="11238" y="8963"/>
                  <a:pt x="11187" y="8930"/>
                </a:cubicBezTo>
                <a:cubicBezTo>
                  <a:pt x="11104" y="8877"/>
                  <a:pt x="10998" y="8902"/>
                  <a:pt x="10914" y="8930"/>
                </a:cubicBezTo>
                <a:cubicBezTo>
                  <a:pt x="10832" y="8957"/>
                  <a:pt x="10742" y="8984"/>
                  <a:pt x="10716" y="9079"/>
                </a:cubicBezTo>
                <a:cubicBezTo>
                  <a:pt x="10700" y="9136"/>
                  <a:pt x="10712" y="9227"/>
                  <a:pt x="10740" y="9277"/>
                </a:cubicBezTo>
                <a:cubicBezTo>
                  <a:pt x="10783" y="9352"/>
                  <a:pt x="10868" y="9421"/>
                  <a:pt x="10964" y="9401"/>
                </a:cubicBezTo>
                <a:cubicBezTo>
                  <a:pt x="11019" y="9389"/>
                  <a:pt x="11096" y="9339"/>
                  <a:pt x="11137" y="9302"/>
                </a:cubicBezTo>
                <a:cubicBezTo>
                  <a:pt x="11192" y="9253"/>
                  <a:pt x="11213" y="9170"/>
                  <a:pt x="11237" y="9103"/>
                </a:cubicBezTo>
                <a:cubicBezTo>
                  <a:pt x="11227" y="9220"/>
                  <a:pt x="11196" y="9332"/>
                  <a:pt x="11187" y="9451"/>
                </a:cubicBezTo>
                <a:cubicBezTo>
                  <a:pt x="11176" y="9595"/>
                  <a:pt x="11191" y="9736"/>
                  <a:pt x="11237" y="9872"/>
                </a:cubicBezTo>
                <a:cubicBezTo>
                  <a:pt x="11276" y="9985"/>
                  <a:pt x="11315" y="10118"/>
                  <a:pt x="11361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Ink 12"/>
          <p:cNvSpPr/>
          <p:nvPr/>
        </p:nvSpPr>
        <p:spPr>
          <a:xfrm>
            <a:off x="5527800" y="2776680"/>
            <a:ext cx="1179360" cy="696600"/>
          </a:xfrm>
          <a:custGeom>
            <a:avLst/>
            <a:gdLst/>
            <a:ahLst/>
            <a:rect l="l" t="t" r="r" b="b"/>
            <a:pathLst>
              <a:path w="3275" h="1936">
                <a:moveTo>
                  <a:pt x="15776" y="7714"/>
                </a:moveTo>
                <a:cubicBezTo>
                  <a:pt x="15776" y="7850"/>
                  <a:pt x="15766" y="7979"/>
                  <a:pt x="15751" y="8111"/>
                </a:cubicBezTo>
                <a:cubicBezTo>
                  <a:pt x="15742" y="8185"/>
                  <a:pt x="15740" y="8180"/>
                  <a:pt x="15726" y="8235"/>
                </a:cubicBezTo>
              </a:path>
              <a:path w="3275" h="1936">
                <a:moveTo>
                  <a:pt x="15354" y="8384"/>
                </a:moveTo>
                <a:cubicBezTo>
                  <a:pt x="15433" y="8374"/>
                  <a:pt x="15493" y="8359"/>
                  <a:pt x="15577" y="8359"/>
                </a:cubicBezTo>
                <a:cubicBezTo>
                  <a:pt x="15664" y="8359"/>
                  <a:pt x="15744" y="8346"/>
                  <a:pt x="15825" y="8334"/>
                </a:cubicBezTo>
                <a:cubicBezTo>
                  <a:pt x="15896" y="8323"/>
                  <a:pt x="15977" y="8334"/>
                  <a:pt x="16049" y="8334"/>
                </a:cubicBezTo>
              </a:path>
              <a:path w="3275" h="1936">
                <a:moveTo>
                  <a:pt x="15478" y="8558"/>
                </a:moveTo>
                <a:cubicBezTo>
                  <a:pt x="15571" y="8546"/>
                  <a:pt x="15649" y="8484"/>
                  <a:pt x="15751" y="8508"/>
                </a:cubicBezTo>
                <a:cubicBezTo>
                  <a:pt x="15839" y="8529"/>
                  <a:pt x="15802" y="8625"/>
                  <a:pt x="15776" y="8682"/>
                </a:cubicBezTo>
                <a:cubicBezTo>
                  <a:pt x="15737" y="8769"/>
                  <a:pt x="15668" y="8798"/>
                  <a:pt x="15627" y="8880"/>
                </a:cubicBezTo>
                <a:cubicBezTo>
                  <a:pt x="15598" y="8938"/>
                  <a:pt x="15543" y="8975"/>
                  <a:pt x="15503" y="9029"/>
                </a:cubicBezTo>
                <a:cubicBezTo>
                  <a:pt x="15478" y="9054"/>
                  <a:pt x="15470" y="9062"/>
                  <a:pt x="15453" y="9079"/>
                </a:cubicBezTo>
                <a:cubicBezTo>
                  <a:pt x="15528" y="9079"/>
                  <a:pt x="15583" y="9092"/>
                  <a:pt x="15652" y="9103"/>
                </a:cubicBezTo>
                <a:cubicBezTo>
                  <a:pt x="15730" y="9116"/>
                  <a:pt x="15792" y="9128"/>
                  <a:pt x="15875" y="9128"/>
                </a:cubicBezTo>
                <a:cubicBezTo>
                  <a:pt x="15925" y="9128"/>
                  <a:pt x="15941" y="9128"/>
                  <a:pt x="15974" y="9128"/>
                </a:cubicBezTo>
              </a:path>
              <a:path w="3275" h="1936">
                <a:moveTo>
                  <a:pt x="16222" y="8285"/>
                </a:moveTo>
                <a:cubicBezTo>
                  <a:pt x="16267" y="8365"/>
                  <a:pt x="16322" y="8434"/>
                  <a:pt x="16371" y="8508"/>
                </a:cubicBezTo>
                <a:cubicBezTo>
                  <a:pt x="16420" y="8582"/>
                  <a:pt x="16452" y="8579"/>
                  <a:pt x="16520" y="8632"/>
                </a:cubicBezTo>
                <a:cubicBezTo>
                  <a:pt x="16591" y="8688"/>
                  <a:pt x="16599" y="8724"/>
                  <a:pt x="16694" y="8731"/>
                </a:cubicBezTo>
                <a:cubicBezTo>
                  <a:pt x="16702" y="8731"/>
                  <a:pt x="16710" y="8731"/>
                  <a:pt x="16718" y="8731"/>
                </a:cubicBezTo>
              </a:path>
              <a:path w="3275" h="1936">
                <a:moveTo>
                  <a:pt x="16520" y="8186"/>
                </a:moveTo>
                <a:cubicBezTo>
                  <a:pt x="16438" y="8280"/>
                  <a:pt x="16374" y="8389"/>
                  <a:pt x="16297" y="8483"/>
                </a:cubicBezTo>
                <a:cubicBezTo>
                  <a:pt x="16272" y="8514"/>
                  <a:pt x="16169" y="8608"/>
                  <a:pt x="16173" y="8657"/>
                </a:cubicBezTo>
                <a:cubicBezTo>
                  <a:pt x="16181" y="8665"/>
                  <a:pt x="16189" y="8674"/>
                  <a:pt x="16197" y="8682"/>
                </a:cubicBezTo>
              </a:path>
              <a:path w="3275" h="1936">
                <a:moveTo>
                  <a:pt x="17314" y="8235"/>
                </a:moveTo>
                <a:cubicBezTo>
                  <a:pt x="17314" y="8320"/>
                  <a:pt x="17302" y="8380"/>
                  <a:pt x="17289" y="8458"/>
                </a:cubicBezTo>
                <a:cubicBezTo>
                  <a:pt x="17277" y="8532"/>
                  <a:pt x="17310" y="8587"/>
                  <a:pt x="17314" y="8657"/>
                </a:cubicBezTo>
                <a:cubicBezTo>
                  <a:pt x="17314" y="8698"/>
                  <a:pt x="17314" y="8706"/>
                  <a:pt x="17314" y="8731"/>
                </a:cubicBezTo>
              </a:path>
              <a:path w="3275" h="1936">
                <a:moveTo>
                  <a:pt x="17115" y="8483"/>
                </a:moveTo>
                <a:cubicBezTo>
                  <a:pt x="17199" y="8455"/>
                  <a:pt x="17273" y="8458"/>
                  <a:pt x="17363" y="8458"/>
                </a:cubicBezTo>
                <a:cubicBezTo>
                  <a:pt x="17446" y="8458"/>
                  <a:pt x="17462" y="8458"/>
                  <a:pt x="17512" y="8458"/>
                </a:cubicBezTo>
              </a:path>
              <a:path w="3275" h="1936">
                <a:moveTo>
                  <a:pt x="18083" y="7838"/>
                </a:moveTo>
                <a:cubicBezTo>
                  <a:pt x="18173" y="7808"/>
                  <a:pt x="18264" y="7805"/>
                  <a:pt x="18355" y="7764"/>
                </a:cubicBezTo>
                <a:cubicBezTo>
                  <a:pt x="18372" y="7756"/>
                  <a:pt x="18388" y="7747"/>
                  <a:pt x="18405" y="7739"/>
                </a:cubicBezTo>
              </a:path>
              <a:path w="3275" h="1936">
                <a:moveTo>
                  <a:pt x="18083" y="7739"/>
                </a:moveTo>
                <a:cubicBezTo>
                  <a:pt x="18042" y="7817"/>
                  <a:pt x="17940" y="7951"/>
                  <a:pt x="17983" y="8062"/>
                </a:cubicBezTo>
                <a:cubicBezTo>
                  <a:pt x="17991" y="8070"/>
                  <a:pt x="18000" y="8078"/>
                  <a:pt x="18008" y="8086"/>
                </a:cubicBezTo>
                <a:cubicBezTo>
                  <a:pt x="18079" y="8051"/>
                  <a:pt x="18148" y="8015"/>
                  <a:pt x="18231" y="8037"/>
                </a:cubicBezTo>
                <a:cubicBezTo>
                  <a:pt x="18310" y="8058"/>
                  <a:pt x="18398" y="8162"/>
                  <a:pt x="18430" y="8235"/>
                </a:cubicBezTo>
                <a:cubicBezTo>
                  <a:pt x="18452" y="8286"/>
                  <a:pt x="18484" y="8393"/>
                  <a:pt x="18430" y="8434"/>
                </a:cubicBezTo>
                <a:cubicBezTo>
                  <a:pt x="18361" y="8486"/>
                  <a:pt x="18265" y="8496"/>
                  <a:pt x="18182" y="8483"/>
                </a:cubicBezTo>
                <a:cubicBezTo>
                  <a:pt x="18149" y="8475"/>
                  <a:pt x="18116" y="8466"/>
                  <a:pt x="18083" y="8458"/>
                </a:cubicBezTo>
              </a:path>
              <a:path w="3275" h="1936">
                <a:moveTo>
                  <a:pt x="17835" y="8582"/>
                </a:moveTo>
                <a:cubicBezTo>
                  <a:pt x="17953" y="8595"/>
                  <a:pt x="18060" y="8607"/>
                  <a:pt x="18182" y="8607"/>
                </a:cubicBezTo>
                <a:cubicBezTo>
                  <a:pt x="18271" y="8607"/>
                  <a:pt x="18344" y="8588"/>
                  <a:pt x="18430" y="8582"/>
                </a:cubicBezTo>
                <a:cubicBezTo>
                  <a:pt x="18438" y="8582"/>
                  <a:pt x="18447" y="8582"/>
                  <a:pt x="18455" y="8582"/>
                </a:cubicBezTo>
              </a:path>
              <a:path w="3275" h="1936">
                <a:moveTo>
                  <a:pt x="18083" y="8954"/>
                </a:moveTo>
                <a:cubicBezTo>
                  <a:pt x="18119" y="8972"/>
                  <a:pt x="18179" y="8936"/>
                  <a:pt x="18231" y="8905"/>
                </a:cubicBezTo>
                <a:cubicBezTo>
                  <a:pt x="18278" y="8876"/>
                  <a:pt x="18333" y="8810"/>
                  <a:pt x="18405" y="8855"/>
                </a:cubicBezTo>
                <a:cubicBezTo>
                  <a:pt x="18490" y="8908"/>
                  <a:pt x="18439" y="9036"/>
                  <a:pt x="18430" y="9103"/>
                </a:cubicBezTo>
                <a:cubicBezTo>
                  <a:pt x="18419" y="9186"/>
                  <a:pt x="18381" y="9257"/>
                  <a:pt x="18331" y="9327"/>
                </a:cubicBezTo>
                <a:cubicBezTo>
                  <a:pt x="18293" y="9380"/>
                  <a:pt x="18265" y="9462"/>
                  <a:pt x="18207" y="9500"/>
                </a:cubicBezTo>
                <a:cubicBezTo>
                  <a:pt x="18113" y="9561"/>
                  <a:pt x="18080" y="9473"/>
                  <a:pt x="18132" y="9401"/>
                </a:cubicBezTo>
                <a:cubicBezTo>
                  <a:pt x="18183" y="9331"/>
                  <a:pt x="18239" y="9358"/>
                  <a:pt x="18306" y="9401"/>
                </a:cubicBezTo>
                <a:cubicBezTo>
                  <a:pt x="18387" y="9453"/>
                  <a:pt x="18460" y="9555"/>
                  <a:pt x="18529" y="9624"/>
                </a:cubicBezTo>
                <a:cubicBezTo>
                  <a:pt x="18563" y="9658"/>
                  <a:pt x="18584" y="9666"/>
                  <a:pt x="18628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Ink 13"/>
          <p:cNvSpPr/>
          <p:nvPr/>
        </p:nvSpPr>
        <p:spPr>
          <a:xfrm>
            <a:off x="6892920" y="3036960"/>
            <a:ext cx="171360" cy="79200"/>
          </a:xfrm>
          <a:custGeom>
            <a:avLst/>
            <a:gdLst/>
            <a:ahLst/>
            <a:rect l="l" t="t" r="r" b="b"/>
            <a:pathLst>
              <a:path w="473" h="224">
                <a:moveTo>
                  <a:pt x="19149" y="8458"/>
                </a:moveTo>
                <a:cubicBezTo>
                  <a:pt x="19271" y="8458"/>
                  <a:pt x="19347" y="8458"/>
                  <a:pt x="19447" y="8434"/>
                </a:cubicBezTo>
              </a:path>
              <a:path w="473" h="224">
                <a:moveTo>
                  <a:pt x="19273" y="8632"/>
                </a:moveTo>
                <a:cubicBezTo>
                  <a:pt x="19412" y="8645"/>
                  <a:pt x="19493" y="8650"/>
                  <a:pt x="19621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Ink 14"/>
          <p:cNvSpPr/>
          <p:nvPr/>
        </p:nvSpPr>
        <p:spPr>
          <a:xfrm>
            <a:off x="7277040" y="2803680"/>
            <a:ext cx="1036800" cy="928440"/>
          </a:xfrm>
          <a:custGeom>
            <a:avLst/>
            <a:gdLst/>
            <a:ahLst/>
            <a:rect l="l" t="t" r="r" b="b"/>
            <a:pathLst>
              <a:path w="2878" h="2580">
                <a:moveTo>
                  <a:pt x="20340" y="7789"/>
                </a:moveTo>
                <a:cubicBezTo>
                  <a:pt x="20340" y="7944"/>
                  <a:pt x="20345" y="8086"/>
                  <a:pt x="20365" y="8235"/>
                </a:cubicBezTo>
                <a:cubicBezTo>
                  <a:pt x="20376" y="8314"/>
                  <a:pt x="20391" y="8390"/>
                  <a:pt x="20439" y="8458"/>
                </a:cubicBezTo>
                <a:cubicBezTo>
                  <a:pt x="20462" y="8481"/>
                  <a:pt x="20470" y="8485"/>
                  <a:pt x="20464" y="8508"/>
                </a:cubicBezTo>
              </a:path>
              <a:path w="2878" h="2580">
                <a:moveTo>
                  <a:pt x="20216" y="8558"/>
                </a:moveTo>
                <a:cubicBezTo>
                  <a:pt x="20351" y="8579"/>
                  <a:pt x="20476" y="8582"/>
                  <a:pt x="20613" y="8582"/>
                </a:cubicBezTo>
                <a:cubicBezTo>
                  <a:pt x="20697" y="8582"/>
                  <a:pt x="20717" y="8588"/>
                  <a:pt x="20762" y="8558"/>
                </a:cubicBezTo>
              </a:path>
              <a:path w="2878" h="2580">
                <a:moveTo>
                  <a:pt x="20389" y="8880"/>
                </a:moveTo>
                <a:cubicBezTo>
                  <a:pt x="20445" y="8899"/>
                  <a:pt x="20515" y="8880"/>
                  <a:pt x="20588" y="8880"/>
                </a:cubicBezTo>
                <a:cubicBezTo>
                  <a:pt x="20640" y="8880"/>
                  <a:pt x="20734" y="8925"/>
                  <a:pt x="20687" y="9004"/>
                </a:cubicBezTo>
                <a:cubicBezTo>
                  <a:pt x="20654" y="9060"/>
                  <a:pt x="20576" y="9136"/>
                  <a:pt x="20513" y="9178"/>
                </a:cubicBezTo>
                <a:cubicBezTo>
                  <a:pt x="20464" y="9203"/>
                  <a:pt x="20447" y="9211"/>
                  <a:pt x="20414" y="9227"/>
                </a:cubicBezTo>
                <a:cubicBezTo>
                  <a:pt x="20532" y="9273"/>
                  <a:pt x="20627" y="9306"/>
                  <a:pt x="20687" y="9426"/>
                </a:cubicBezTo>
                <a:cubicBezTo>
                  <a:pt x="20720" y="9493"/>
                  <a:pt x="20732" y="9626"/>
                  <a:pt x="20712" y="9699"/>
                </a:cubicBezTo>
                <a:cubicBezTo>
                  <a:pt x="20692" y="9774"/>
                  <a:pt x="20587" y="9847"/>
                  <a:pt x="20513" y="9847"/>
                </a:cubicBezTo>
                <a:cubicBezTo>
                  <a:pt x="20428" y="9847"/>
                  <a:pt x="20366" y="9741"/>
                  <a:pt x="20340" y="9674"/>
                </a:cubicBezTo>
                <a:cubicBezTo>
                  <a:pt x="20332" y="9649"/>
                  <a:pt x="20323" y="9624"/>
                  <a:pt x="20315" y="9599"/>
                </a:cubicBezTo>
              </a:path>
              <a:path w="2878" h="2580">
                <a:moveTo>
                  <a:pt x="21059" y="8632"/>
                </a:moveTo>
                <a:cubicBezTo>
                  <a:pt x="21095" y="8766"/>
                  <a:pt x="21122" y="8860"/>
                  <a:pt x="21233" y="8954"/>
                </a:cubicBezTo>
                <a:cubicBezTo>
                  <a:pt x="21318" y="9026"/>
                  <a:pt x="21418" y="9125"/>
                  <a:pt x="21530" y="9153"/>
                </a:cubicBezTo>
                <a:cubicBezTo>
                  <a:pt x="21547" y="9153"/>
                  <a:pt x="21563" y="9153"/>
                  <a:pt x="21580" y="9153"/>
                </a:cubicBezTo>
              </a:path>
              <a:path w="2878" h="2580">
                <a:moveTo>
                  <a:pt x="21282" y="8682"/>
                </a:moveTo>
                <a:cubicBezTo>
                  <a:pt x="21221" y="8761"/>
                  <a:pt x="21055" y="8919"/>
                  <a:pt x="21010" y="9004"/>
                </a:cubicBezTo>
                <a:cubicBezTo>
                  <a:pt x="21010" y="9056"/>
                  <a:pt x="21011" y="9073"/>
                  <a:pt x="21059" y="9079"/>
                </a:cubicBezTo>
              </a:path>
              <a:path w="2878" h="2580">
                <a:moveTo>
                  <a:pt x="21977" y="8582"/>
                </a:moveTo>
                <a:cubicBezTo>
                  <a:pt x="21977" y="8722"/>
                  <a:pt x="21974" y="8805"/>
                  <a:pt x="22027" y="8930"/>
                </a:cubicBezTo>
                <a:cubicBezTo>
                  <a:pt x="22035" y="8946"/>
                  <a:pt x="22043" y="8963"/>
                  <a:pt x="22051" y="8979"/>
                </a:cubicBezTo>
              </a:path>
              <a:path w="2878" h="2580">
                <a:moveTo>
                  <a:pt x="21828" y="8706"/>
                </a:moveTo>
                <a:cubicBezTo>
                  <a:pt x="21947" y="8701"/>
                  <a:pt x="22038" y="8691"/>
                  <a:pt x="22151" y="8682"/>
                </a:cubicBezTo>
              </a:path>
              <a:path w="2878" h="2580">
                <a:moveTo>
                  <a:pt x="22796" y="8062"/>
                </a:moveTo>
                <a:cubicBezTo>
                  <a:pt x="22796" y="8281"/>
                  <a:pt x="22798" y="8493"/>
                  <a:pt x="22820" y="8706"/>
                </a:cubicBezTo>
                <a:cubicBezTo>
                  <a:pt x="22820" y="8731"/>
                  <a:pt x="22820" y="8756"/>
                  <a:pt x="22820" y="8781"/>
                </a:cubicBezTo>
              </a:path>
              <a:path w="2878" h="2580">
                <a:moveTo>
                  <a:pt x="22547" y="8855"/>
                </a:moveTo>
                <a:cubicBezTo>
                  <a:pt x="22706" y="8839"/>
                  <a:pt x="22864" y="8826"/>
                  <a:pt x="23019" y="8806"/>
                </a:cubicBezTo>
                <a:cubicBezTo>
                  <a:pt x="23035" y="8806"/>
                  <a:pt x="23052" y="8806"/>
                  <a:pt x="23068" y="8806"/>
                </a:cubicBezTo>
              </a:path>
              <a:path w="2878" h="2580">
                <a:moveTo>
                  <a:pt x="22746" y="9252"/>
                </a:moveTo>
                <a:cubicBezTo>
                  <a:pt x="22721" y="9277"/>
                  <a:pt x="22696" y="9302"/>
                  <a:pt x="22671" y="9327"/>
                </a:cubicBezTo>
                <a:cubicBezTo>
                  <a:pt x="22709" y="9364"/>
                  <a:pt x="22769" y="9437"/>
                  <a:pt x="22820" y="9451"/>
                </a:cubicBezTo>
                <a:cubicBezTo>
                  <a:pt x="22916" y="9477"/>
                  <a:pt x="23006" y="9433"/>
                  <a:pt x="23093" y="9401"/>
                </a:cubicBezTo>
              </a:path>
              <a:path w="2878" h="2580">
                <a:moveTo>
                  <a:pt x="23019" y="9277"/>
                </a:moveTo>
                <a:cubicBezTo>
                  <a:pt x="22983" y="9668"/>
                  <a:pt x="22959" y="9975"/>
                  <a:pt x="22994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Ink 15"/>
          <p:cNvSpPr/>
          <p:nvPr/>
        </p:nvSpPr>
        <p:spPr>
          <a:xfrm>
            <a:off x="820800" y="3463920"/>
            <a:ext cx="152280" cy="19080"/>
          </a:xfrm>
          <a:custGeom>
            <a:avLst/>
            <a:gdLst/>
            <a:ahLst/>
            <a:rect l="l" t="t" r="r" b="b"/>
            <a:pathLst>
              <a:path w="423" h="51">
                <a:moveTo>
                  <a:pt x="2282" y="9674"/>
                </a:moveTo>
                <a:cubicBezTo>
                  <a:pt x="2357" y="9631"/>
                  <a:pt x="2418" y="9624"/>
                  <a:pt x="2505" y="9624"/>
                </a:cubicBezTo>
                <a:cubicBezTo>
                  <a:pt x="2596" y="9624"/>
                  <a:pt x="2638" y="9624"/>
                  <a:pt x="2704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Ink 16"/>
          <p:cNvSpPr/>
          <p:nvPr/>
        </p:nvSpPr>
        <p:spPr>
          <a:xfrm>
            <a:off x="1152360" y="3402000"/>
            <a:ext cx="455760" cy="285840"/>
          </a:xfrm>
          <a:custGeom>
            <a:avLst/>
            <a:gdLst/>
            <a:ahLst/>
            <a:rect l="l" t="t" r="r" b="b"/>
            <a:pathLst>
              <a:path w="1266" h="794">
                <a:moveTo>
                  <a:pt x="3274" y="9451"/>
                </a:moveTo>
                <a:cubicBezTo>
                  <a:pt x="3247" y="9584"/>
                  <a:pt x="3206" y="9711"/>
                  <a:pt x="3200" y="9847"/>
                </a:cubicBezTo>
                <a:cubicBezTo>
                  <a:pt x="3196" y="9927"/>
                  <a:pt x="3197" y="10004"/>
                  <a:pt x="3249" y="10071"/>
                </a:cubicBezTo>
                <a:cubicBezTo>
                  <a:pt x="3296" y="10131"/>
                  <a:pt x="3377" y="10158"/>
                  <a:pt x="3448" y="10170"/>
                </a:cubicBezTo>
                <a:cubicBezTo>
                  <a:pt x="3534" y="10185"/>
                  <a:pt x="3601" y="10144"/>
                  <a:pt x="3646" y="10096"/>
                </a:cubicBezTo>
                <a:cubicBezTo>
                  <a:pt x="3717" y="10020"/>
                  <a:pt x="3741" y="10005"/>
                  <a:pt x="3746" y="9897"/>
                </a:cubicBezTo>
                <a:cubicBezTo>
                  <a:pt x="3750" y="9805"/>
                  <a:pt x="3672" y="9786"/>
                  <a:pt x="3597" y="9823"/>
                </a:cubicBezTo>
                <a:cubicBezTo>
                  <a:pt x="3552" y="9845"/>
                  <a:pt x="3506" y="9934"/>
                  <a:pt x="3497" y="9971"/>
                </a:cubicBezTo>
                <a:cubicBezTo>
                  <a:pt x="3482" y="10029"/>
                  <a:pt x="3496" y="10109"/>
                  <a:pt x="3547" y="10145"/>
                </a:cubicBezTo>
                <a:cubicBezTo>
                  <a:pt x="3595" y="10169"/>
                  <a:pt x="3609" y="10177"/>
                  <a:pt x="3646" y="10170"/>
                </a:cubicBezTo>
              </a:path>
              <a:path w="1266" h="794">
                <a:moveTo>
                  <a:pt x="3994" y="9649"/>
                </a:moveTo>
                <a:cubicBezTo>
                  <a:pt x="4042" y="9769"/>
                  <a:pt x="4085" y="9869"/>
                  <a:pt x="4167" y="9971"/>
                </a:cubicBezTo>
                <a:cubicBezTo>
                  <a:pt x="4230" y="10049"/>
                  <a:pt x="4313" y="10110"/>
                  <a:pt x="4390" y="10170"/>
                </a:cubicBezTo>
                <a:cubicBezTo>
                  <a:pt x="4420" y="10200"/>
                  <a:pt x="4434" y="10211"/>
                  <a:pt x="4465" y="10220"/>
                </a:cubicBezTo>
              </a:path>
              <a:path w="1266" h="794">
                <a:moveTo>
                  <a:pt x="4366" y="9674"/>
                </a:moveTo>
                <a:cubicBezTo>
                  <a:pt x="4250" y="9796"/>
                  <a:pt x="4187" y="9890"/>
                  <a:pt x="4093" y="10021"/>
                </a:cubicBezTo>
                <a:cubicBezTo>
                  <a:pt x="4040" y="10095"/>
                  <a:pt x="4005" y="10156"/>
                  <a:pt x="3994" y="102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Ink 17"/>
          <p:cNvSpPr/>
          <p:nvPr/>
        </p:nvSpPr>
        <p:spPr>
          <a:xfrm>
            <a:off x="2687760" y="3606840"/>
            <a:ext cx="696960" cy="304920"/>
          </a:xfrm>
          <a:custGeom>
            <a:avLst/>
            <a:gdLst/>
            <a:ahLst/>
            <a:rect l="l" t="t" r="r" b="b"/>
            <a:pathLst>
              <a:path w="1936" h="844">
                <a:moveTo>
                  <a:pt x="7466" y="10319"/>
                </a:moveTo>
                <a:cubicBezTo>
                  <a:pt x="7606" y="10319"/>
                  <a:pt x="7730" y="10337"/>
                  <a:pt x="7863" y="10319"/>
                </a:cubicBezTo>
              </a:path>
              <a:path w="1936" h="844">
                <a:moveTo>
                  <a:pt x="8260" y="10021"/>
                </a:moveTo>
                <a:cubicBezTo>
                  <a:pt x="8252" y="10124"/>
                  <a:pt x="8225" y="10218"/>
                  <a:pt x="8210" y="10319"/>
                </a:cubicBezTo>
                <a:cubicBezTo>
                  <a:pt x="8199" y="10396"/>
                  <a:pt x="8202" y="10497"/>
                  <a:pt x="8235" y="10567"/>
                </a:cubicBezTo>
                <a:cubicBezTo>
                  <a:pt x="8257" y="10615"/>
                  <a:pt x="8287" y="10706"/>
                  <a:pt x="8334" y="10740"/>
                </a:cubicBezTo>
                <a:cubicBezTo>
                  <a:pt x="8391" y="10781"/>
                  <a:pt x="8467" y="10765"/>
                  <a:pt x="8533" y="10765"/>
                </a:cubicBezTo>
                <a:cubicBezTo>
                  <a:pt x="8633" y="10765"/>
                  <a:pt x="8683" y="10690"/>
                  <a:pt x="8706" y="10592"/>
                </a:cubicBezTo>
                <a:cubicBezTo>
                  <a:pt x="8717" y="10547"/>
                  <a:pt x="8710" y="10420"/>
                  <a:pt x="8657" y="10393"/>
                </a:cubicBezTo>
                <a:cubicBezTo>
                  <a:pt x="8619" y="10374"/>
                  <a:pt x="8496" y="10394"/>
                  <a:pt x="8483" y="10443"/>
                </a:cubicBezTo>
                <a:cubicBezTo>
                  <a:pt x="8453" y="10555"/>
                  <a:pt x="8510" y="10594"/>
                  <a:pt x="8582" y="10666"/>
                </a:cubicBezTo>
              </a:path>
              <a:path w="1936" h="844">
                <a:moveTo>
                  <a:pt x="8880" y="10344"/>
                </a:moveTo>
                <a:cubicBezTo>
                  <a:pt x="8994" y="10542"/>
                  <a:pt x="9071" y="10646"/>
                  <a:pt x="9252" y="10790"/>
                </a:cubicBezTo>
                <a:cubicBezTo>
                  <a:pt x="9324" y="10838"/>
                  <a:pt x="9345" y="10853"/>
                  <a:pt x="9401" y="10864"/>
                </a:cubicBezTo>
              </a:path>
              <a:path w="1936" h="844">
                <a:moveTo>
                  <a:pt x="9227" y="10294"/>
                </a:moveTo>
                <a:cubicBezTo>
                  <a:pt x="9087" y="10402"/>
                  <a:pt x="9002" y="10506"/>
                  <a:pt x="8930" y="10666"/>
                </a:cubicBezTo>
                <a:cubicBezTo>
                  <a:pt x="8900" y="10734"/>
                  <a:pt x="8878" y="10712"/>
                  <a:pt x="8905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Ink 18"/>
          <p:cNvSpPr/>
          <p:nvPr/>
        </p:nvSpPr>
        <p:spPr>
          <a:xfrm>
            <a:off x="3606840" y="3687840"/>
            <a:ext cx="474480" cy="3301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10195" y="10244"/>
                </a:moveTo>
                <a:cubicBezTo>
                  <a:pt x="10195" y="10359"/>
                  <a:pt x="10161" y="10613"/>
                  <a:pt x="10220" y="10740"/>
                </a:cubicBezTo>
                <a:cubicBezTo>
                  <a:pt x="10237" y="10776"/>
                  <a:pt x="10261" y="10798"/>
                  <a:pt x="10269" y="10840"/>
                </a:cubicBezTo>
              </a:path>
              <a:path w="1316" h="919">
                <a:moveTo>
                  <a:pt x="10021" y="10418"/>
                </a:moveTo>
                <a:cubicBezTo>
                  <a:pt x="10171" y="10418"/>
                  <a:pt x="10230" y="10445"/>
                  <a:pt x="10368" y="10492"/>
                </a:cubicBezTo>
                <a:cubicBezTo>
                  <a:pt x="10401" y="10500"/>
                  <a:pt x="10435" y="10509"/>
                  <a:pt x="10468" y="10517"/>
                </a:cubicBezTo>
              </a:path>
              <a:path w="1316" h="919">
                <a:moveTo>
                  <a:pt x="11286" y="10368"/>
                </a:moveTo>
                <a:cubicBezTo>
                  <a:pt x="11199" y="10311"/>
                  <a:pt x="11161" y="10314"/>
                  <a:pt x="11063" y="10344"/>
                </a:cubicBezTo>
                <a:cubicBezTo>
                  <a:pt x="10972" y="10371"/>
                  <a:pt x="10933" y="10386"/>
                  <a:pt x="10889" y="10468"/>
                </a:cubicBezTo>
                <a:cubicBezTo>
                  <a:pt x="10861" y="10521"/>
                  <a:pt x="10890" y="10622"/>
                  <a:pt x="10964" y="10641"/>
                </a:cubicBezTo>
                <a:cubicBezTo>
                  <a:pt x="11032" y="10659"/>
                  <a:pt x="11127" y="10636"/>
                  <a:pt x="11187" y="10616"/>
                </a:cubicBezTo>
                <a:cubicBezTo>
                  <a:pt x="11248" y="10595"/>
                  <a:pt x="11292" y="10561"/>
                  <a:pt x="11336" y="10517"/>
                </a:cubicBezTo>
                <a:cubicBezTo>
                  <a:pt x="11336" y="10614"/>
                  <a:pt x="11299" y="10723"/>
                  <a:pt x="11311" y="10815"/>
                </a:cubicBezTo>
                <a:cubicBezTo>
                  <a:pt x="11325" y="10920"/>
                  <a:pt x="11336" y="11005"/>
                  <a:pt x="11336" y="11112"/>
                </a:cubicBezTo>
                <a:cubicBezTo>
                  <a:pt x="11336" y="11129"/>
                  <a:pt x="11336" y="11145"/>
                  <a:pt x="11336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Ink 19"/>
          <p:cNvSpPr/>
          <p:nvPr/>
        </p:nvSpPr>
        <p:spPr>
          <a:xfrm>
            <a:off x="5402160" y="4000680"/>
            <a:ext cx="554040" cy="393480"/>
          </a:xfrm>
          <a:custGeom>
            <a:avLst/>
            <a:gdLst/>
            <a:ahLst/>
            <a:rect l="l" t="t" r="r" b="b"/>
            <a:pathLst>
              <a:path w="1539" h="1093">
                <a:moveTo>
                  <a:pt x="15007" y="11410"/>
                </a:moveTo>
                <a:cubicBezTo>
                  <a:pt x="15143" y="11410"/>
                  <a:pt x="15229" y="11414"/>
                  <a:pt x="15354" y="11361"/>
                </a:cubicBezTo>
              </a:path>
              <a:path w="1539" h="1093">
                <a:moveTo>
                  <a:pt x="15553" y="11261"/>
                </a:moveTo>
                <a:cubicBezTo>
                  <a:pt x="15510" y="11328"/>
                  <a:pt x="15458" y="11384"/>
                  <a:pt x="15453" y="11460"/>
                </a:cubicBezTo>
                <a:cubicBezTo>
                  <a:pt x="15448" y="11541"/>
                  <a:pt x="15551" y="11587"/>
                  <a:pt x="15627" y="11584"/>
                </a:cubicBezTo>
                <a:cubicBezTo>
                  <a:pt x="15644" y="11576"/>
                  <a:pt x="15660" y="11567"/>
                  <a:pt x="15677" y="11559"/>
                </a:cubicBezTo>
              </a:path>
              <a:path w="1539" h="1093">
                <a:moveTo>
                  <a:pt x="15825" y="11112"/>
                </a:moveTo>
                <a:cubicBezTo>
                  <a:pt x="15825" y="11289"/>
                  <a:pt x="15816" y="11458"/>
                  <a:pt x="15801" y="11633"/>
                </a:cubicBezTo>
                <a:cubicBezTo>
                  <a:pt x="15791" y="11752"/>
                  <a:pt x="15820" y="11864"/>
                  <a:pt x="15825" y="11981"/>
                </a:cubicBezTo>
                <a:cubicBezTo>
                  <a:pt x="15825" y="12022"/>
                  <a:pt x="15817" y="12038"/>
                  <a:pt x="15850" y="12030"/>
                </a:cubicBezTo>
              </a:path>
              <a:path w="1539" h="1093">
                <a:moveTo>
                  <a:pt x="16073" y="11509"/>
                </a:moveTo>
                <a:cubicBezTo>
                  <a:pt x="16138" y="11663"/>
                  <a:pt x="16186" y="11851"/>
                  <a:pt x="16297" y="11981"/>
                </a:cubicBezTo>
                <a:cubicBezTo>
                  <a:pt x="16370" y="12066"/>
                  <a:pt x="16455" y="12139"/>
                  <a:pt x="16545" y="12204"/>
                </a:cubicBezTo>
              </a:path>
              <a:path w="1539" h="1093">
                <a:moveTo>
                  <a:pt x="16545" y="11559"/>
                </a:moveTo>
                <a:cubicBezTo>
                  <a:pt x="16415" y="11701"/>
                  <a:pt x="16232" y="11853"/>
                  <a:pt x="16148" y="12030"/>
                </a:cubicBezTo>
                <a:cubicBezTo>
                  <a:pt x="16121" y="12087"/>
                  <a:pt x="16106" y="12117"/>
                  <a:pt x="16098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Ink 20"/>
          <p:cNvSpPr/>
          <p:nvPr/>
        </p:nvSpPr>
        <p:spPr>
          <a:xfrm>
            <a:off x="6153120" y="4106880"/>
            <a:ext cx="606600" cy="295200"/>
          </a:xfrm>
          <a:custGeom>
            <a:avLst/>
            <a:gdLst/>
            <a:ahLst/>
            <a:rect l="l" t="t" r="r" b="b"/>
            <a:pathLst>
              <a:path w="1688" h="820">
                <a:moveTo>
                  <a:pt x="17090" y="11807"/>
                </a:moveTo>
                <a:cubicBezTo>
                  <a:pt x="17231" y="11807"/>
                  <a:pt x="17371" y="11807"/>
                  <a:pt x="17512" y="11807"/>
                </a:cubicBezTo>
              </a:path>
              <a:path w="1688" h="820">
                <a:moveTo>
                  <a:pt x="17859" y="11410"/>
                </a:moveTo>
                <a:cubicBezTo>
                  <a:pt x="17933" y="11419"/>
                  <a:pt x="18009" y="11442"/>
                  <a:pt x="18058" y="11509"/>
                </a:cubicBezTo>
                <a:cubicBezTo>
                  <a:pt x="18101" y="11568"/>
                  <a:pt x="18092" y="11662"/>
                  <a:pt x="18033" y="11708"/>
                </a:cubicBezTo>
                <a:cubicBezTo>
                  <a:pt x="17988" y="11743"/>
                  <a:pt x="17910" y="11750"/>
                  <a:pt x="17859" y="11757"/>
                </a:cubicBezTo>
                <a:cubicBezTo>
                  <a:pt x="17980" y="11818"/>
                  <a:pt x="18090" y="11874"/>
                  <a:pt x="18157" y="12005"/>
                </a:cubicBezTo>
                <a:cubicBezTo>
                  <a:pt x="18187" y="12064"/>
                  <a:pt x="18124" y="12213"/>
                  <a:pt x="18058" y="12229"/>
                </a:cubicBezTo>
                <a:cubicBezTo>
                  <a:pt x="17965" y="12252"/>
                  <a:pt x="17916" y="12186"/>
                  <a:pt x="17859" y="12129"/>
                </a:cubicBezTo>
                <a:cubicBezTo>
                  <a:pt x="17811" y="12081"/>
                  <a:pt x="17790" y="12041"/>
                  <a:pt x="17760" y="11981"/>
                </a:cubicBezTo>
              </a:path>
              <a:path w="1688" h="820">
                <a:moveTo>
                  <a:pt x="18306" y="11534"/>
                </a:moveTo>
                <a:cubicBezTo>
                  <a:pt x="18293" y="11622"/>
                  <a:pt x="18246" y="11813"/>
                  <a:pt x="18281" y="11906"/>
                </a:cubicBezTo>
                <a:cubicBezTo>
                  <a:pt x="18303" y="11965"/>
                  <a:pt x="18411" y="12095"/>
                  <a:pt x="18479" y="12105"/>
                </a:cubicBezTo>
                <a:cubicBezTo>
                  <a:pt x="18573" y="12119"/>
                  <a:pt x="18678" y="12097"/>
                  <a:pt x="18728" y="12005"/>
                </a:cubicBezTo>
                <a:cubicBezTo>
                  <a:pt x="18770" y="11928"/>
                  <a:pt x="18802" y="11814"/>
                  <a:pt x="18752" y="11733"/>
                </a:cubicBezTo>
                <a:cubicBezTo>
                  <a:pt x="18710" y="11665"/>
                  <a:pt x="18618" y="11573"/>
                  <a:pt x="18554" y="11534"/>
                </a:cubicBezTo>
                <a:cubicBezTo>
                  <a:pt x="18510" y="11512"/>
                  <a:pt x="18499" y="11509"/>
                  <a:pt x="18479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Ink 21"/>
          <p:cNvSpPr/>
          <p:nvPr/>
        </p:nvSpPr>
        <p:spPr>
          <a:xfrm>
            <a:off x="7108920" y="4152960"/>
            <a:ext cx="615960" cy="339840"/>
          </a:xfrm>
          <a:custGeom>
            <a:avLst/>
            <a:gdLst/>
            <a:ahLst/>
            <a:rect l="l" t="t" r="r" b="b"/>
            <a:pathLst>
              <a:path w="1712" h="944">
                <a:moveTo>
                  <a:pt x="19745" y="11782"/>
                </a:moveTo>
                <a:cubicBezTo>
                  <a:pt x="19826" y="11794"/>
                  <a:pt x="19902" y="11828"/>
                  <a:pt x="19993" y="11832"/>
                </a:cubicBezTo>
                <a:cubicBezTo>
                  <a:pt x="20009" y="11832"/>
                  <a:pt x="20026" y="11832"/>
                  <a:pt x="20042" y="11832"/>
                </a:cubicBezTo>
              </a:path>
              <a:path w="1712" h="944">
                <a:moveTo>
                  <a:pt x="20439" y="11658"/>
                </a:moveTo>
                <a:cubicBezTo>
                  <a:pt x="20414" y="11703"/>
                  <a:pt x="20354" y="11785"/>
                  <a:pt x="20340" y="11832"/>
                </a:cubicBezTo>
                <a:cubicBezTo>
                  <a:pt x="20322" y="11894"/>
                  <a:pt x="20402" y="11965"/>
                  <a:pt x="20439" y="12005"/>
                </a:cubicBezTo>
                <a:cubicBezTo>
                  <a:pt x="20490" y="12060"/>
                  <a:pt x="20545" y="12049"/>
                  <a:pt x="20613" y="12055"/>
                </a:cubicBezTo>
              </a:path>
              <a:path w="1712" h="944">
                <a:moveTo>
                  <a:pt x="20786" y="11534"/>
                </a:moveTo>
                <a:cubicBezTo>
                  <a:pt x="20748" y="11661"/>
                  <a:pt x="20716" y="11773"/>
                  <a:pt x="20712" y="11906"/>
                </a:cubicBezTo>
                <a:cubicBezTo>
                  <a:pt x="20709" y="12009"/>
                  <a:pt x="20710" y="12131"/>
                  <a:pt x="20737" y="12229"/>
                </a:cubicBezTo>
                <a:cubicBezTo>
                  <a:pt x="20753" y="12288"/>
                  <a:pt x="20757" y="12354"/>
                  <a:pt x="20786" y="12402"/>
                </a:cubicBezTo>
              </a:path>
              <a:path w="1712" h="944">
                <a:moveTo>
                  <a:pt x="21059" y="11931"/>
                </a:moveTo>
                <a:cubicBezTo>
                  <a:pt x="21181" y="12120"/>
                  <a:pt x="21281" y="12355"/>
                  <a:pt x="21456" y="12477"/>
                </a:cubicBezTo>
              </a:path>
              <a:path w="1712" h="944">
                <a:moveTo>
                  <a:pt x="21456" y="11857"/>
                </a:moveTo>
                <a:cubicBezTo>
                  <a:pt x="21324" y="11964"/>
                  <a:pt x="21181" y="12061"/>
                  <a:pt x="21059" y="12179"/>
                </a:cubicBezTo>
                <a:cubicBezTo>
                  <a:pt x="20985" y="12254"/>
                  <a:pt x="20960" y="12279"/>
                  <a:pt x="20910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Ink 22"/>
          <p:cNvSpPr/>
          <p:nvPr/>
        </p:nvSpPr>
        <p:spPr>
          <a:xfrm>
            <a:off x="7920000" y="4241880"/>
            <a:ext cx="608040" cy="349200"/>
          </a:xfrm>
          <a:custGeom>
            <a:avLst/>
            <a:gdLst/>
            <a:ahLst/>
            <a:rect l="l" t="t" r="r" b="b"/>
            <a:pathLst>
              <a:path w="1687" h="969">
                <a:moveTo>
                  <a:pt x="22002" y="12005"/>
                </a:moveTo>
                <a:cubicBezTo>
                  <a:pt x="22079" y="11999"/>
                  <a:pt x="22148" y="11987"/>
                  <a:pt x="22225" y="11981"/>
                </a:cubicBezTo>
              </a:path>
              <a:path w="1687" h="969">
                <a:moveTo>
                  <a:pt x="22647" y="11782"/>
                </a:moveTo>
                <a:cubicBezTo>
                  <a:pt x="22776" y="11808"/>
                  <a:pt x="22909" y="11844"/>
                  <a:pt x="22994" y="11956"/>
                </a:cubicBezTo>
                <a:cubicBezTo>
                  <a:pt x="23020" y="11991"/>
                  <a:pt x="22989" y="12092"/>
                  <a:pt x="22944" y="12105"/>
                </a:cubicBezTo>
                <a:cubicBezTo>
                  <a:pt x="22875" y="12125"/>
                  <a:pt x="22795" y="12129"/>
                  <a:pt x="22721" y="12129"/>
                </a:cubicBezTo>
                <a:cubicBezTo>
                  <a:pt x="22791" y="12164"/>
                  <a:pt x="22855" y="12220"/>
                  <a:pt x="22920" y="12254"/>
                </a:cubicBezTo>
                <a:cubicBezTo>
                  <a:pt x="23028" y="12310"/>
                  <a:pt x="23064" y="12368"/>
                  <a:pt x="23019" y="12502"/>
                </a:cubicBezTo>
                <a:cubicBezTo>
                  <a:pt x="22997" y="12568"/>
                  <a:pt x="22959" y="12597"/>
                  <a:pt x="22895" y="12601"/>
                </a:cubicBezTo>
                <a:cubicBezTo>
                  <a:pt x="22855" y="12603"/>
                  <a:pt x="22771" y="12583"/>
                  <a:pt x="22746" y="12551"/>
                </a:cubicBezTo>
                <a:cubicBezTo>
                  <a:pt x="22699" y="12491"/>
                  <a:pt x="22696" y="12453"/>
                  <a:pt x="22696" y="12378"/>
                </a:cubicBezTo>
              </a:path>
              <a:path w="1687" h="969">
                <a:moveTo>
                  <a:pt x="23292" y="12179"/>
                </a:moveTo>
                <a:cubicBezTo>
                  <a:pt x="23239" y="12305"/>
                  <a:pt x="23145" y="12458"/>
                  <a:pt x="23217" y="12601"/>
                </a:cubicBezTo>
                <a:cubicBezTo>
                  <a:pt x="23239" y="12645"/>
                  <a:pt x="23390" y="12771"/>
                  <a:pt x="23440" y="12750"/>
                </a:cubicBezTo>
                <a:cubicBezTo>
                  <a:pt x="23514" y="12719"/>
                  <a:pt x="23739" y="12614"/>
                  <a:pt x="23688" y="12477"/>
                </a:cubicBezTo>
                <a:cubicBezTo>
                  <a:pt x="23641" y="12350"/>
                  <a:pt x="23588" y="12268"/>
                  <a:pt x="23490" y="12179"/>
                </a:cubicBezTo>
                <a:cubicBezTo>
                  <a:pt x="23444" y="12133"/>
                  <a:pt x="23432" y="12119"/>
                  <a:pt x="23391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Ink 23"/>
          <p:cNvSpPr/>
          <p:nvPr/>
        </p:nvSpPr>
        <p:spPr>
          <a:xfrm>
            <a:off x="5500800" y="3544920"/>
            <a:ext cx="1581120" cy="447480"/>
          </a:xfrm>
          <a:custGeom>
            <a:avLst/>
            <a:gdLst/>
            <a:ahLst/>
            <a:rect l="l" t="t" r="r" b="b"/>
            <a:pathLst>
              <a:path w="4391" h="1242">
                <a:moveTo>
                  <a:pt x="15553" y="9847"/>
                </a:moveTo>
                <a:cubicBezTo>
                  <a:pt x="15466" y="9947"/>
                  <a:pt x="15459" y="10054"/>
                  <a:pt x="15404" y="10170"/>
                </a:cubicBezTo>
                <a:cubicBezTo>
                  <a:pt x="15349" y="10287"/>
                  <a:pt x="15285" y="10332"/>
                  <a:pt x="15280" y="10468"/>
                </a:cubicBezTo>
                <a:cubicBezTo>
                  <a:pt x="15277" y="10562"/>
                  <a:pt x="15319" y="10643"/>
                  <a:pt x="15379" y="10716"/>
                </a:cubicBezTo>
                <a:cubicBezTo>
                  <a:pt x="15436" y="10785"/>
                  <a:pt x="15540" y="10813"/>
                  <a:pt x="15627" y="10790"/>
                </a:cubicBezTo>
                <a:cubicBezTo>
                  <a:pt x="15745" y="10759"/>
                  <a:pt x="15765" y="10664"/>
                  <a:pt x="15801" y="10567"/>
                </a:cubicBezTo>
                <a:cubicBezTo>
                  <a:pt x="15828" y="10494"/>
                  <a:pt x="15852" y="10360"/>
                  <a:pt x="15751" y="10319"/>
                </a:cubicBezTo>
                <a:cubicBezTo>
                  <a:pt x="15726" y="10319"/>
                  <a:pt x="15702" y="10319"/>
                  <a:pt x="15677" y="10319"/>
                </a:cubicBezTo>
                <a:cubicBezTo>
                  <a:pt x="15616" y="10379"/>
                  <a:pt x="15586" y="10452"/>
                  <a:pt x="15602" y="10542"/>
                </a:cubicBezTo>
                <a:cubicBezTo>
                  <a:pt x="15613" y="10603"/>
                  <a:pt x="15678" y="10703"/>
                  <a:pt x="15726" y="10740"/>
                </a:cubicBezTo>
                <a:cubicBezTo>
                  <a:pt x="15743" y="10748"/>
                  <a:pt x="15759" y="10757"/>
                  <a:pt x="15776" y="10765"/>
                </a:cubicBezTo>
              </a:path>
              <a:path w="4391" h="1242">
                <a:moveTo>
                  <a:pt x="16024" y="10269"/>
                </a:moveTo>
                <a:cubicBezTo>
                  <a:pt x="16047" y="10377"/>
                  <a:pt x="16056" y="10473"/>
                  <a:pt x="16123" y="10567"/>
                </a:cubicBezTo>
                <a:cubicBezTo>
                  <a:pt x="16190" y="10660"/>
                  <a:pt x="16263" y="10740"/>
                  <a:pt x="16346" y="10815"/>
                </a:cubicBezTo>
                <a:cubicBezTo>
                  <a:pt x="16421" y="10882"/>
                  <a:pt x="16444" y="10885"/>
                  <a:pt x="16545" y="10914"/>
                </a:cubicBezTo>
              </a:path>
              <a:path w="4391" h="1242">
                <a:moveTo>
                  <a:pt x="16371" y="10195"/>
                </a:moveTo>
                <a:cubicBezTo>
                  <a:pt x="16268" y="10246"/>
                  <a:pt x="16260" y="10260"/>
                  <a:pt x="16197" y="10344"/>
                </a:cubicBezTo>
                <a:cubicBezTo>
                  <a:pt x="16119" y="10449"/>
                  <a:pt x="16046" y="10542"/>
                  <a:pt x="15999" y="10666"/>
                </a:cubicBezTo>
                <a:cubicBezTo>
                  <a:pt x="15966" y="10752"/>
                  <a:pt x="15954" y="10761"/>
                  <a:pt x="15974" y="10840"/>
                </a:cubicBezTo>
              </a:path>
              <a:path w="4391" h="1242">
                <a:moveTo>
                  <a:pt x="16892" y="10244"/>
                </a:moveTo>
                <a:cubicBezTo>
                  <a:pt x="16905" y="10380"/>
                  <a:pt x="16892" y="10480"/>
                  <a:pt x="16892" y="10616"/>
                </a:cubicBezTo>
                <a:cubicBezTo>
                  <a:pt x="16892" y="10708"/>
                  <a:pt x="16888" y="10804"/>
                  <a:pt x="16917" y="10889"/>
                </a:cubicBezTo>
                <a:cubicBezTo>
                  <a:pt x="16925" y="10906"/>
                  <a:pt x="16934" y="10922"/>
                  <a:pt x="16942" y="10939"/>
                </a:cubicBezTo>
              </a:path>
              <a:path w="4391" h="1242">
                <a:moveTo>
                  <a:pt x="16718" y="10567"/>
                </a:moveTo>
                <a:cubicBezTo>
                  <a:pt x="16879" y="10592"/>
                  <a:pt x="17004" y="10616"/>
                  <a:pt x="17165" y="10616"/>
                </a:cubicBezTo>
                <a:cubicBezTo>
                  <a:pt x="17190" y="10616"/>
                  <a:pt x="17214" y="10616"/>
                  <a:pt x="17239" y="10616"/>
                </a:cubicBezTo>
              </a:path>
              <a:path w="4391" h="1242">
                <a:moveTo>
                  <a:pt x="17636" y="10344"/>
                </a:moveTo>
                <a:cubicBezTo>
                  <a:pt x="17678" y="10302"/>
                  <a:pt x="17725" y="10234"/>
                  <a:pt x="17785" y="10220"/>
                </a:cubicBezTo>
                <a:cubicBezTo>
                  <a:pt x="17854" y="10204"/>
                  <a:pt x="17949" y="10236"/>
                  <a:pt x="18008" y="10269"/>
                </a:cubicBezTo>
                <a:cubicBezTo>
                  <a:pt x="18060" y="10298"/>
                  <a:pt x="18037" y="10385"/>
                  <a:pt x="18008" y="10418"/>
                </a:cubicBezTo>
                <a:cubicBezTo>
                  <a:pt x="17959" y="10476"/>
                  <a:pt x="17876" y="10558"/>
                  <a:pt x="17810" y="10592"/>
                </a:cubicBezTo>
                <a:cubicBezTo>
                  <a:pt x="17749" y="10612"/>
                  <a:pt x="17734" y="10609"/>
                  <a:pt x="17711" y="10641"/>
                </a:cubicBezTo>
                <a:cubicBezTo>
                  <a:pt x="17807" y="10630"/>
                  <a:pt x="17885" y="10619"/>
                  <a:pt x="17983" y="10641"/>
                </a:cubicBezTo>
                <a:cubicBezTo>
                  <a:pt x="18063" y="10659"/>
                  <a:pt x="18114" y="10734"/>
                  <a:pt x="18132" y="10815"/>
                </a:cubicBezTo>
                <a:cubicBezTo>
                  <a:pt x="18144" y="10870"/>
                  <a:pt x="18139" y="10947"/>
                  <a:pt x="18107" y="10988"/>
                </a:cubicBezTo>
                <a:cubicBezTo>
                  <a:pt x="18062" y="11045"/>
                  <a:pt x="17950" y="11055"/>
                  <a:pt x="17884" y="11063"/>
                </a:cubicBezTo>
                <a:cubicBezTo>
                  <a:pt x="17812" y="11072"/>
                  <a:pt x="17783" y="11062"/>
                  <a:pt x="17735" y="11013"/>
                </a:cubicBezTo>
                <a:cubicBezTo>
                  <a:pt x="17708" y="10985"/>
                  <a:pt x="17700" y="10971"/>
                  <a:pt x="17711" y="10939"/>
                </a:cubicBezTo>
              </a:path>
              <a:path w="4391" h="1242">
                <a:moveTo>
                  <a:pt x="18331" y="10418"/>
                </a:moveTo>
                <a:cubicBezTo>
                  <a:pt x="18291" y="10538"/>
                  <a:pt x="18262" y="10639"/>
                  <a:pt x="18256" y="10765"/>
                </a:cubicBezTo>
                <a:cubicBezTo>
                  <a:pt x="18252" y="10854"/>
                  <a:pt x="18268" y="10986"/>
                  <a:pt x="18355" y="11038"/>
                </a:cubicBezTo>
                <a:cubicBezTo>
                  <a:pt x="18405" y="11068"/>
                  <a:pt x="18518" y="11110"/>
                  <a:pt x="18579" y="11088"/>
                </a:cubicBezTo>
                <a:cubicBezTo>
                  <a:pt x="18704" y="11043"/>
                  <a:pt x="18757" y="10918"/>
                  <a:pt x="18777" y="10790"/>
                </a:cubicBezTo>
                <a:cubicBezTo>
                  <a:pt x="18798" y="10658"/>
                  <a:pt x="18758" y="10458"/>
                  <a:pt x="18653" y="10368"/>
                </a:cubicBezTo>
                <a:cubicBezTo>
                  <a:pt x="18593" y="10317"/>
                  <a:pt x="18485" y="10237"/>
                  <a:pt x="18405" y="10220"/>
                </a:cubicBezTo>
                <a:cubicBezTo>
                  <a:pt x="18364" y="10220"/>
                  <a:pt x="18356" y="10220"/>
                  <a:pt x="18331" y="10220"/>
                </a:cubicBezTo>
              </a:path>
              <a:path w="4391" h="1242">
                <a:moveTo>
                  <a:pt x="19149" y="10468"/>
                </a:moveTo>
                <a:cubicBezTo>
                  <a:pt x="19288" y="10468"/>
                  <a:pt x="19441" y="10487"/>
                  <a:pt x="19571" y="10443"/>
                </a:cubicBezTo>
              </a:path>
              <a:path w="4391" h="1242">
                <a:moveTo>
                  <a:pt x="19248" y="10616"/>
                </a:moveTo>
                <a:cubicBezTo>
                  <a:pt x="19395" y="10675"/>
                  <a:pt x="19515" y="10727"/>
                  <a:pt x="19670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Ink 24"/>
          <p:cNvSpPr/>
          <p:nvPr/>
        </p:nvSpPr>
        <p:spPr>
          <a:xfrm>
            <a:off x="7259760" y="3687840"/>
            <a:ext cx="662040" cy="403200"/>
          </a:xfrm>
          <a:custGeom>
            <a:avLst/>
            <a:gdLst/>
            <a:ahLst/>
            <a:rect l="l" t="t" r="r" b="b"/>
            <a:pathLst>
              <a:path w="1837" h="1118">
                <a:moveTo>
                  <a:pt x="20241" y="10368"/>
                </a:moveTo>
                <a:cubicBezTo>
                  <a:pt x="20233" y="10425"/>
                  <a:pt x="20210" y="10486"/>
                  <a:pt x="20191" y="10542"/>
                </a:cubicBezTo>
                <a:cubicBezTo>
                  <a:pt x="20164" y="10623"/>
                  <a:pt x="20162" y="10645"/>
                  <a:pt x="20216" y="10716"/>
                </a:cubicBezTo>
                <a:cubicBezTo>
                  <a:pt x="20251" y="10762"/>
                  <a:pt x="20320" y="10742"/>
                  <a:pt x="20365" y="10765"/>
                </a:cubicBezTo>
                <a:cubicBezTo>
                  <a:pt x="20428" y="10797"/>
                  <a:pt x="20477" y="10802"/>
                  <a:pt x="20538" y="10765"/>
                </a:cubicBezTo>
              </a:path>
              <a:path w="1837" h="1118">
                <a:moveTo>
                  <a:pt x="20563" y="10244"/>
                </a:moveTo>
                <a:cubicBezTo>
                  <a:pt x="20530" y="10343"/>
                  <a:pt x="20533" y="10440"/>
                  <a:pt x="20513" y="10542"/>
                </a:cubicBezTo>
                <a:cubicBezTo>
                  <a:pt x="20489" y="10663"/>
                  <a:pt x="20464" y="10764"/>
                  <a:pt x="20464" y="10889"/>
                </a:cubicBezTo>
                <a:cubicBezTo>
                  <a:pt x="20464" y="11009"/>
                  <a:pt x="20483" y="11119"/>
                  <a:pt x="20489" y="11237"/>
                </a:cubicBezTo>
                <a:cubicBezTo>
                  <a:pt x="20492" y="11294"/>
                  <a:pt x="20486" y="11314"/>
                  <a:pt x="20513" y="11361"/>
                </a:cubicBezTo>
              </a:path>
              <a:path w="1837" h="1118">
                <a:moveTo>
                  <a:pt x="20737" y="10691"/>
                </a:moveTo>
                <a:cubicBezTo>
                  <a:pt x="20774" y="10737"/>
                  <a:pt x="20798" y="10795"/>
                  <a:pt x="20836" y="10840"/>
                </a:cubicBezTo>
                <a:cubicBezTo>
                  <a:pt x="20900" y="10917"/>
                  <a:pt x="20921" y="11041"/>
                  <a:pt x="20985" y="11112"/>
                </a:cubicBezTo>
                <a:cubicBezTo>
                  <a:pt x="21042" y="11174"/>
                  <a:pt x="21144" y="11262"/>
                  <a:pt x="21208" y="11286"/>
                </a:cubicBezTo>
              </a:path>
              <a:path w="1837" h="1118">
                <a:moveTo>
                  <a:pt x="21208" y="10616"/>
                </a:moveTo>
                <a:cubicBezTo>
                  <a:pt x="21114" y="10737"/>
                  <a:pt x="20999" y="10832"/>
                  <a:pt x="20935" y="10964"/>
                </a:cubicBezTo>
                <a:cubicBezTo>
                  <a:pt x="20904" y="11028"/>
                  <a:pt x="20852" y="11124"/>
                  <a:pt x="20836" y="11187"/>
                </a:cubicBezTo>
                <a:cubicBezTo>
                  <a:pt x="20826" y="11227"/>
                  <a:pt x="20819" y="11270"/>
                  <a:pt x="20811" y="11311"/>
                </a:cubicBezTo>
              </a:path>
              <a:path w="1837" h="1118">
                <a:moveTo>
                  <a:pt x="21729" y="10691"/>
                </a:moveTo>
                <a:cubicBezTo>
                  <a:pt x="21729" y="10848"/>
                  <a:pt x="21729" y="11005"/>
                  <a:pt x="21729" y="11162"/>
                </a:cubicBezTo>
              </a:path>
              <a:path w="1837" h="1118">
                <a:moveTo>
                  <a:pt x="21580" y="10964"/>
                </a:moveTo>
                <a:cubicBezTo>
                  <a:pt x="21800" y="10997"/>
                  <a:pt x="21818" y="11000"/>
                  <a:pt x="22002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Ink 25"/>
          <p:cNvSpPr/>
          <p:nvPr/>
        </p:nvSpPr>
        <p:spPr>
          <a:xfrm>
            <a:off x="8109000" y="3821040"/>
            <a:ext cx="187200" cy="314280"/>
          </a:xfrm>
          <a:custGeom>
            <a:avLst/>
            <a:gdLst/>
            <a:ahLst/>
            <a:rect l="l" t="t" r="r" b="b"/>
            <a:pathLst>
              <a:path w="522" h="870">
                <a:moveTo>
                  <a:pt x="22523" y="10641"/>
                </a:moveTo>
                <a:cubicBezTo>
                  <a:pt x="22605" y="10610"/>
                  <a:pt x="22625" y="10627"/>
                  <a:pt x="22696" y="10641"/>
                </a:cubicBezTo>
                <a:cubicBezTo>
                  <a:pt x="22761" y="10654"/>
                  <a:pt x="22847" y="10660"/>
                  <a:pt x="22895" y="10716"/>
                </a:cubicBezTo>
                <a:cubicBezTo>
                  <a:pt x="22977" y="10810"/>
                  <a:pt x="22942" y="10852"/>
                  <a:pt x="22870" y="10939"/>
                </a:cubicBezTo>
                <a:cubicBezTo>
                  <a:pt x="22807" y="11016"/>
                  <a:pt x="22710" y="11013"/>
                  <a:pt x="22622" y="11013"/>
                </a:cubicBezTo>
                <a:cubicBezTo>
                  <a:pt x="22597" y="11064"/>
                  <a:pt x="22695" y="10993"/>
                  <a:pt x="22771" y="11013"/>
                </a:cubicBezTo>
                <a:cubicBezTo>
                  <a:pt x="22839" y="11031"/>
                  <a:pt x="22918" y="11054"/>
                  <a:pt x="22969" y="11112"/>
                </a:cubicBezTo>
                <a:cubicBezTo>
                  <a:pt x="23034" y="11186"/>
                  <a:pt x="23068" y="11314"/>
                  <a:pt x="23044" y="11410"/>
                </a:cubicBezTo>
                <a:cubicBezTo>
                  <a:pt x="23023" y="11495"/>
                  <a:pt x="22946" y="11500"/>
                  <a:pt x="22870" y="11485"/>
                </a:cubicBezTo>
                <a:cubicBezTo>
                  <a:pt x="22770" y="11466"/>
                  <a:pt x="22674" y="11453"/>
                  <a:pt x="22572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Ink 26"/>
          <p:cNvSpPr/>
          <p:nvPr/>
        </p:nvSpPr>
        <p:spPr>
          <a:xfrm>
            <a:off x="615960" y="1276200"/>
            <a:ext cx="411120" cy="331920"/>
          </a:xfrm>
          <a:custGeom>
            <a:avLst/>
            <a:gdLst/>
            <a:ahLst/>
            <a:rect l="l" t="t" r="r" b="b"/>
            <a:pathLst>
              <a:path w="1142" h="919">
                <a:moveTo>
                  <a:pt x="1712" y="3671"/>
                </a:moveTo>
                <a:cubicBezTo>
                  <a:pt x="1746" y="3851"/>
                  <a:pt x="1762" y="4046"/>
                  <a:pt x="1811" y="4217"/>
                </a:cubicBezTo>
                <a:cubicBezTo>
                  <a:pt x="1833" y="4294"/>
                  <a:pt x="1830" y="4335"/>
                  <a:pt x="1885" y="4390"/>
                </a:cubicBezTo>
                <a:cubicBezTo>
                  <a:pt x="1947" y="4451"/>
                  <a:pt x="1896" y="4479"/>
                  <a:pt x="1960" y="4415"/>
                </a:cubicBezTo>
              </a:path>
              <a:path w="1142" h="919">
                <a:moveTo>
                  <a:pt x="2009" y="3696"/>
                </a:moveTo>
                <a:cubicBezTo>
                  <a:pt x="2031" y="3674"/>
                  <a:pt x="2143" y="3520"/>
                  <a:pt x="2208" y="3547"/>
                </a:cubicBezTo>
                <a:cubicBezTo>
                  <a:pt x="2292" y="3582"/>
                  <a:pt x="2328" y="3637"/>
                  <a:pt x="2332" y="3721"/>
                </a:cubicBezTo>
                <a:cubicBezTo>
                  <a:pt x="2336" y="3812"/>
                  <a:pt x="2295" y="3881"/>
                  <a:pt x="2282" y="3969"/>
                </a:cubicBezTo>
                <a:cubicBezTo>
                  <a:pt x="2271" y="4044"/>
                  <a:pt x="2236" y="4083"/>
                  <a:pt x="2232" y="4167"/>
                </a:cubicBezTo>
                <a:cubicBezTo>
                  <a:pt x="2232" y="4184"/>
                  <a:pt x="2232" y="4200"/>
                  <a:pt x="2232" y="4217"/>
                </a:cubicBezTo>
                <a:cubicBezTo>
                  <a:pt x="2365" y="4217"/>
                  <a:pt x="2443" y="4181"/>
                  <a:pt x="2555" y="4118"/>
                </a:cubicBezTo>
                <a:cubicBezTo>
                  <a:pt x="2586" y="4100"/>
                  <a:pt x="2812" y="3976"/>
                  <a:pt x="2853" y="4018"/>
                </a:cubicBezTo>
                <a:cubicBezTo>
                  <a:pt x="2845" y="4026"/>
                  <a:pt x="2836" y="4035"/>
                  <a:pt x="2828" y="40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Ink 27"/>
          <p:cNvSpPr/>
          <p:nvPr/>
        </p:nvSpPr>
        <p:spPr>
          <a:xfrm>
            <a:off x="6161040" y="2625840"/>
            <a:ext cx="9720" cy="160200"/>
          </a:xfrm>
          <a:custGeom>
            <a:avLst/>
            <a:gdLst/>
            <a:ahLst/>
            <a:rect l="l" t="t" r="r" b="b"/>
            <a:pathLst>
              <a:path w="26" h="447">
                <a:moveTo>
                  <a:pt x="17115" y="7293"/>
                </a:moveTo>
                <a:cubicBezTo>
                  <a:pt x="17115" y="7423"/>
                  <a:pt x="17119" y="7543"/>
                  <a:pt x="17140" y="7665"/>
                </a:cubicBezTo>
                <a:cubicBezTo>
                  <a:pt x="17140" y="7706"/>
                  <a:pt x="17140" y="7714"/>
                  <a:pt x="17140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Ink 28"/>
          <p:cNvSpPr/>
          <p:nvPr/>
        </p:nvSpPr>
        <p:spPr>
          <a:xfrm>
            <a:off x="6180120" y="2571840"/>
            <a:ext cx="106560" cy="1792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17165" y="7193"/>
                </a:moveTo>
                <a:cubicBezTo>
                  <a:pt x="17226" y="7147"/>
                  <a:pt x="17269" y="7114"/>
                  <a:pt x="17338" y="7169"/>
                </a:cubicBezTo>
                <a:cubicBezTo>
                  <a:pt x="17396" y="7214"/>
                  <a:pt x="17388" y="7247"/>
                  <a:pt x="17388" y="7317"/>
                </a:cubicBezTo>
                <a:cubicBezTo>
                  <a:pt x="17388" y="7420"/>
                  <a:pt x="17334" y="7429"/>
                  <a:pt x="17314" y="7516"/>
                </a:cubicBezTo>
                <a:cubicBezTo>
                  <a:pt x="17295" y="7596"/>
                  <a:pt x="17310" y="7635"/>
                  <a:pt x="17388" y="7640"/>
                </a:cubicBezTo>
                <a:cubicBezTo>
                  <a:pt x="17429" y="7640"/>
                  <a:pt x="17437" y="7640"/>
                  <a:pt x="17462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Ink 29"/>
          <p:cNvSpPr/>
          <p:nvPr/>
        </p:nvSpPr>
        <p:spPr>
          <a:xfrm>
            <a:off x="6367320" y="2751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86" y="7640"/>
                </a:moveTo>
                <a:lnTo>
                  <a:pt x="17686" y="764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Ink 30"/>
          <p:cNvSpPr/>
          <p:nvPr/>
        </p:nvSpPr>
        <p:spPr>
          <a:xfrm>
            <a:off x="7010280" y="2633760"/>
            <a:ext cx="27000" cy="196920"/>
          </a:xfrm>
          <a:custGeom>
            <a:avLst/>
            <a:gdLst/>
            <a:ahLst/>
            <a:rect l="l" t="t" r="r" b="b"/>
            <a:pathLst>
              <a:path w="75" h="547">
                <a:moveTo>
                  <a:pt x="19472" y="7317"/>
                </a:moveTo>
                <a:cubicBezTo>
                  <a:pt x="19472" y="7412"/>
                  <a:pt x="19470" y="7505"/>
                  <a:pt x="19496" y="7590"/>
                </a:cubicBezTo>
                <a:cubicBezTo>
                  <a:pt x="19522" y="7676"/>
                  <a:pt x="19546" y="7717"/>
                  <a:pt x="19546" y="7813"/>
                </a:cubicBezTo>
                <a:cubicBezTo>
                  <a:pt x="19546" y="7830"/>
                  <a:pt x="19546" y="7846"/>
                  <a:pt x="19546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Ink 31"/>
          <p:cNvSpPr/>
          <p:nvPr/>
        </p:nvSpPr>
        <p:spPr>
          <a:xfrm>
            <a:off x="7045200" y="2633760"/>
            <a:ext cx="9864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19571" y="7367"/>
                </a:moveTo>
                <a:cubicBezTo>
                  <a:pt x="19598" y="7357"/>
                  <a:pt x="19770" y="7281"/>
                  <a:pt x="19794" y="7367"/>
                </a:cubicBezTo>
                <a:cubicBezTo>
                  <a:pt x="19810" y="7425"/>
                  <a:pt x="19786" y="7546"/>
                  <a:pt x="19745" y="7590"/>
                </a:cubicBezTo>
                <a:cubicBezTo>
                  <a:pt x="19713" y="7624"/>
                  <a:pt x="19569" y="7719"/>
                  <a:pt x="19695" y="7764"/>
                </a:cubicBezTo>
                <a:cubicBezTo>
                  <a:pt x="19746" y="7782"/>
                  <a:pt x="19800" y="7756"/>
                  <a:pt x="19844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Ink 32"/>
          <p:cNvSpPr/>
          <p:nvPr/>
        </p:nvSpPr>
        <p:spPr>
          <a:xfrm>
            <a:off x="7197840" y="2714760"/>
            <a:ext cx="9360" cy="9360"/>
          </a:xfrm>
          <a:custGeom>
            <a:avLst/>
            <a:gdLst/>
            <a:ahLst/>
            <a:rect l="l" t="t" r="r" b="b"/>
            <a:pathLst>
              <a:path w="25" h="25">
                <a:moveTo>
                  <a:pt x="19993" y="7541"/>
                </a:moveTo>
                <a:cubicBezTo>
                  <a:pt x="20001" y="7549"/>
                  <a:pt x="20009" y="7557"/>
                  <a:pt x="20017" y="75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Ink 33"/>
          <p:cNvSpPr/>
          <p:nvPr/>
        </p:nvSpPr>
        <p:spPr>
          <a:xfrm>
            <a:off x="7929720" y="2741760"/>
            <a:ext cx="1728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22027" y="7615"/>
                </a:moveTo>
                <a:cubicBezTo>
                  <a:pt x="22027" y="7727"/>
                  <a:pt x="22040" y="7833"/>
                  <a:pt x="22051" y="7938"/>
                </a:cubicBezTo>
                <a:cubicBezTo>
                  <a:pt x="22059" y="8018"/>
                  <a:pt x="22076" y="8061"/>
                  <a:pt x="22076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Ink 34"/>
          <p:cNvSpPr/>
          <p:nvPr/>
        </p:nvSpPr>
        <p:spPr>
          <a:xfrm>
            <a:off x="8045280" y="273204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22349" y="7590"/>
                </a:moveTo>
                <a:cubicBezTo>
                  <a:pt x="22438" y="7604"/>
                  <a:pt x="22523" y="7614"/>
                  <a:pt x="22498" y="7739"/>
                </a:cubicBezTo>
                <a:cubicBezTo>
                  <a:pt x="22482" y="7817"/>
                  <a:pt x="22416" y="7889"/>
                  <a:pt x="22399" y="7962"/>
                </a:cubicBezTo>
                <a:cubicBezTo>
                  <a:pt x="22364" y="8115"/>
                  <a:pt x="22476" y="8095"/>
                  <a:pt x="22572" y="8086"/>
                </a:cubicBezTo>
                <a:cubicBezTo>
                  <a:pt x="22624" y="8086"/>
                  <a:pt x="22642" y="8085"/>
                  <a:pt x="22671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Ink 35"/>
          <p:cNvSpPr/>
          <p:nvPr/>
        </p:nvSpPr>
        <p:spPr>
          <a:xfrm>
            <a:off x="8143920" y="2973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622" y="8260"/>
                </a:moveTo>
                <a:lnTo>
                  <a:pt x="22622" y="826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Ink 36"/>
          <p:cNvSpPr/>
          <p:nvPr/>
        </p:nvSpPr>
        <p:spPr>
          <a:xfrm>
            <a:off x="5214960" y="4554360"/>
            <a:ext cx="3394080" cy="169920"/>
          </a:xfrm>
          <a:custGeom>
            <a:avLst/>
            <a:gdLst/>
            <a:ahLst/>
            <a:rect l="l" t="t" r="r" b="b"/>
            <a:pathLst>
              <a:path w="9427" h="473">
                <a:moveTo>
                  <a:pt x="23912" y="13072"/>
                </a:moveTo>
                <a:cubicBezTo>
                  <a:pt x="23754" y="13101"/>
                  <a:pt x="23745" y="13114"/>
                  <a:pt x="23589" y="13097"/>
                </a:cubicBezTo>
                <a:cubicBezTo>
                  <a:pt x="23488" y="13086"/>
                  <a:pt x="23394" y="13079"/>
                  <a:pt x="23292" y="13072"/>
                </a:cubicBezTo>
                <a:cubicBezTo>
                  <a:pt x="23197" y="13066"/>
                  <a:pt x="23112" y="13058"/>
                  <a:pt x="23019" y="13047"/>
                </a:cubicBezTo>
                <a:cubicBezTo>
                  <a:pt x="22862" y="13028"/>
                  <a:pt x="22700" y="13025"/>
                  <a:pt x="22547" y="12998"/>
                </a:cubicBezTo>
                <a:cubicBezTo>
                  <a:pt x="22406" y="12973"/>
                  <a:pt x="22266" y="12950"/>
                  <a:pt x="22126" y="12923"/>
                </a:cubicBezTo>
                <a:cubicBezTo>
                  <a:pt x="21970" y="12893"/>
                  <a:pt x="21811" y="12857"/>
                  <a:pt x="21654" y="12849"/>
                </a:cubicBezTo>
                <a:cubicBezTo>
                  <a:pt x="21430" y="12837"/>
                  <a:pt x="21209" y="12826"/>
                  <a:pt x="20985" y="12824"/>
                </a:cubicBezTo>
                <a:cubicBezTo>
                  <a:pt x="20743" y="12821"/>
                  <a:pt x="20505" y="12802"/>
                  <a:pt x="20265" y="12799"/>
                </a:cubicBezTo>
                <a:cubicBezTo>
                  <a:pt x="20057" y="12796"/>
                  <a:pt x="19853" y="12777"/>
                  <a:pt x="19645" y="12774"/>
                </a:cubicBezTo>
                <a:cubicBezTo>
                  <a:pt x="19205" y="12769"/>
                  <a:pt x="18745" y="12785"/>
                  <a:pt x="18306" y="12750"/>
                </a:cubicBezTo>
                <a:cubicBezTo>
                  <a:pt x="17992" y="12725"/>
                  <a:pt x="17679" y="12725"/>
                  <a:pt x="17363" y="12725"/>
                </a:cubicBezTo>
                <a:cubicBezTo>
                  <a:pt x="16981" y="12725"/>
                  <a:pt x="16602" y="12717"/>
                  <a:pt x="16222" y="12700"/>
                </a:cubicBezTo>
                <a:cubicBezTo>
                  <a:pt x="15949" y="12688"/>
                  <a:pt x="15675" y="12689"/>
                  <a:pt x="15404" y="12675"/>
                </a:cubicBezTo>
                <a:cubicBezTo>
                  <a:pt x="15183" y="12664"/>
                  <a:pt x="14952" y="12659"/>
                  <a:pt x="14734" y="12650"/>
                </a:cubicBezTo>
                <a:cubicBezTo>
                  <a:pt x="14643" y="12646"/>
                  <a:pt x="14571" y="12668"/>
                  <a:pt x="14486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Ink 37"/>
          <p:cNvSpPr/>
          <p:nvPr/>
        </p:nvSpPr>
        <p:spPr>
          <a:xfrm>
            <a:off x="5661000" y="4660920"/>
            <a:ext cx="214200" cy="26028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15726" y="13022"/>
                </a:moveTo>
                <a:cubicBezTo>
                  <a:pt x="15795" y="12989"/>
                  <a:pt x="15852" y="12995"/>
                  <a:pt x="15925" y="12973"/>
                </a:cubicBezTo>
                <a:cubicBezTo>
                  <a:pt x="15985" y="12955"/>
                  <a:pt x="16056" y="12929"/>
                  <a:pt x="16123" y="12948"/>
                </a:cubicBezTo>
                <a:cubicBezTo>
                  <a:pt x="16196" y="12968"/>
                  <a:pt x="16241" y="12971"/>
                  <a:pt x="16272" y="13047"/>
                </a:cubicBezTo>
                <a:cubicBezTo>
                  <a:pt x="16326" y="13177"/>
                  <a:pt x="16282" y="13271"/>
                  <a:pt x="16247" y="13395"/>
                </a:cubicBezTo>
                <a:cubicBezTo>
                  <a:pt x="16206" y="13539"/>
                  <a:pt x="16164" y="13546"/>
                  <a:pt x="16049" y="13618"/>
                </a:cubicBezTo>
                <a:cubicBezTo>
                  <a:pt x="15983" y="13660"/>
                  <a:pt x="15978" y="13682"/>
                  <a:pt x="15900" y="13618"/>
                </a:cubicBezTo>
                <a:cubicBezTo>
                  <a:pt x="15839" y="13568"/>
                  <a:pt x="15850" y="13489"/>
                  <a:pt x="15850" y="13419"/>
                </a:cubicBezTo>
                <a:cubicBezTo>
                  <a:pt x="15850" y="13360"/>
                  <a:pt x="15861" y="13359"/>
                  <a:pt x="15900" y="13320"/>
                </a:cubicBezTo>
                <a:cubicBezTo>
                  <a:pt x="15972" y="13368"/>
                  <a:pt x="16028" y="13414"/>
                  <a:pt x="16098" y="13469"/>
                </a:cubicBezTo>
                <a:cubicBezTo>
                  <a:pt x="16165" y="13521"/>
                  <a:pt x="16246" y="13555"/>
                  <a:pt x="16321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Ink 38"/>
          <p:cNvSpPr/>
          <p:nvPr/>
        </p:nvSpPr>
        <p:spPr>
          <a:xfrm>
            <a:off x="5956200" y="4714920"/>
            <a:ext cx="196920" cy="285840"/>
          </a:xfrm>
          <a:custGeom>
            <a:avLst/>
            <a:gdLst/>
            <a:ahLst/>
            <a:rect l="l" t="t" r="r" b="b"/>
            <a:pathLst>
              <a:path w="546" h="795">
                <a:moveTo>
                  <a:pt x="16545" y="13097"/>
                </a:moveTo>
                <a:cubicBezTo>
                  <a:pt x="16627" y="13297"/>
                  <a:pt x="16730" y="13493"/>
                  <a:pt x="16867" y="13667"/>
                </a:cubicBezTo>
                <a:cubicBezTo>
                  <a:pt x="16938" y="13757"/>
                  <a:pt x="16983" y="13864"/>
                  <a:pt x="17090" y="138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Ink 39"/>
          <p:cNvSpPr/>
          <p:nvPr/>
        </p:nvSpPr>
        <p:spPr>
          <a:xfrm>
            <a:off x="5929200" y="4660920"/>
            <a:ext cx="187560" cy="349200"/>
          </a:xfrm>
          <a:custGeom>
            <a:avLst/>
            <a:gdLst/>
            <a:ahLst/>
            <a:rect l="l" t="t" r="r" b="b"/>
            <a:pathLst>
              <a:path w="522" h="968">
                <a:moveTo>
                  <a:pt x="16991" y="12948"/>
                </a:moveTo>
                <a:cubicBezTo>
                  <a:pt x="16846" y="13078"/>
                  <a:pt x="16764" y="13174"/>
                  <a:pt x="16669" y="13345"/>
                </a:cubicBezTo>
                <a:cubicBezTo>
                  <a:pt x="16604" y="13463"/>
                  <a:pt x="16586" y="13590"/>
                  <a:pt x="16545" y="13717"/>
                </a:cubicBezTo>
                <a:cubicBezTo>
                  <a:pt x="16521" y="13791"/>
                  <a:pt x="16486" y="13844"/>
                  <a:pt x="16470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Ink 40"/>
          <p:cNvSpPr/>
          <p:nvPr/>
        </p:nvSpPr>
        <p:spPr>
          <a:xfrm>
            <a:off x="6348240" y="3589200"/>
            <a:ext cx="162000" cy="831960"/>
          </a:xfrm>
          <a:custGeom>
            <a:avLst/>
            <a:gdLst/>
            <a:ahLst/>
            <a:rect l="l" t="t" r="r" b="b"/>
            <a:pathLst>
              <a:path w="448" h="2308">
                <a:moveTo>
                  <a:pt x="18083" y="9971"/>
                </a:moveTo>
                <a:cubicBezTo>
                  <a:pt x="18070" y="10090"/>
                  <a:pt x="17998" y="10159"/>
                  <a:pt x="17959" y="10269"/>
                </a:cubicBezTo>
                <a:cubicBezTo>
                  <a:pt x="17914" y="10396"/>
                  <a:pt x="17887" y="10535"/>
                  <a:pt x="17859" y="10666"/>
                </a:cubicBezTo>
                <a:cubicBezTo>
                  <a:pt x="17808" y="10907"/>
                  <a:pt x="17733" y="11165"/>
                  <a:pt x="17711" y="11410"/>
                </a:cubicBezTo>
                <a:cubicBezTo>
                  <a:pt x="17695" y="11583"/>
                  <a:pt x="17666" y="11759"/>
                  <a:pt x="17661" y="11931"/>
                </a:cubicBezTo>
                <a:cubicBezTo>
                  <a:pt x="17658" y="12036"/>
                  <a:pt x="17641" y="12126"/>
                  <a:pt x="17636" y="12229"/>
                </a:cubicBezTo>
                <a:cubicBezTo>
                  <a:pt x="17636" y="12273"/>
                  <a:pt x="17633" y="12293"/>
                  <a:pt x="17661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Ink 41"/>
          <p:cNvSpPr/>
          <p:nvPr/>
        </p:nvSpPr>
        <p:spPr>
          <a:xfrm>
            <a:off x="6527880" y="4857840"/>
            <a:ext cx="125280" cy="936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8132" y="13519"/>
                </a:moveTo>
                <a:cubicBezTo>
                  <a:pt x="18259" y="13501"/>
                  <a:pt x="18352" y="13494"/>
                  <a:pt x="18479" y="134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Ink 42"/>
          <p:cNvSpPr/>
          <p:nvPr/>
        </p:nvSpPr>
        <p:spPr>
          <a:xfrm>
            <a:off x="6572160" y="4902120"/>
            <a:ext cx="98640" cy="36720"/>
          </a:xfrm>
          <a:custGeom>
            <a:avLst/>
            <a:gdLst/>
            <a:ahLst/>
            <a:rect l="l" t="t" r="r" b="b"/>
            <a:pathLst>
              <a:path w="274" h="100">
                <a:moveTo>
                  <a:pt x="18256" y="13618"/>
                </a:moveTo>
                <a:cubicBezTo>
                  <a:pt x="18331" y="13721"/>
                  <a:pt x="18400" y="13710"/>
                  <a:pt x="18529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Ink 43"/>
          <p:cNvSpPr/>
          <p:nvPr/>
        </p:nvSpPr>
        <p:spPr>
          <a:xfrm>
            <a:off x="6804000" y="4867200"/>
            <a:ext cx="117360" cy="17640"/>
          </a:xfrm>
          <a:custGeom>
            <a:avLst/>
            <a:gdLst/>
            <a:ahLst/>
            <a:rect l="l" t="t" r="r" b="b"/>
            <a:pathLst>
              <a:path w="324" h="50">
                <a:moveTo>
                  <a:pt x="18901" y="13568"/>
                </a:moveTo>
                <a:cubicBezTo>
                  <a:pt x="19057" y="13568"/>
                  <a:pt x="19066" y="13566"/>
                  <a:pt x="19224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Ink 44"/>
          <p:cNvSpPr/>
          <p:nvPr/>
        </p:nvSpPr>
        <p:spPr>
          <a:xfrm>
            <a:off x="7010280" y="4786200"/>
            <a:ext cx="169920" cy="24156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19521" y="13295"/>
                </a:moveTo>
                <a:cubicBezTo>
                  <a:pt x="19634" y="13295"/>
                  <a:pt x="19714" y="13298"/>
                  <a:pt x="19819" y="13345"/>
                </a:cubicBezTo>
                <a:cubicBezTo>
                  <a:pt x="19897" y="13380"/>
                  <a:pt x="19967" y="13448"/>
                  <a:pt x="19943" y="13543"/>
                </a:cubicBezTo>
                <a:cubicBezTo>
                  <a:pt x="19907" y="13685"/>
                  <a:pt x="19746" y="13729"/>
                  <a:pt x="19645" y="13791"/>
                </a:cubicBezTo>
                <a:cubicBezTo>
                  <a:pt x="19578" y="13832"/>
                  <a:pt x="19554" y="13841"/>
                  <a:pt x="19472" y="13841"/>
                </a:cubicBezTo>
                <a:cubicBezTo>
                  <a:pt x="19494" y="13729"/>
                  <a:pt x="19529" y="13719"/>
                  <a:pt x="19645" y="13767"/>
                </a:cubicBezTo>
                <a:cubicBezTo>
                  <a:pt x="19729" y="13802"/>
                  <a:pt x="19759" y="13899"/>
                  <a:pt x="19844" y="13940"/>
                </a:cubicBezTo>
                <a:cubicBezTo>
                  <a:pt x="19869" y="13948"/>
                  <a:pt x="19893" y="13957"/>
                  <a:pt x="19918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Ink 45"/>
          <p:cNvSpPr/>
          <p:nvPr/>
        </p:nvSpPr>
        <p:spPr>
          <a:xfrm>
            <a:off x="7269120" y="4795920"/>
            <a:ext cx="177840" cy="320760"/>
          </a:xfrm>
          <a:custGeom>
            <a:avLst/>
            <a:gdLst/>
            <a:ahLst/>
            <a:rect l="l" t="t" r="r" b="b"/>
            <a:pathLst>
              <a:path w="497" h="894">
                <a:moveTo>
                  <a:pt x="20191" y="13345"/>
                </a:moveTo>
                <a:cubicBezTo>
                  <a:pt x="20318" y="13330"/>
                  <a:pt x="20432" y="13345"/>
                  <a:pt x="20563" y="13345"/>
                </a:cubicBezTo>
                <a:cubicBezTo>
                  <a:pt x="20621" y="13345"/>
                  <a:pt x="20641" y="13342"/>
                  <a:pt x="20687" y="13370"/>
                </a:cubicBezTo>
                <a:cubicBezTo>
                  <a:pt x="20650" y="13443"/>
                  <a:pt x="20591" y="13525"/>
                  <a:pt x="20563" y="13593"/>
                </a:cubicBezTo>
                <a:cubicBezTo>
                  <a:pt x="20482" y="13788"/>
                  <a:pt x="20457" y="14011"/>
                  <a:pt x="20389" y="142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Ink 46"/>
          <p:cNvSpPr/>
          <p:nvPr/>
        </p:nvSpPr>
        <p:spPr>
          <a:xfrm>
            <a:off x="5724360" y="5062680"/>
            <a:ext cx="446400" cy="81000"/>
          </a:xfrm>
          <a:custGeom>
            <a:avLst/>
            <a:gdLst/>
            <a:ahLst/>
            <a:rect l="l" t="t" r="r" b="b"/>
            <a:pathLst>
              <a:path w="1241" h="225">
                <a:moveTo>
                  <a:pt x="17140" y="14064"/>
                </a:moveTo>
                <a:cubicBezTo>
                  <a:pt x="16792" y="14083"/>
                  <a:pt x="16503" y="14089"/>
                  <a:pt x="16173" y="14163"/>
                </a:cubicBezTo>
                <a:cubicBezTo>
                  <a:pt x="16082" y="14183"/>
                  <a:pt x="15999" y="14207"/>
                  <a:pt x="15925" y="14263"/>
                </a:cubicBezTo>
                <a:cubicBezTo>
                  <a:pt x="15917" y="14271"/>
                  <a:pt x="15908" y="14280"/>
                  <a:pt x="15900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Ink 47"/>
          <p:cNvSpPr/>
          <p:nvPr/>
        </p:nvSpPr>
        <p:spPr>
          <a:xfrm>
            <a:off x="5929200" y="5133960"/>
            <a:ext cx="304920" cy="250920"/>
          </a:xfrm>
          <a:custGeom>
            <a:avLst/>
            <a:gdLst/>
            <a:ahLst/>
            <a:rect l="l" t="t" r="r" b="b"/>
            <a:pathLst>
              <a:path w="845" h="695">
                <a:moveTo>
                  <a:pt x="16470" y="14263"/>
                </a:moveTo>
                <a:cubicBezTo>
                  <a:pt x="16599" y="14295"/>
                  <a:pt x="16698" y="14321"/>
                  <a:pt x="16818" y="14387"/>
                </a:cubicBezTo>
                <a:cubicBezTo>
                  <a:pt x="16834" y="14395"/>
                  <a:pt x="16851" y="14404"/>
                  <a:pt x="16867" y="14412"/>
                </a:cubicBezTo>
                <a:cubicBezTo>
                  <a:pt x="16851" y="14499"/>
                  <a:pt x="16836" y="14550"/>
                  <a:pt x="16743" y="14585"/>
                </a:cubicBezTo>
                <a:cubicBezTo>
                  <a:pt x="16689" y="14605"/>
                  <a:pt x="16498" y="14638"/>
                  <a:pt x="16545" y="14759"/>
                </a:cubicBezTo>
                <a:cubicBezTo>
                  <a:pt x="16596" y="14890"/>
                  <a:pt x="16740" y="14943"/>
                  <a:pt x="16867" y="14957"/>
                </a:cubicBezTo>
                <a:cubicBezTo>
                  <a:pt x="17060" y="14957"/>
                  <a:pt x="17169" y="14942"/>
                  <a:pt x="17314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Ink 48"/>
          <p:cNvSpPr/>
          <p:nvPr/>
        </p:nvSpPr>
        <p:spPr>
          <a:xfrm>
            <a:off x="6946920" y="5089680"/>
            <a:ext cx="357120" cy="18720"/>
          </a:xfrm>
          <a:custGeom>
            <a:avLst/>
            <a:gdLst/>
            <a:ahLst/>
            <a:rect l="l" t="t" r="r" b="b"/>
            <a:pathLst>
              <a:path w="993" h="50">
                <a:moveTo>
                  <a:pt x="19298" y="14139"/>
                </a:moveTo>
                <a:cubicBezTo>
                  <a:pt x="19545" y="14144"/>
                  <a:pt x="19774" y="14182"/>
                  <a:pt x="20017" y="14188"/>
                </a:cubicBezTo>
                <a:cubicBezTo>
                  <a:pt x="20142" y="14188"/>
                  <a:pt x="20200" y="14184"/>
                  <a:pt x="20290" y="141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Ink 49"/>
          <p:cNvSpPr/>
          <p:nvPr/>
        </p:nvSpPr>
        <p:spPr>
          <a:xfrm>
            <a:off x="7054920" y="5160960"/>
            <a:ext cx="249120" cy="403200"/>
          </a:xfrm>
          <a:custGeom>
            <a:avLst/>
            <a:gdLst/>
            <a:ahLst/>
            <a:rect l="l" t="t" r="r" b="b"/>
            <a:pathLst>
              <a:path w="695" h="1117">
                <a:moveTo>
                  <a:pt x="19596" y="14337"/>
                </a:moveTo>
                <a:cubicBezTo>
                  <a:pt x="19666" y="14408"/>
                  <a:pt x="19771" y="14425"/>
                  <a:pt x="19869" y="14436"/>
                </a:cubicBezTo>
                <a:cubicBezTo>
                  <a:pt x="19955" y="14446"/>
                  <a:pt x="20042" y="14455"/>
                  <a:pt x="20067" y="14560"/>
                </a:cubicBezTo>
                <a:cubicBezTo>
                  <a:pt x="20083" y="14628"/>
                  <a:pt x="20015" y="14677"/>
                  <a:pt x="19968" y="14709"/>
                </a:cubicBezTo>
                <a:cubicBezTo>
                  <a:pt x="19904" y="14753"/>
                  <a:pt x="19796" y="14775"/>
                  <a:pt x="19745" y="14833"/>
                </a:cubicBezTo>
                <a:cubicBezTo>
                  <a:pt x="19652" y="14937"/>
                  <a:pt x="19744" y="15021"/>
                  <a:pt x="19819" y="15106"/>
                </a:cubicBezTo>
                <a:cubicBezTo>
                  <a:pt x="19933" y="15234"/>
                  <a:pt x="20073" y="15317"/>
                  <a:pt x="20216" y="15404"/>
                </a:cubicBezTo>
                <a:cubicBezTo>
                  <a:pt x="20241" y="15420"/>
                  <a:pt x="20265" y="15437"/>
                  <a:pt x="20290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Ink 50"/>
          <p:cNvSpPr/>
          <p:nvPr/>
        </p:nvSpPr>
        <p:spPr>
          <a:xfrm>
            <a:off x="5705640" y="4599000"/>
            <a:ext cx="277560" cy="704880"/>
          </a:xfrm>
          <a:custGeom>
            <a:avLst/>
            <a:gdLst/>
            <a:ahLst/>
            <a:rect l="l" t="t" r="r" b="b"/>
            <a:pathLst>
              <a:path w="770" h="1961">
                <a:moveTo>
                  <a:pt x="15850" y="12774"/>
                </a:moveTo>
                <a:cubicBezTo>
                  <a:pt x="15932" y="13104"/>
                  <a:pt x="16030" y="13360"/>
                  <a:pt x="16173" y="13667"/>
                </a:cubicBezTo>
                <a:cubicBezTo>
                  <a:pt x="16337" y="14019"/>
                  <a:pt x="16479" y="14373"/>
                  <a:pt x="16619" y="147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8.  0.04x+0.08(20-x)=1.4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066680" y="1600200"/>
          <a:ext cx="2205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2205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Ink 5"/>
          <p:cNvSpPr/>
          <p:nvPr/>
        </p:nvSpPr>
        <p:spPr>
          <a:xfrm>
            <a:off x="223920" y="1251000"/>
            <a:ext cx="1490760" cy="3062160"/>
          </a:xfrm>
          <a:custGeom>
            <a:avLst/>
            <a:gdLst/>
            <a:ahLst/>
            <a:rect l="l" t="t" r="r" b="b"/>
            <a:pathLst>
              <a:path w="4143" h="8509">
                <a:moveTo>
                  <a:pt x="3621" y="4514"/>
                </a:moveTo>
                <a:cubicBezTo>
                  <a:pt x="3529" y="4493"/>
                  <a:pt x="3446" y="4479"/>
                  <a:pt x="3349" y="4490"/>
                </a:cubicBezTo>
                <a:cubicBezTo>
                  <a:pt x="3256" y="4501"/>
                  <a:pt x="3165" y="4519"/>
                  <a:pt x="3076" y="4539"/>
                </a:cubicBezTo>
                <a:cubicBezTo>
                  <a:pt x="3021" y="4551"/>
                  <a:pt x="2941" y="4567"/>
                  <a:pt x="2902" y="4614"/>
                </a:cubicBezTo>
                <a:cubicBezTo>
                  <a:pt x="2846" y="4682"/>
                  <a:pt x="2877" y="4652"/>
                  <a:pt x="2877" y="4738"/>
                </a:cubicBezTo>
                <a:cubicBezTo>
                  <a:pt x="2877" y="4815"/>
                  <a:pt x="2868" y="4887"/>
                  <a:pt x="2853" y="4961"/>
                </a:cubicBezTo>
                <a:cubicBezTo>
                  <a:pt x="2826" y="5094"/>
                  <a:pt x="2781" y="5224"/>
                  <a:pt x="2753" y="5358"/>
                </a:cubicBezTo>
                <a:cubicBezTo>
                  <a:pt x="2715" y="5539"/>
                  <a:pt x="2683" y="5719"/>
                  <a:pt x="2679" y="5904"/>
                </a:cubicBezTo>
                <a:cubicBezTo>
                  <a:pt x="2673" y="6228"/>
                  <a:pt x="2683" y="6548"/>
                  <a:pt x="2704" y="6871"/>
                </a:cubicBezTo>
                <a:cubicBezTo>
                  <a:pt x="2707" y="6924"/>
                  <a:pt x="2695" y="7052"/>
                  <a:pt x="2729" y="7094"/>
                </a:cubicBezTo>
                <a:cubicBezTo>
                  <a:pt x="2746" y="7114"/>
                  <a:pt x="2872" y="7137"/>
                  <a:pt x="2902" y="7144"/>
                </a:cubicBezTo>
                <a:cubicBezTo>
                  <a:pt x="3144" y="7200"/>
                  <a:pt x="3351" y="7218"/>
                  <a:pt x="3597" y="7218"/>
                </a:cubicBezTo>
                <a:cubicBezTo>
                  <a:pt x="3830" y="7218"/>
                  <a:pt x="4144" y="7224"/>
                  <a:pt x="4366" y="7144"/>
                </a:cubicBezTo>
                <a:cubicBezTo>
                  <a:pt x="4498" y="7086"/>
                  <a:pt x="4630" y="7028"/>
                  <a:pt x="4762" y="6970"/>
                </a:cubicBezTo>
              </a:path>
              <a:path w="4143" h="8509">
                <a:moveTo>
                  <a:pt x="1984" y="3994"/>
                </a:moveTo>
                <a:cubicBezTo>
                  <a:pt x="2020" y="3922"/>
                  <a:pt x="2046" y="3864"/>
                  <a:pt x="2133" y="3845"/>
                </a:cubicBezTo>
                <a:cubicBezTo>
                  <a:pt x="2279" y="3813"/>
                  <a:pt x="2299" y="3874"/>
                  <a:pt x="2381" y="3969"/>
                </a:cubicBezTo>
                <a:cubicBezTo>
                  <a:pt x="2463" y="4064"/>
                  <a:pt x="2508" y="4174"/>
                  <a:pt x="2456" y="4291"/>
                </a:cubicBezTo>
                <a:cubicBezTo>
                  <a:pt x="2443" y="4322"/>
                  <a:pt x="2394" y="4404"/>
                  <a:pt x="2356" y="4415"/>
                </a:cubicBezTo>
                <a:cubicBezTo>
                  <a:pt x="2340" y="4415"/>
                  <a:pt x="2323" y="4415"/>
                  <a:pt x="2307" y="4415"/>
                </a:cubicBezTo>
                <a:cubicBezTo>
                  <a:pt x="2307" y="4311"/>
                  <a:pt x="2302" y="4316"/>
                  <a:pt x="2406" y="4316"/>
                </a:cubicBezTo>
                <a:cubicBezTo>
                  <a:pt x="2524" y="4316"/>
                  <a:pt x="2538" y="4300"/>
                  <a:pt x="2629" y="4217"/>
                </a:cubicBezTo>
              </a:path>
              <a:path w="4143" h="8509">
                <a:moveTo>
                  <a:pt x="2530" y="3721"/>
                </a:moveTo>
                <a:cubicBezTo>
                  <a:pt x="2534" y="3803"/>
                  <a:pt x="2506" y="3977"/>
                  <a:pt x="2654" y="3944"/>
                </a:cubicBezTo>
                <a:cubicBezTo>
                  <a:pt x="2739" y="3925"/>
                  <a:pt x="2816" y="3850"/>
                  <a:pt x="2877" y="3795"/>
                </a:cubicBezTo>
              </a:path>
              <a:path w="4143" h="8509">
                <a:moveTo>
                  <a:pt x="2778" y="3473"/>
                </a:moveTo>
                <a:cubicBezTo>
                  <a:pt x="2808" y="3662"/>
                  <a:pt x="2871" y="3832"/>
                  <a:pt x="2902" y="4018"/>
                </a:cubicBezTo>
                <a:cubicBezTo>
                  <a:pt x="2914" y="4093"/>
                  <a:pt x="2945" y="4111"/>
                  <a:pt x="3001" y="4167"/>
                </a:cubicBezTo>
              </a:path>
              <a:path w="4143" h="8509">
                <a:moveTo>
                  <a:pt x="2704" y="5680"/>
                </a:moveTo>
                <a:cubicBezTo>
                  <a:pt x="2752" y="5776"/>
                  <a:pt x="2815" y="5761"/>
                  <a:pt x="2778" y="5879"/>
                </a:cubicBezTo>
                <a:cubicBezTo>
                  <a:pt x="2750" y="5968"/>
                  <a:pt x="2659" y="5993"/>
                  <a:pt x="2604" y="6052"/>
                </a:cubicBezTo>
                <a:cubicBezTo>
                  <a:pt x="2521" y="6142"/>
                  <a:pt x="2446" y="6241"/>
                  <a:pt x="2356" y="6325"/>
                </a:cubicBezTo>
                <a:cubicBezTo>
                  <a:pt x="2234" y="6439"/>
                  <a:pt x="2097" y="6549"/>
                  <a:pt x="1984" y="6672"/>
                </a:cubicBezTo>
                <a:cubicBezTo>
                  <a:pt x="1816" y="6856"/>
                  <a:pt x="1652" y="7063"/>
                  <a:pt x="1513" y="7268"/>
                </a:cubicBezTo>
                <a:cubicBezTo>
                  <a:pt x="1384" y="7458"/>
                  <a:pt x="1231" y="7640"/>
                  <a:pt x="1116" y="7838"/>
                </a:cubicBezTo>
                <a:cubicBezTo>
                  <a:pt x="1006" y="8027"/>
                  <a:pt x="895" y="8231"/>
                  <a:pt x="819" y="8434"/>
                </a:cubicBezTo>
                <a:cubicBezTo>
                  <a:pt x="746" y="8630"/>
                  <a:pt x="687" y="8825"/>
                  <a:pt x="645" y="9029"/>
                </a:cubicBezTo>
                <a:cubicBezTo>
                  <a:pt x="611" y="9196"/>
                  <a:pt x="595" y="9405"/>
                  <a:pt x="620" y="9575"/>
                </a:cubicBezTo>
                <a:cubicBezTo>
                  <a:pt x="647" y="9763"/>
                  <a:pt x="724" y="9909"/>
                  <a:pt x="819" y="10071"/>
                </a:cubicBezTo>
                <a:cubicBezTo>
                  <a:pt x="951" y="10297"/>
                  <a:pt x="1139" y="10475"/>
                  <a:pt x="1339" y="10641"/>
                </a:cubicBezTo>
                <a:cubicBezTo>
                  <a:pt x="1521" y="10792"/>
                  <a:pt x="1707" y="10897"/>
                  <a:pt x="1910" y="11013"/>
                </a:cubicBezTo>
                <a:cubicBezTo>
                  <a:pt x="2000" y="11064"/>
                  <a:pt x="2250" y="11245"/>
                  <a:pt x="2282" y="11162"/>
                </a:cubicBezTo>
                <a:cubicBezTo>
                  <a:pt x="2294" y="11130"/>
                  <a:pt x="2238" y="11040"/>
                  <a:pt x="2232" y="11013"/>
                </a:cubicBezTo>
              </a:path>
              <a:path w="4143" h="8509">
                <a:moveTo>
                  <a:pt x="2084" y="10592"/>
                </a:moveTo>
                <a:cubicBezTo>
                  <a:pt x="2185" y="10667"/>
                  <a:pt x="2286" y="10748"/>
                  <a:pt x="2381" y="10815"/>
                </a:cubicBezTo>
                <a:cubicBezTo>
                  <a:pt x="2495" y="10896"/>
                  <a:pt x="2602" y="10966"/>
                  <a:pt x="2704" y="11063"/>
                </a:cubicBezTo>
                <a:cubicBezTo>
                  <a:pt x="2738" y="11095"/>
                  <a:pt x="2770" y="11129"/>
                  <a:pt x="2803" y="11162"/>
                </a:cubicBezTo>
                <a:cubicBezTo>
                  <a:pt x="2699" y="11229"/>
                  <a:pt x="2663" y="11227"/>
                  <a:pt x="2530" y="11261"/>
                </a:cubicBezTo>
                <a:cubicBezTo>
                  <a:pt x="2249" y="11332"/>
                  <a:pt x="1866" y="11481"/>
                  <a:pt x="1637" y="11658"/>
                </a:cubicBezTo>
                <a:cubicBezTo>
                  <a:pt x="1521" y="11766"/>
                  <a:pt x="1406" y="11873"/>
                  <a:pt x="1290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Ink 6"/>
          <p:cNvSpPr/>
          <p:nvPr/>
        </p:nvSpPr>
        <p:spPr>
          <a:xfrm>
            <a:off x="3036960" y="1571760"/>
            <a:ext cx="401400" cy="1135080"/>
          </a:xfrm>
          <a:custGeom>
            <a:avLst/>
            <a:gdLst/>
            <a:ahLst/>
            <a:rect l="l" t="t" r="r" b="b"/>
            <a:pathLst>
              <a:path w="1117" h="3151">
                <a:moveTo>
                  <a:pt x="8434" y="4415"/>
                </a:moveTo>
                <a:cubicBezTo>
                  <a:pt x="8646" y="4373"/>
                  <a:pt x="8728" y="4384"/>
                  <a:pt x="8930" y="4390"/>
                </a:cubicBezTo>
                <a:cubicBezTo>
                  <a:pt x="9073" y="4394"/>
                  <a:pt x="9224" y="4381"/>
                  <a:pt x="9351" y="4366"/>
                </a:cubicBezTo>
                <a:cubicBezTo>
                  <a:pt x="9368" y="4366"/>
                  <a:pt x="9384" y="4366"/>
                  <a:pt x="9401" y="4366"/>
                </a:cubicBezTo>
                <a:cubicBezTo>
                  <a:pt x="9410" y="4428"/>
                  <a:pt x="9391" y="4492"/>
                  <a:pt x="9401" y="4564"/>
                </a:cubicBezTo>
                <a:cubicBezTo>
                  <a:pt x="9418" y="4679"/>
                  <a:pt x="9413" y="4794"/>
                  <a:pt x="9426" y="4911"/>
                </a:cubicBezTo>
                <a:cubicBezTo>
                  <a:pt x="9447" y="5104"/>
                  <a:pt x="9451" y="5287"/>
                  <a:pt x="9451" y="5482"/>
                </a:cubicBezTo>
                <a:cubicBezTo>
                  <a:pt x="9451" y="5689"/>
                  <a:pt x="9472" y="5897"/>
                  <a:pt x="9500" y="6102"/>
                </a:cubicBezTo>
                <a:cubicBezTo>
                  <a:pt x="9528" y="6309"/>
                  <a:pt x="9564" y="6538"/>
                  <a:pt x="9550" y="6747"/>
                </a:cubicBezTo>
                <a:cubicBezTo>
                  <a:pt x="9535" y="6978"/>
                  <a:pt x="9496" y="7213"/>
                  <a:pt x="9475" y="7441"/>
                </a:cubicBezTo>
                <a:cubicBezTo>
                  <a:pt x="9457" y="7636"/>
                  <a:pt x="9383" y="7409"/>
                  <a:pt x="9351" y="73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Ink 7"/>
          <p:cNvSpPr/>
          <p:nvPr/>
        </p:nvSpPr>
        <p:spPr>
          <a:xfrm>
            <a:off x="965160" y="2901960"/>
            <a:ext cx="3500640" cy="1241280"/>
          </a:xfrm>
          <a:custGeom>
            <a:avLst/>
            <a:gdLst/>
            <a:ahLst/>
            <a:rect l="l" t="t" r="r" b="b"/>
            <a:pathLst>
              <a:path w="9724" h="3448">
                <a:moveTo>
                  <a:pt x="2679" y="8905"/>
                </a:moveTo>
                <a:cubicBezTo>
                  <a:pt x="2864" y="8905"/>
                  <a:pt x="3042" y="8915"/>
                  <a:pt x="3225" y="8930"/>
                </a:cubicBezTo>
                <a:cubicBezTo>
                  <a:pt x="3464" y="8949"/>
                  <a:pt x="3705" y="8934"/>
                  <a:pt x="3944" y="8954"/>
                </a:cubicBezTo>
                <a:cubicBezTo>
                  <a:pt x="3968" y="8956"/>
                  <a:pt x="4118" y="8972"/>
                  <a:pt x="4118" y="8930"/>
                </a:cubicBezTo>
                <a:cubicBezTo>
                  <a:pt x="4110" y="8930"/>
                  <a:pt x="4101" y="8930"/>
                  <a:pt x="4093" y="8930"/>
                </a:cubicBezTo>
              </a:path>
              <a:path w="9724" h="3448">
                <a:moveTo>
                  <a:pt x="4762" y="8756"/>
                </a:moveTo>
                <a:cubicBezTo>
                  <a:pt x="4762" y="8873"/>
                  <a:pt x="4742" y="8986"/>
                  <a:pt x="4738" y="9103"/>
                </a:cubicBezTo>
                <a:cubicBezTo>
                  <a:pt x="4735" y="9194"/>
                  <a:pt x="4738" y="9285"/>
                  <a:pt x="4738" y="9376"/>
                </a:cubicBezTo>
              </a:path>
              <a:path w="9724" h="3448">
                <a:moveTo>
                  <a:pt x="4539" y="9153"/>
                </a:moveTo>
                <a:cubicBezTo>
                  <a:pt x="4670" y="9173"/>
                  <a:pt x="4779" y="9178"/>
                  <a:pt x="4911" y="9178"/>
                </a:cubicBezTo>
              </a:path>
              <a:path w="9724" h="3448">
                <a:moveTo>
                  <a:pt x="5333" y="9203"/>
                </a:moveTo>
                <a:cubicBezTo>
                  <a:pt x="5501" y="9203"/>
                  <a:pt x="5662" y="9223"/>
                  <a:pt x="5829" y="9227"/>
                </a:cubicBezTo>
                <a:cubicBezTo>
                  <a:pt x="5952" y="9230"/>
                  <a:pt x="6104" y="9233"/>
                  <a:pt x="6226" y="9252"/>
                </a:cubicBezTo>
                <a:cubicBezTo>
                  <a:pt x="6325" y="9267"/>
                  <a:pt x="6425" y="9288"/>
                  <a:pt x="6524" y="9302"/>
                </a:cubicBezTo>
                <a:cubicBezTo>
                  <a:pt x="6573" y="9302"/>
                  <a:pt x="6590" y="9302"/>
                  <a:pt x="6623" y="9302"/>
                </a:cubicBezTo>
              </a:path>
              <a:path w="9724" h="3448">
                <a:moveTo>
                  <a:pt x="7094" y="9302"/>
                </a:moveTo>
                <a:cubicBezTo>
                  <a:pt x="7194" y="9302"/>
                  <a:pt x="7249" y="9332"/>
                  <a:pt x="7342" y="9351"/>
                </a:cubicBezTo>
                <a:cubicBezTo>
                  <a:pt x="7423" y="9368"/>
                  <a:pt x="7507" y="9380"/>
                  <a:pt x="7590" y="9401"/>
                </a:cubicBezTo>
              </a:path>
              <a:path w="9724" h="3448">
                <a:moveTo>
                  <a:pt x="8037" y="9525"/>
                </a:moveTo>
                <a:cubicBezTo>
                  <a:pt x="8263" y="9525"/>
                  <a:pt x="8481" y="9536"/>
                  <a:pt x="8706" y="9550"/>
                </a:cubicBezTo>
                <a:cubicBezTo>
                  <a:pt x="8830" y="9557"/>
                  <a:pt x="8958" y="9573"/>
                  <a:pt x="9079" y="9599"/>
                </a:cubicBezTo>
                <a:cubicBezTo>
                  <a:pt x="9191" y="9623"/>
                  <a:pt x="9312" y="9644"/>
                  <a:pt x="9426" y="9649"/>
                </a:cubicBezTo>
                <a:cubicBezTo>
                  <a:pt x="9503" y="9652"/>
                  <a:pt x="9578" y="9650"/>
                  <a:pt x="9649" y="9674"/>
                </a:cubicBezTo>
                <a:cubicBezTo>
                  <a:pt x="9693" y="9696"/>
                  <a:pt x="9704" y="9709"/>
                  <a:pt x="9723" y="9674"/>
                </a:cubicBezTo>
              </a:path>
              <a:path w="9724" h="3448">
                <a:moveTo>
                  <a:pt x="10195" y="9550"/>
                </a:moveTo>
                <a:cubicBezTo>
                  <a:pt x="10280" y="9532"/>
                  <a:pt x="10358" y="9556"/>
                  <a:pt x="10418" y="9550"/>
                </a:cubicBezTo>
                <a:cubicBezTo>
                  <a:pt x="10475" y="9531"/>
                  <a:pt x="10482" y="9522"/>
                  <a:pt x="10517" y="9525"/>
                </a:cubicBezTo>
              </a:path>
              <a:path w="9724" h="3448">
                <a:moveTo>
                  <a:pt x="10393" y="9847"/>
                </a:moveTo>
                <a:cubicBezTo>
                  <a:pt x="10561" y="9847"/>
                  <a:pt x="10614" y="9849"/>
                  <a:pt x="10716" y="9798"/>
                </a:cubicBezTo>
              </a:path>
              <a:path w="9724" h="3448">
                <a:moveTo>
                  <a:pt x="11112" y="9798"/>
                </a:moveTo>
                <a:cubicBezTo>
                  <a:pt x="11256" y="9773"/>
                  <a:pt x="11319" y="9784"/>
                  <a:pt x="11460" y="9798"/>
                </a:cubicBezTo>
                <a:cubicBezTo>
                  <a:pt x="11590" y="9811"/>
                  <a:pt x="11728" y="9827"/>
                  <a:pt x="11857" y="9847"/>
                </a:cubicBezTo>
                <a:cubicBezTo>
                  <a:pt x="11987" y="9867"/>
                  <a:pt x="12128" y="9888"/>
                  <a:pt x="12254" y="9922"/>
                </a:cubicBezTo>
                <a:cubicBezTo>
                  <a:pt x="12327" y="9947"/>
                  <a:pt x="12350" y="9955"/>
                  <a:pt x="12402" y="9947"/>
                </a:cubicBezTo>
              </a:path>
              <a:path w="9724" h="3448">
                <a:moveTo>
                  <a:pt x="2679" y="8186"/>
                </a:moveTo>
                <a:cubicBezTo>
                  <a:pt x="2728" y="8106"/>
                  <a:pt x="2756" y="8067"/>
                  <a:pt x="2853" y="8062"/>
                </a:cubicBezTo>
                <a:cubicBezTo>
                  <a:pt x="2924" y="8058"/>
                  <a:pt x="3038" y="8064"/>
                  <a:pt x="3076" y="8136"/>
                </a:cubicBezTo>
                <a:cubicBezTo>
                  <a:pt x="3113" y="8205"/>
                  <a:pt x="3065" y="8313"/>
                  <a:pt x="3026" y="8359"/>
                </a:cubicBezTo>
                <a:cubicBezTo>
                  <a:pt x="2991" y="8401"/>
                  <a:pt x="2903" y="8493"/>
                  <a:pt x="2853" y="8508"/>
                </a:cubicBezTo>
                <a:cubicBezTo>
                  <a:pt x="2836" y="8508"/>
                  <a:pt x="2820" y="8508"/>
                  <a:pt x="2803" y="8508"/>
                </a:cubicBezTo>
                <a:cubicBezTo>
                  <a:pt x="2887" y="8457"/>
                  <a:pt x="2924" y="8488"/>
                  <a:pt x="3001" y="8533"/>
                </a:cubicBezTo>
                <a:cubicBezTo>
                  <a:pt x="3072" y="8574"/>
                  <a:pt x="3096" y="8623"/>
                  <a:pt x="3101" y="8706"/>
                </a:cubicBezTo>
                <a:cubicBezTo>
                  <a:pt x="3103" y="8736"/>
                  <a:pt x="3083" y="8843"/>
                  <a:pt x="3051" y="8855"/>
                </a:cubicBezTo>
                <a:cubicBezTo>
                  <a:pt x="2999" y="8875"/>
                  <a:pt x="2909" y="8852"/>
                  <a:pt x="2877" y="8806"/>
                </a:cubicBezTo>
                <a:cubicBezTo>
                  <a:pt x="2856" y="8762"/>
                  <a:pt x="2853" y="8750"/>
                  <a:pt x="2828" y="8731"/>
                </a:cubicBezTo>
              </a:path>
              <a:path w="9724" h="3448">
                <a:moveTo>
                  <a:pt x="3274" y="8111"/>
                </a:moveTo>
                <a:cubicBezTo>
                  <a:pt x="3283" y="8221"/>
                  <a:pt x="3298" y="8300"/>
                  <a:pt x="3373" y="8384"/>
                </a:cubicBezTo>
                <a:cubicBezTo>
                  <a:pt x="3453" y="8474"/>
                  <a:pt x="3485" y="8515"/>
                  <a:pt x="3597" y="8558"/>
                </a:cubicBezTo>
                <a:cubicBezTo>
                  <a:pt x="3684" y="8592"/>
                  <a:pt x="3735" y="8621"/>
                  <a:pt x="3820" y="8632"/>
                </a:cubicBezTo>
              </a:path>
              <a:path w="9724" h="3448">
                <a:moveTo>
                  <a:pt x="3671" y="8062"/>
                </a:moveTo>
                <a:cubicBezTo>
                  <a:pt x="3584" y="8224"/>
                  <a:pt x="3506" y="8375"/>
                  <a:pt x="3423" y="8533"/>
                </a:cubicBezTo>
                <a:cubicBezTo>
                  <a:pt x="3373" y="8628"/>
                  <a:pt x="3344" y="8733"/>
                  <a:pt x="3299" y="8830"/>
                </a:cubicBezTo>
              </a:path>
              <a:path w="9724" h="3448">
                <a:moveTo>
                  <a:pt x="2877" y="9401"/>
                </a:moveTo>
                <a:cubicBezTo>
                  <a:pt x="2930" y="9348"/>
                  <a:pt x="2950" y="9351"/>
                  <a:pt x="3026" y="9351"/>
                </a:cubicBezTo>
                <a:cubicBezTo>
                  <a:pt x="3115" y="9351"/>
                  <a:pt x="3169" y="9325"/>
                  <a:pt x="3175" y="9426"/>
                </a:cubicBezTo>
                <a:cubicBezTo>
                  <a:pt x="3177" y="9467"/>
                  <a:pt x="3088" y="9589"/>
                  <a:pt x="3051" y="9624"/>
                </a:cubicBezTo>
                <a:cubicBezTo>
                  <a:pt x="3005" y="9667"/>
                  <a:pt x="2941" y="9690"/>
                  <a:pt x="2902" y="9748"/>
                </a:cubicBezTo>
                <a:cubicBezTo>
                  <a:pt x="2871" y="9795"/>
                  <a:pt x="2908" y="9880"/>
                  <a:pt x="2952" y="9922"/>
                </a:cubicBezTo>
                <a:cubicBezTo>
                  <a:pt x="3015" y="9981"/>
                  <a:pt x="3103" y="9966"/>
                  <a:pt x="3175" y="9947"/>
                </a:cubicBezTo>
                <a:cubicBezTo>
                  <a:pt x="3200" y="9939"/>
                  <a:pt x="3224" y="9930"/>
                  <a:pt x="3249" y="9922"/>
                </a:cubicBezTo>
              </a:path>
              <a:path w="9724" h="3448">
                <a:moveTo>
                  <a:pt x="3597" y="9451"/>
                </a:moveTo>
                <a:cubicBezTo>
                  <a:pt x="3569" y="9547"/>
                  <a:pt x="3528" y="9612"/>
                  <a:pt x="3572" y="9699"/>
                </a:cubicBezTo>
                <a:cubicBezTo>
                  <a:pt x="3605" y="9764"/>
                  <a:pt x="3652" y="9794"/>
                  <a:pt x="3721" y="9798"/>
                </a:cubicBezTo>
                <a:cubicBezTo>
                  <a:pt x="3737" y="9798"/>
                  <a:pt x="3754" y="9798"/>
                  <a:pt x="3770" y="9798"/>
                </a:cubicBezTo>
              </a:path>
              <a:path w="9724" h="3448">
                <a:moveTo>
                  <a:pt x="3919" y="9277"/>
                </a:moveTo>
                <a:cubicBezTo>
                  <a:pt x="3873" y="9409"/>
                  <a:pt x="3871" y="9514"/>
                  <a:pt x="3845" y="9649"/>
                </a:cubicBezTo>
                <a:cubicBezTo>
                  <a:pt x="3813" y="9812"/>
                  <a:pt x="3820" y="9977"/>
                  <a:pt x="3820" y="10145"/>
                </a:cubicBezTo>
                <a:cubicBezTo>
                  <a:pt x="3820" y="10213"/>
                  <a:pt x="3811" y="10285"/>
                  <a:pt x="3845" y="10319"/>
                </a:cubicBezTo>
              </a:path>
              <a:path w="9724" h="3448">
                <a:moveTo>
                  <a:pt x="5358" y="8310"/>
                </a:moveTo>
                <a:cubicBezTo>
                  <a:pt x="5381" y="8195"/>
                  <a:pt x="5411" y="8214"/>
                  <a:pt x="5507" y="8136"/>
                </a:cubicBezTo>
                <a:cubicBezTo>
                  <a:pt x="5568" y="8087"/>
                  <a:pt x="5636" y="8113"/>
                  <a:pt x="5705" y="8136"/>
                </a:cubicBezTo>
                <a:cubicBezTo>
                  <a:pt x="5705" y="8245"/>
                  <a:pt x="5692" y="8309"/>
                  <a:pt x="5655" y="8409"/>
                </a:cubicBezTo>
                <a:cubicBezTo>
                  <a:pt x="5620" y="8502"/>
                  <a:pt x="5538" y="8568"/>
                  <a:pt x="5507" y="8657"/>
                </a:cubicBezTo>
                <a:cubicBezTo>
                  <a:pt x="5486" y="8718"/>
                  <a:pt x="5482" y="8789"/>
                  <a:pt x="5482" y="8855"/>
                </a:cubicBezTo>
                <a:cubicBezTo>
                  <a:pt x="5482" y="8937"/>
                  <a:pt x="5512" y="8941"/>
                  <a:pt x="5581" y="8954"/>
                </a:cubicBezTo>
                <a:cubicBezTo>
                  <a:pt x="5717" y="8979"/>
                  <a:pt x="5712" y="8972"/>
                  <a:pt x="5829" y="8930"/>
                </a:cubicBezTo>
              </a:path>
              <a:path w="9724" h="3448">
                <a:moveTo>
                  <a:pt x="5928" y="8334"/>
                </a:moveTo>
                <a:cubicBezTo>
                  <a:pt x="5971" y="8463"/>
                  <a:pt x="6003" y="8569"/>
                  <a:pt x="6077" y="8682"/>
                </a:cubicBezTo>
                <a:cubicBezTo>
                  <a:pt x="6135" y="8770"/>
                  <a:pt x="6265" y="8863"/>
                  <a:pt x="6375" y="8880"/>
                </a:cubicBezTo>
                <a:cubicBezTo>
                  <a:pt x="6408" y="8880"/>
                  <a:pt x="6441" y="8880"/>
                  <a:pt x="6474" y="8880"/>
                </a:cubicBezTo>
              </a:path>
              <a:path w="9724" h="3448">
                <a:moveTo>
                  <a:pt x="6350" y="8310"/>
                </a:moveTo>
                <a:cubicBezTo>
                  <a:pt x="6239" y="8453"/>
                  <a:pt x="6094" y="8616"/>
                  <a:pt x="6028" y="8781"/>
                </a:cubicBezTo>
                <a:cubicBezTo>
                  <a:pt x="6006" y="8870"/>
                  <a:pt x="6005" y="8895"/>
                  <a:pt x="5953" y="8930"/>
                </a:cubicBezTo>
              </a:path>
              <a:path w="9724" h="3448">
                <a:moveTo>
                  <a:pt x="5383" y="9823"/>
                </a:moveTo>
                <a:cubicBezTo>
                  <a:pt x="5429" y="9796"/>
                  <a:pt x="5486" y="9757"/>
                  <a:pt x="5531" y="9748"/>
                </a:cubicBezTo>
                <a:cubicBezTo>
                  <a:pt x="5595" y="9735"/>
                  <a:pt x="5647" y="9754"/>
                  <a:pt x="5705" y="9773"/>
                </a:cubicBezTo>
                <a:cubicBezTo>
                  <a:pt x="5720" y="9818"/>
                  <a:pt x="5711" y="9926"/>
                  <a:pt x="5655" y="9971"/>
                </a:cubicBezTo>
                <a:cubicBezTo>
                  <a:pt x="5555" y="10051"/>
                  <a:pt x="5494" y="10091"/>
                  <a:pt x="5432" y="10195"/>
                </a:cubicBezTo>
                <a:cubicBezTo>
                  <a:pt x="5396" y="10256"/>
                  <a:pt x="5436" y="10294"/>
                  <a:pt x="5482" y="10344"/>
                </a:cubicBezTo>
                <a:cubicBezTo>
                  <a:pt x="5533" y="10400"/>
                  <a:pt x="5645" y="10369"/>
                  <a:pt x="5705" y="10344"/>
                </a:cubicBezTo>
                <a:cubicBezTo>
                  <a:pt x="5722" y="10336"/>
                  <a:pt x="5738" y="10327"/>
                  <a:pt x="5755" y="10319"/>
                </a:cubicBezTo>
              </a:path>
              <a:path w="9724" h="3448">
                <a:moveTo>
                  <a:pt x="5978" y="9823"/>
                </a:moveTo>
                <a:cubicBezTo>
                  <a:pt x="5926" y="9924"/>
                  <a:pt x="5922" y="9935"/>
                  <a:pt x="6003" y="10021"/>
                </a:cubicBezTo>
                <a:cubicBezTo>
                  <a:pt x="6065" y="10087"/>
                  <a:pt x="6117" y="10175"/>
                  <a:pt x="6226" y="10170"/>
                </a:cubicBezTo>
                <a:cubicBezTo>
                  <a:pt x="6243" y="10162"/>
                  <a:pt x="6259" y="10153"/>
                  <a:pt x="6276" y="10145"/>
                </a:cubicBezTo>
              </a:path>
              <a:path w="9724" h="3448">
                <a:moveTo>
                  <a:pt x="6350" y="9500"/>
                </a:moveTo>
                <a:cubicBezTo>
                  <a:pt x="6316" y="9726"/>
                  <a:pt x="6257" y="9966"/>
                  <a:pt x="6251" y="10195"/>
                </a:cubicBezTo>
                <a:cubicBezTo>
                  <a:pt x="6248" y="10330"/>
                  <a:pt x="6289" y="10461"/>
                  <a:pt x="6300" y="10592"/>
                </a:cubicBezTo>
                <a:cubicBezTo>
                  <a:pt x="6308" y="10691"/>
                  <a:pt x="6308" y="10706"/>
                  <a:pt x="6350" y="10790"/>
                </a:cubicBezTo>
              </a:path>
              <a:path w="9724" h="3448">
                <a:moveTo>
                  <a:pt x="8310" y="8359"/>
                </a:moveTo>
                <a:cubicBezTo>
                  <a:pt x="8267" y="8451"/>
                  <a:pt x="8202" y="8524"/>
                  <a:pt x="8161" y="8607"/>
                </a:cubicBezTo>
                <a:cubicBezTo>
                  <a:pt x="8135" y="8659"/>
                  <a:pt x="8110" y="8763"/>
                  <a:pt x="8161" y="8806"/>
                </a:cubicBezTo>
                <a:cubicBezTo>
                  <a:pt x="8250" y="8880"/>
                  <a:pt x="8326" y="8908"/>
                  <a:pt x="8434" y="8880"/>
                </a:cubicBezTo>
                <a:cubicBezTo>
                  <a:pt x="8501" y="8857"/>
                  <a:pt x="8522" y="8856"/>
                  <a:pt x="8533" y="8806"/>
                </a:cubicBezTo>
              </a:path>
              <a:path w="9724" h="3448">
                <a:moveTo>
                  <a:pt x="8558" y="8186"/>
                </a:moveTo>
                <a:cubicBezTo>
                  <a:pt x="8521" y="8379"/>
                  <a:pt x="8487" y="8561"/>
                  <a:pt x="8483" y="8756"/>
                </a:cubicBezTo>
                <a:cubicBezTo>
                  <a:pt x="8480" y="8880"/>
                  <a:pt x="8489" y="9030"/>
                  <a:pt x="8508" y="9153"/>
                </a:cubicBezTo>
                <a:cubicBezTo>
                  <a:pt x="8529" y="9237"/>
                  <a:pt x="8531" y="9256"/>
                  <a:pt x="8558" y="9302"/>
                </a:cubicBezTo>
              </a:path>
              <a:path w="9724" h="3448">
                <a:moveTo>
                  <a:pt x="8731" y="8905"/>
                </a:moveTo>
                <a:cubicBezTo>
                  <a:pt x="8788" y="8990"/>
                  <a:pt x="8835" y="9080"/>
                  <a:pt x="8905" y="9153"/>
                </a:cubicBezTo>
                <a:cubicBezTo>
                  <a:pt x="9001" y="9253"/>
                  <a:pt x="9074" y="9290"/>
                  <a:pt x="9203" y="9327"/>
                </a:cubicBezTo>
              </a:path>
              <a:path w="9724" h="3448">
                <a:moveTo>
                  <a:pt x="9153" y="8756"/>
                </a:moveTo>
                <a:cubicBezTo>
                  <a:pt x="9021" y="8870"/>
                  <a:pt x="8937" y="8995"/>
                  <a:pt x="8830" y="9128"/>
                </a:cubicBezTo>
                <a:cubicBezTo>
                  <a:pt x="8743" y="9236"/>
                  <a:pt x="8701" y="9319"/>
                  <a:pt x="8657" y="9451"/>
                </a:cubicBezTo>
              </a:path>
              <a:path w="9724" h="3448">
                <a:moveTo>
                  <a:pt x="8384" y="10145"/>
                </a:moveTo>
                <a:cubicBezTo>
                  <a:pt x="8439" y="10112"/>
                  <a:pt x="8490" y="10120"/>
                  <a:pt x="8558" y="10120"/>
                </a:cubicBezTo>
                <a:cubicBezTo>
                  <a:pt x="8652" y="10120"/>
                  <a:pt x="8673" y="10099"/>
                  <a:pt x="8706" y="10145"/>
                </a:cubicBezTo>
                <a:cubicBezTo>
                  <a:pt x="8696" y="10215"/>
                  <a:pt x="8667" y="10270"/>
                  <a:pt x="8607" y="10319"/>
                </a:cubicBezTo>
                <a:cubicBezTo>
                  <a:pt x="8532" y="10380"/>
                  <a:pt x="8444" y="10444"/>
                  <a:pt x="8384" y="10517"/>
                </a:cubicBezTo>
                <a:cubicBezTo>
                  <a:pt x="8340" y="10570"/>
                  <a:pt x="8301" y="10707"/>
                  <a:pt x="8359" y="10765"/>
                </a:cubicBezTo>
                <a:cubicBezTo>
                  <a:pt x="8401" y="10807"/>
                  <a:pt x="8506" y="10860"/>
                  <a:pt x="8558" y="10864"/>
                </a:cubicBezTo>
                <a:cubicBezTo>
                  <a:pt x="8631" y="10864"/>
                  <a:pt x="8654" y="10865"/>
                  <a:pt x="8682" y="10815"/>
                </a:cubicBezTo>
              </a:path>
              <a:path w="9724" h="3448">
                <a:moveTo>
                  <a:pt x="9029" y="10120"/>
                </a:moveTo>
                <a:cubicBezTo>
                  <a:pt x="9029" y="10242"/>
                  <a:pt x="9018" y="10303"/>
                  <a:pt x="9103" y="10393"/>
                </a:cubicBezTo>
                <a:cubicBezTo>
                  <a:pt x="9174" y="10468"/>
                  <a:pt x="9255" y="10500"/>
                  <a:pt x="9351" y="10468"/>
                </a:cubicBezTo>
                <a:cubicBezTo>
                  <a:pt x="9368" y="10460"/>
                  <a:pt x="9384" y="10451"/>
                  <a:pt x="9401" y="10443"/>
                </a:cubicBezTo>
              </a:path>
              <a:path w="9724" h="3448">
                <a:moveTo>
                  <a:pt x="9401" y="9897"/>
                </a:moveTo>
                <a:cubicBezTo>
                  <a:pt x="9339" y="10186"/>
                  <a:pt x="9268" y="10444"/>
                  <a:pt x="9302" y="10740"/>
                </a:cubicBezTo>
                <a:cubicBezTo>
                  <a:pt x="9313" y="10838"/>
                  <a:pt x="9344" y="10997"/>
                  <a:pt x="9376" y="11088"/>
                </a:cubicBezTo>
                <a:cubicBezTo>
                  <a:pt x="9384" y="11096"/>
                  <a:pt x="9393" y="11104"/>
                  <a:pt x="9401" y="11112"/>
                </a:cubicBezTo>
              </a:path>
              <a:path w="9724" h="3448">
                <a:moveTo>
                  <a:pt x="11361" y="8632"/>
                </a:moveTo>
                <a:cubicBezTo>
                  <a:pt x="11397" y="8574"/>
                  <a:pt x="11437" y="8532"/>
                  <a:pt x="11485" y="8483"/>
                </a:cubicBezTo>
                <a:cubicBezTo>
                  <a:pt x="11516" y="8451"/>
                  <a:pt x="11584" y="8397"/>
                  <a:pt x="11633" y="8434"/>
                </a:cubicBezTo>
                <a:cubicBezTo>
                  <a:pt x="11702" y="8487"/>
                  <a:pt x="11717" y="8658"/>
                  <a:pt x="11708" y="8731"/>
                </a:cubicBezTo>
                <a:cubicBezTo>
                  <a:pt x="11690" y="8873"/>
                  <a:pt x="11618" y="8958"/>
                  <a:pt x="11559" y="9079"/>
                </a:cubicBezTo>
                <a:cubicBezTo>
                  <a:pt x="11517" y="9165"/>
                  <a:pt x="11482" y="9192"/>
                  <a:pt x="11410" y="9252"/>
                </a:cubicBezTo>
                <a:cubicBezTo>
                  <a:pt x="11369" y="9286"/>
                  <a:pt x="11341" y="9277"/>
                  <a:pt x="11286" y="9277"/>
                </a:cubicBezTo>
                <a:cubicBezTo>
                  <a:pt x="11338" y="9186"/>
                  <a:pt x="11379" y="9183"/>
                  <a:pt x="11485" y="9178"/>
                </a:cubicBezTo>
                <a:cubicBezTo>
                  <a:pt x="11575" y="9174"/>
                  <a:pt x="11625" y="9243"/>
                  <a:pt x="11683" y="9302"/>
                </a:cubicBezTo>
                <a:cubicBezTo>
                  <a:pt x="11758" y="9377"/>
                  <a:pt x="11687" y="9398"/>
                  <a:pt x="11782" y="9302"/>
                </a:cubicBezTo>
              </a:path>
              <a:path w="9724" h="3448">
                <a:moveTo>
                  <a:pt x="12005" y="8508"/>
                </a:moveTo>
                <a:cubicBezTo>
                  <a:pt x="11942" y="8610"/>
                  <a:pt x="11826" y="8727"/>
                  <a:pt x="11906" y="8855"/>
                </a:cubicBezTo>
                <a:cubicBezTo>
                  <a:pt x="11934" y="8900"/>
                  <a:pt x="12053" y="8993"/>
                  <a:pt x="12105" y="9004"/>
                </a:cubicBezTo>
                <a:cubicBezTo>
                  <a:pt x="12202" y="9024"/>
                  <a:pt x="12235" y="8951"/>
                  <a:pt x="12278" y="8880"/>
                </a:cubicBezTo>
              </a:path>
              <a:path w="9724" h="3448">
                <a:moveTo>
                  <a:pt x="12229" y="8359"/>
                </a:moveTo>
                <a:cubicBezTo>
                  <a:pt x="12145" y="8631"/>
                  <a:pt x="12048" y="8866"/>
                  <a:pt x="12080" y="9153"/>
                </a:cubicBezTo>
                <a:cubicBezTo>
                  <a:pt x="12092" y="9261"/>
                  <a:pt x="12122" y="9344"/>
                  <a:pt x="12129" y="9451"/>
                </a:cubicBezTo>
              </a:path>
              <a:path w="9724" h="3448">
                <a:moveTo>
                  <a:pt x="11385" y="10443"/>
                </a:moveTo>
                <a:cubicBezTo>
                  <a:pt x="11506" y="10370"/>
                  <a:pt x="11594" y="10286"/>
                  <a:pt x="11733" y="10344"/>
                </a:cubicBezTo>
                <a:cubicBezTo>
                  <a:pt x="11858" y="10396"/>
                  <a:pt x="11782" y="10516"/>
                  <a:pt x="11757" y="10616"/>
                </a:cubicBezTo>
                <a:cubicBezTo>
                  <a:pt x="11725" y="10746"/>
                  <a:pt x="11678" y="10848"/>
                  <a:pt x="11559" y="10914"/>
                </a:cubicBezTo>
                <a:cubicBezTo>
                  <a:pt x="11486" y="10954"/>
                  <a:pt x="11420" y="10984"/>
                  <a:pt x="11336" y="10988"/>
                </a:cubicBezTo>
                <a:cubicBezTo>
                  <a:pt x="11277" y="10991"/>
                  <a:pt x="11275" y="10978"/>
                  <a:pt x="11237" y="10939"/>
                </a:cubicBezTo>
                <a:cubicBezTo>
                  <a:pt x="11302" y="10873"/>
                  <a:pt x="11390" y="10879"/>
                  <a:pt x="11485" y="10939"/>
                </a:cubicBezTo>
                <a:cubicBezTo>
                  <a:pt x="11554" y="10983"/>
                  <a:pt x="11623" y="11105"/>
                  <a:pt x="11683" y="11137"/>
                </a:cubicBezTo>
                <a:cubicBezTo>
                  <a:pt x="11700" y="11137"/>
                  <a:pt x="11716" y="11137"/>
                  <a:pt x="11733" y="11137"/>
                </a:cubicBezTo>
              </a:path>
              <a:path w="9724" h="3448">
                <a:moveTo>
                  <a:pt x="11981" y="10418"/>
                </a:moveTo>
                <a:cubicBezTo>
                  <a:pt x="11962" y="10582"/>
                  <a:pt x="11976" y="10579"/>
                  <a:pt x="12055" y="10716"/>
                </a:cubicBezTo>
                <a:cubicBezTo>
                  <a:pt x="12113" y="10816"/>
                  <a:pt x="12204" y="10807"/>
                  <a:pt x="12303" y="10790"/>
                </a:cubicBezTo>
              </a:path>
              <a:path w="9724" h="3448">
                <a:moveTo>
                  <a:pt x="12353" y="10195"/>
                </a:moveTo>
                <a:cubicBezTo>
                  <a:pt x="12288" y="10576"/>
                  <a:pt x="12254" y="10926"/>
                  <a:pt x="12254" y="11311"/>
                </a:cubicBezTo>
                <a:cubicBezTo>
                  <a:pt x="12254" y="11377"/>
                  <a:pt x="12254" y="11443"/>
                  <a:pt x="12254" y="115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Ink 8"/>
          <p:cNvSpPr/>
          <p:nvPr/>
        </p:nvSpPr>
        <p:spPr>
          <a:xfrm>
            <a:off x="1098720" y="3938760"/>
            <a:ext cx="2527200" cy="776160"/>
          </a:xfrm>
          <a:custGeom>
            <a:avLst/>
            <a:gdLst/>
            <a:ahLst/>
            <a:rect l="l" t="t" r="r" b="b"/>
            <a:pathLst>
              <a:path w="7021" h="2159">
                <a:moveTo>
                  <a:pt x="3175" y="10988"/>
                </a:moveTo>
                <a:cubicBezTo>
                  <a:pt x="3245" y="10949"/>
                  <a:pt x="3311" y="10913"/>
                  <a:pt x="3398" y="10939"/>
                </a:cubicBezTo>
                <a:cubicBezTo>
                  <a:pt x="3449" y="10954"/>
                  <a:pt x="3481" y="11043"/>
                  <a:pt x="3473" y="11088"/>
                </a:cubicBezTo>
                <a:cubicBezTo>
                  <a:pt x="3461" y="11154"/>
                  <a:pt x="3419" y="11265"/>
                  <a:pt x="3349" y="11286"/>
                </a:cubicBezTo>
                <a:cubicBezTo>
                  <a:pt x="3289" y="11304"/>
                  <a:pt x="3295" y="11290"/>
                  <a:pt x="3249" y="11336"/>
                </a:cubicBezTo>
                <a:cubicBezTo>
                  <a:pt x="3341" y="11348"/>
                  <a:pt x="3436" y="11386"/>
                  <a:pt x="3473" y="11485"/>
                </a:cubicBezTo>
                <a:cubicBezTo>
                  <a:pt x="3492" y="11537"/>
                  <a:pt x="3475" y="11639"/>
                  <a:pt x="3448" y="11683"/>
                </a:cubicBezTo>
                <a:cubicBezTo>
                  <a:pt x="3396" y="11767"/>
                  <a:pt x="3335" y="11757"/>
                  <a:pt x="3249" y="11757"/>
                </a:cubicBezTo>
                <a:cubicBezTo>
                  <a:pt x="3170" y="11757"/>
                  <a:pt x="3097" y="11688"/>
                  <a:pt x="3051" y="11633"/>
                </a:cubicBezTo>
              </a:path>
              <a:path w="7021" h="2159">
                <a:moveTo>
                  <a:pt x="3671" y="11385"/>
                </a:moveTo>
                <a:cubicBezTo>
                  <a:pt x="3762" y="11541"/>
                  <a:pt x="3839" y="11699"/>
                  <a:pt x="3944" y="11832"/>
                </a:cubicBezTo>
                <a:cubicBezTo>
                  <a:pt x="4021" y="11930"/>
                  <a:pt x="4067" y="11967"/>
                  <a:pt x="4192" y="11981"/>
                </a:cubicBezTo>
              </a:path>
              <a:path w="7021" h="2159">
                <a:moveTo>
                  <a:pt x="4068" y="11137"/>
                </a:moveTo>
                <a:cubicBezTo>
                  <a:pt x="4009" y="11240"/>
                  <a:pt x="3896" y="11334"/>
                  <a:pt x="3845" y="11435"/>
                </a:cubicBezTo>
                <a:cubicBezTo>
                  <a:pt x="3795" y="11535"/>
                  <a:pt x="3730" y="11699"/>
                  <a:pt x="3696" y="11807"/>
                </a:cubicBezTo>
                <a:cubicBezTo>
                  <a:pt x="3679" y="11859"/>
                  <a:pt x="3678" y="11870"/>
                  <a:pt x="3696" y="11906"/>
                </a:cubicBezTo>
              </a:path>
              <a:path w="7021" h="2159">
                <a:moveTo>
                  <a:pt x="4514" y="11261"/>
                </a:moveTo>
                <a:cubicBezTo>
                  <a:pt x="4514" y="11411"/>
                  <a:pt x="4522" y="11543"/>
                  <a:pt x="4539" y="11683"/>
                </a:cubicBezTo>
                <a:cubicBezTo>
                  <a:pt x="4548" y="11755"/>
                  <a:pt x="4530" y="11775"/>
                  <a:pt x="4564" y="11832"/>
                </a:cubicBezTo>
              </a:path>
              <a:path w="7021" h="2159">
                <a:moveTo>
                  <a:pt x="4366" y="11559"/>
                </a:moveTo>
                <a:cubicBezTo>
                  <a:pt x="4488" y="11590"/>
                  <a:pt x="4541" y="11572"/>
                  <a:pt x="4663" y="11559"/>
                </a:cubicBezTo>
                <a:cubicBezTo>
                  <a:pt x="4688" y="11559"/>
                  <a:pt x="4713" y="11559"/>
                  <a:pt x="4738" y="11559"/>
                </a:cubicBezTo>
              </a:path>
              <a:path w="7021" h="2159">
                <a:moveTo>
                  <a:pt x="4961" y="11336"/>
                </a:moveTo>
                <a:cubicBezTo>
                  <a:pt x="5084" y="11292"/>
                  <a:pt x="5148" y="11281"/>
                  <a:pt x="5234" y="11410"/>
                </a:cubicBezTo>
                <a:cubicBezTo>
                  <a:pt x="5312" y="11527"/>
                  <a:pt x="5220" y="11585"/>
                  <a:pt x="5159" y="11683"/>
                </a:cubicBezTo>
                <a:cubicBezTo>
                  <a:pt x="5124" y="11739"/>
                  <a:pt x="5035" y="11842"/>
                  <a:pt x="5035" y="11906"/>
                </a:cubicBezTo>
                <a:cubicBezTo>
                  <a:pt x="5035" y="11927"/>
                  <a:pt x="5074" y="12020"/>
                  <a:pt x="5110" y="12030"/>
                </a:cubicBezTo>
                <a:cubicBezTo>
                  <a:pt x="5200" y="12056"/>
                  <a:pt x="5269" y="12005"/>
                  <a:pt x="5333" y="11956"/>
                </a:cubicBezTo>
              </a:path>
              <a:path w="7021" h="2159">
                <a:moveTo>
                  <a:pt x="5482" y="11534"/>
                </a:moveTo>
                <a:cubicBezTo>
                  <a:pt x="5512" y="11645"/>
                  <a:pt x="5543" y="11730"/>
                  <a:pt x="5606" y="11832"/>
                </a:cubicBezTo>
                <a:cubicBezTo>
                  <a:pt x="5705" y="11991"/>
                  <a:pt x="5774" y="12004"/>
                  <a:pt x="5904" y="12105"/>
                </a:cubicBezTo>
              </a:path>
              <a:path w="7021" h="2159">
                <a:moveTo>
                  <a:pt x="5804" y="11485"/>
                </a:moveTo>
                <a:cubicBezTo>
                  <a:pt x="5705" y="11607"/>
                  <a:pt x="5618" y="11726"/>
                  <a:pt x="5531" y="11857"/>
                </a:cubicBezTo>
                <a:cubicBezTo>
                  <a:pt x="5476" y="11939"/>
                  <a:pt x="5459" y="12001"/>
                  <a:pt x="5482" y="12080"/>
                </a:cubicBezTo>
              </a:path>
              <a:path w="7021" h="2159">
                <a:moveTo>
                  <a:pt x="6102" y="11757"/>
                </a:moveTo>
                <a:cubicBezTo>
                  <a:pt x="6231" y="11757"/>
                  <a:pt x="6328" y="11760"/>
                  <a:pt x="6449" y="11733"/>
                </a:cubicBezTo>
              </a:path>
              <a:path w="7021" h="2159">
                <a:moveTo>
                  <a:pt x="6722" y="11435"/>
                </a:moveTo>
                <a:cubicBezTo>
                  <a:pt x="6666" y="11515"/>
                  <a:pt x="6661" y="11558"/>
                  <a:pt x="6623" y="11633"/>
                </a:cubicBezTo>
                <a:cubicBezTo>
                  <a:pt x="6663" y="11684"/>
                  <a:pt x="6690" y="11723"/>
                  <a:pt x="6747" y="11757"/>
                </a:cubicBezTo>
                <a:cubicBezTo>
                  <a:pt x="6825" y="11804"/>
                  <a:pt x="6882" y="11826"/>
                  <a:pt x="6970" y="11782"/>
                </a:cubicBezTo>
                <a:cubicBezTo>
                  <a:pt x="6978" y="11774"/>
                  <a:pt x="6987" y="11765"/>
                  <a:pt x="6995" y="11757"/>
                </a:cubicBezTo>
              </a:path>
              <a:path w="7021" h="2159">
                <a:moveTo>
                  <a:pt x="7069" y="11286"/>
                </a:moveTo>
                <a:cubicBezTo>
                  <a:pt x="7004" y="11553"/>
                  <a:pt x="6975" y="11710"/>
                  <a:pt x="7020" y="11981"/>
                </a:cubicBezTo>
                <a:cubicBezTo>
                  <a:pt x="7033" y="12058"/>
                  <a:pt x="7054" y="12172"/>
                  <a:pt x="7119" y="12204"/>
                </a:cubicBezTo>
              </a:path>
              <a:path w="7021" h="2159">
                <a:moveTo>
                  <a:pt x="7392" y="11757"/>
                </a:moveTo>
                <a:cubicBezTo>
                  <a:pt x="7502" y="11951"/>
                  <a:pt x="7559" y="12061"/>
                  <a:pt x="7714" y="12204"/>
                </a:cubicBezTo>
                <a:cubicBezTo>
                  <a:pt x="7768" y="12258"/>
                  <a:pt x="7790" y="12278"/>
                  <a:pt x="7838" y="12303"/>
                </a:cubicBezTo>
              </a:path>
              <a:path w="7021" h="2159">
                <a:moveTo>
                  <a:pt x="7714" y="11733"/>
                </a:moveTo>
                <a:cubicBezTo>
                  <a:pt x="7571" y="11889"/>
                  <a:pt x="7459" y="12022"/>
                  <a:pt x="7392" y="12229"/>
                </a:cubicBezTo>
                <a:cubicBezTo>
                  <a:pt x="7375" y="12280"/>
                  <a:pt x="7411" y="12297"/>
                  <a:pt x="7441" y="12328"/>
                </a:cubicBezTo>
              </a:path>
              <a:path w="7021" h="2159">
                <a:moveTo>
                  <a:pt x="8062" y="11981"/>
                </a:moveTo>
                <a:cubicBezTo>
                  <a:pt x="8183" y="11998"/>
                  <a:pt x="8288" y="12005"/>
                  <a:pt x="8409" y="12005"/>
                </a:cubicBezTo>
              </a:path>
              <a:path w="7021" h="2159">
                <a:moveTo>
                  <a:pt x="8136" y="12154"/>
                </a:moveTo>
                <a:cubicBezTo>
                  <a:pt x="8253" y="12184"/>
                  <a:pt x="8316" y="12179"/>
                  <a:pt x="8434" y="12154"/>
                </a:cubicBezTo>
              </a:path>
              <a:path w="7021" h="2159">
                <a:moveTo>
                  <a:pt x="8855" y="11757"/>
                </a:moveTo>
                <a:cubicBezTo>
                  <a:pt x="8926" y="11720"/>
                  <a:pt x="9093" y="11605"/>
                  <a:pt x="9203" y="11658"/>
                </a:cubicBezTo>
                <a:cubicBezTo>
                  <a:pt x="9306" y="11708"/>
                  <a:pt x="9308" y="11945"/>
                  <a:pt x="9277" y="12030"/>
                </a:cubicBezTo>
                <a:cubicBezTo>
                  <a:pt x="9246" y="12117"/>
                  <a:pt x="9124" y="12242"/>
                  <a:pt x="9054" y="12303"/>
                </a:cubicBezTo>
                <a:cubicBezTo>
                  <a:pt x="8979" y="12353"/>
                  <a:pt x="8955" y="12369"/>
                  <a:pt x="8905" y="12402"/>
                </a:cubicBezTo>
                <a:cubicBezTo>
                  <a:pt x="9001" y="12434"/>
                  <a:pt x="9079" y="12410"/>
                  <a:pt x="9178" y="12427"/>
                </a:cubicBezTo>
                <a:cubicBezTo>
                  <a:pt x="9320" y="12452"/>
                  <a:pt x="9399" y="12482"/>
                  <a:pt x="9550" y="12452"/>
                </a:cubicBezTo>
              </a:path>
              <a:path w="7021" h="2159">
                <a:moveTo>
                  <a:pt x="9649" y="11757"/>
                </a:moveTo>
                <a:cubicBezTo>
                  <a:pt x="9685" y="11857"/>
                  <a:pt x="9730" y="11946"/>
                  <a:pt x="9798" y="12030"/>
                </a:cubicBezTo>
                <a:cubicBezTo>
                  <a:pt x="9888" y="12141"/>
                  <a:pt x="9905" y="12178"/>
                  <a:pt x="10046" y="12154"/>
                </a:cubicBezTo>
              </a:path>
              <a:path w="7021" h="2159">
                <a:moveTo>
                  <a:pt x="10071" y="11584"/>
                </a:moveTo>
                <a:cubicBezTo>
                  <a:pt x="10063" y="12015"/>
                  <a:pt x="10033" y="12442"/>
                  <a:pt x="10021" y="12874"/>
                </a:cubicBezTo>
                <a:cubicBezTo>
                  <a:pt x="10021" y="12948"/>
                  <a:pt x="10021" y="13023"/>
                  <a:pt x="10021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Ink 9"/>
          <p:cNvSpPr/>
          <p:nvPr/>
        </p:nvSpPr>
        <p:spPr>
          <a:xfrm>
            <a:off x="2320920" y="4687920"/>
            <a:ext cx="965160" cy="546120"/>
          </a:xfrm>
          <a:custGeom>
            <a:avLst/>
            <a:gdLst/>
            <a:ahLst/>
            <a:rect l="l" t="t" r="r" b="b"/>
            <a:pathLst>
              <a:path w="2680" h="1515">
                <a:moveTo>
                  <a:pt x="6474" y="13022"/>
                </a:moveTo>
                <a:cubicBezTo>
                  <a:pt x="6483" y="13155"/>
                  <a:pt x="6505" y="13299"/>
                  <a:pt x="6573" y="13419"/>
                </a:cubicBezTo>
                <a:cubicBezTo>
                  <a:pt x="6668" y="13587"/>
                  <a:pt x="6825" y="13790"/>
                  <a:pt x="6970" y="13915"/>
                </a:cubicBezTo>
                <a:cubicBezTo>
                  <a:pt x="7036" y="13965"/>
                  <a:pt x="7103" y="14014"/>
                  <a:pt x="7169" y="14064"/>
                </a:cubicBezTo>
              </a:path>
              <a:path w="2680" h="1515">
                <a:moveTo>
                  <a:pt x="6970" y="13097"/>
                </a:moveTo>
                <a:cubicBezTo>
                  <a:pt x="6807" y="13269"/>
                  <a:pt x="6703" y="13430"/>
                  <a:pt x="6598" y="13643"/>
                </a:cubicBezTo>
                <a:cubicBezTo>
                  <a:pt x="6539" y="13763"/>
                  <a:pt x="6475" y="13888"/>
                  <a:pt x="6449" y="14015"/>
                </a:cubicBezTo>
              </a:path>
              <a:path w="2680" h="1515">
                <a:moveTo>
                  <a:pt x="7293" y="13469"/>
                </a:moveTo>
                <a:cubicBezTo>
                  <a:pt x="7458" y="13469"/>
                  <a:pt x="7474" y="13469"/>
                  <a:pt x="7565" y="13469"/>
                </a:cubicBezTo>
              </a:path>
              <a:path w="2680" h="1515">
                <a:moveTo>
                  <a:pt x="7367" y="13667"/>
                </a:moveTo>
                <a:cubicBezTo>
                  <a:pt x="7529" y="13661"/>
                  <a:pt x="7576" y="13664"/>
                  <a:pt x="7714" y="13618"/>
                </a:cubicBezTo>
              </a:path>
              <a:path w="2680" h="1515">
                <a:moveTo>
                  <a:pt x="8136" y="13271"/>
                </a:moveTo>
                <a:cubicBezTo>
                  <a:pt x="8224" y="13253"/>
                  <a:pt x="8334" y="13223"/>
                  <a:pt x="8409" y="13295"/>
                </a:cubicBezTo>
                <a:cubicBezTo>
                  <a:pt x="8533" y="13413"/>
                  <a:pt x="8455" y="13567"/>
                  <a:pt x="8384" y="13692"/>
                </a:cubicBezTo>
                <a:cubicBezTo>
                  <a:pt x="8330" y="13787"/>
                  <a:pt x="8180" y="13909"/>
                  <a:pt x="8086" y="13965"/>
                </a:cubicBezTo>
                <a:cubicBezTo>
                  <a:pt x="8015" y="14007"/>
                  <a:pt x="7980" y="14007"/>
                  <a:pt x="7913" y="13990"/>
                </a:cubicBezTo>
                <a:cubicBezTo>
                  <a:pt x="7959" y="13920"/>
                  <a:pt x="7975" y="13843"/>
                  <a:pt x="8086" y="13866"/>
                </a:cubicBezTo>
                <a:cubicBezTo>
                  <a:pt x="8192" y="13888"/>
                  <a:pt x="8205" y="13985"/>
                  <a:pt x="8285" y="14039"/>
                </a:cubicBezTo>
                <a:cubicBezTo>
                  <a:pt x="8373" y="14099"/>
                  <a:pt x="8400" y="14110"/>
                  <a:pt x="8483" y="14089"/>
                </a:cubicBezTo>
              </a:path>
              <a:path w="2680" h="1515">
                <a:moveTo>
                  <a:pt x="8657" y="13271"/>
                </a:moveTo>
                <a:cubicBezTo>
                  <a:pt x="8666" y="13331"/>
                  <a:pt x="8669" y="13415"/>
                  <a:pt x="8706" y="13469"/>
                </a:cubicBezTo>
                <a:cubicBezTo>
                  <a:pt x="8739" y="13518"/>
                  <a:pt x="8854" y="13656"/>
                  <a:pt x="8930" y="13618"/>
                </a:cubicBezTo>
                <a:cubicBezTo>
                  <a:pt x="8946" y="13601"/>
                  <a:pt x="8963" y="13585"/>
                  <a:pt x="8979" y="13568"/>
                </a:cubicBezTo>
              </a:path>
              <a:path w="2680" h="1515">
                <a:moveTo>
                  <a:pt x="9128" y="13072"/>
                </a:moveTo>
                <a:cubicBezTo>
                  <a:pt x="9078" y="13320"/>
                  <a:pt x="9029" y="13568"/>
                  <a:pt x="8979" y="13816"/>
                </a:cubicBezTo>
                <a:cubicBezTo>
                  <a:pt x="8929" y="14069"/>
                  <a:pt x="8911" y="14279"/>
                  <a:pt x="8905" y="145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 5x+4=3(2x-1)-x+7        10.  5(2x+4)-(x-6)=10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Ink 4"/>
          <p:cNvSpPr/>
          <p:nvPr/>
        </p:nvSpPr>
        <p:spPr>
          <a:xfrm>
            <a:off x="446040" y="2214720"/>
            <a:ext cx="1197000" cy="384120"/>
          </a:xfrm>
          <a:custGeom>
            <a:avLst/>
            <a:gdLst/>
            <a:ahLst/>
            <a:rect l="l" t="t" r="r" b="b"/>
            <a:pathLst>
              <a:path w="3325" h="1067">
                <a:moveTo>
                  <a:pt x="1389" y="6226"/>
                </a:moveTo>
                <a:cubicBezTo>
                  <a:pt x="1526" y="6226"/>
                  <a:pt x="1652" y="6218"/>
                  <a:pt x="1786" y="6201"/>
                </a:cubicBezTo>
                <a:cubicBezTo>
                  <a:pt x="1827" y="6201"/>
                  <a:pt x="1835" y="6201"/>
                  <a:pt x="1860" y="6201"/>
                </a:cubicBezTo>
              </a:path>
              <a:path w="3325" h="1067">
                <a:moveTo>
                  <a:pt x="1315" y="6176"/>
                </a:moveTo>
                <a:cubicBezTo>
                  <a:pt x="1291" y="6273"/>
                  <a:pt x="1270" y="6373"/>
                  <a:pt x="1265" y="6474"/>
                </a:cubicBezTo>
                <a:cubicBezTo>
                  <a:pt x="1263" y="6523"/>
                  <a:pt x="1265" y="6574"/>
                  <a:pt x="1265" y="6623"/>
                </a:cubicBezTo>
                <a:cubicBezTo>
                  <a:pt x="1301" y="6587"/>
                  <a:pt x="1336" y="6536"/>
                  <a:pt x="1389" y="6524"/>
                </a:cubicBezTo>
                <a:cubicBezTo>
                  <a:pt x="1474" y="6504"/>
                  <a:pt x="1572" y="6561"/>
                  <a:pt x="1612" y="6623"/>
                </a:cubicBezTo>
                <a:cubicBezTo>
                  <a:pt x="1667" y="6707"/>
                  <a:pt x="1706" y="6756"/>
                  <a:pt x="1736" y="6846"/>
                </a:cubicBezTo>
                <a:cubicBezTo>
                  <a:pt x="1757" y="6911"/>
                  <a:pt x="1775" y="6966"/>
                  <a:pt x="1712" y="7020"/>
                </a:cubicBezTo>
                <a:cubicBezTo>
                  <a:pt x="1646" y="7077"/>
                  <a:pt x="1544" y="7090"/>
                  <a:pt x="1463" y="7094"/>
                </a:cubicBezTo>
                <a:cubicBezTo>
                  <a:pt x="1426" y="7096"/>
                  <a:pt x="1252" y="7103"/>
                  <a:pt x="1240" y="7045"/>
                </a:cubicBezTo>
                <a:cubicBezTo>
                  <a:pt x="1248" y="7028"/>
                  <a:pt x="1257" y="7012"/>
                  <a:pt x="1265" y="6995"/>
                </a:cubicBezTo>
              </a:path>
              <a:path w="3325" h="1067">
                <a:moveTo>
                  <a:pt x="2009" y="6672"/>
                </a:moveTo>
                <a:cubicBezTo>
                  <a:pt x="2036" y="6745"/>
                  <a:pt x="2063" y="6831"/>
                  <a:pt x="2108" y="6896"/>
                </a:cubicBezTo>
                <a:cubicBezTo>
                  <a:pt x="2163" y="6977"/>
                  <a:pt x="2201" y="6995"/>
                  <a:pt x="2282" y="7045"/>
                </a:cubicBezTo>
                <a:cubicBezTo>
                  <a:pt x="2357" y="7091"/>
                  <a:pt x="2414" y="7110"/>
                  <a:pt x="2505" y="7119"/>
                </a:cubicBezTo>
              </a:path>
              <a:path w="3325" h="1067">
                <a:moveTo>
                  <a:pt x="2356" y="6598"/>
                </a:moveTo>
                <a:cubicBezTo>
                  <a:pt x="2315" y="6662"/>
                  <a:pt x="2243" y="6732"/>
                  <a:pt x="2208" y="6796"/>
                </a:cubicBezTo>
                <a:cubicBezTo>
                  <a:pt x="2178" y="6852"/>
                  <a:pt x="2135" y="6926"/>
                  <a:pt x="2084" y="6970"/>
                </a:cubicBezTo>
                <a:cubicBezTo>
                  <a:pt x="2074" y="6979"/>
                  <a:pt x="1930" y="7094"/>
                  <a:pt x="1935" y="7094"/>
                </a:cubicBezTo>
                <a:cubicBezTo>
                  <a:pt x="1943" y="7086"/>
                  <a:pt x="1952" y="7077"/>
                  <a:pt x="1960" y="7069"/>
                </a:cubicBezTo>
              </a:path>
              <a:path w="3325" h="1067">
                <a:moveTo>
                  <a:pt x="2877" y="6573"/>
                </a:moveTo>
                <a:cubicBezTo>
                  <a:pt x="2891" y="6672"/>
                  <a:pt x="2881" y="6799"/>
                  <a:pt x="2902" y="6896"/>
                </a:cubicBezTo>
                <a:cubicBezTo>
                  <a:pt x="2914" y="6953"/>
                  <a:pt x="2925" y="7001"/>
                  <a:pt x="2952" y="7045"/>
                </a:cubicBezTo>
              </a:path>
              <a:path w="3325" h="1067">
                <a:moveTo>
                  <a:pt x="2654" y="6772"/>
                </a:moveTo>
                <a:cubicBezTo>
                  <a:pt x="2812" y="6772"/>
                  <a:pt x="3004" y="6802"/>
                  <a:pt x="3150" y="6747"/>
                </a:cubicBezTo>
              </a:path>
              <a:path w="3325" h="1067">
                <a:moveTo>
                  <a:pt x="3448" y="6424"/>
                </a:moveTo>
                <a:cubicBezTo>
                  <a:pt x="3448" y="6496"/>
                  <a:pt x="3427" y="6533"/>
                  <a:pt x="3423" y="6598"/>
                </a:cubicBezTo>
                <a:cubicBezTo>
                  <a:pt x="3419" y="6667"/>
                  <a:pt x="3457" y="6716"/>
                  <a:pt x="3522" y="6722"/>
                </a:cubicBezTo>
                <a:cubicBezTo>
                  <a:pt x="3609" y="6730"/>
                  <a:pt x="3690" y="6724"/>
                  <a:pt x="3770" y="6697"/>
                </a:cubicBezTo>
              </a:path>
              <a:path w="3325" h="1067">
                <a:moveTo>
                  <a:pt x="3770" y="6152"/>
                </a:moveTo>
                <a:cubicBezTo>
                  <a:pt x="3690" y="6218"/>
                  <a:pt x="3742" y="6246"/>
                  <a:pt x="3746" y="6350"/>
                </a:cubicBezTo>
                <a:cubicBezTo>
                  <a:pt x="3755" y="6558"/>
                  <a:pt x="3747" y="6769"/>
                  <a:pt x="3770" y="6970"/>
                </a:cubicBezTo>
                <a:cubicBezTo>
                  <a:pt x="3779" y="7046"/>
                  <a:pt x="3771" y="7102"/>
                  <a:pt x="3795" y="7169"/>
                </a:cubicBezTo>
                <a:cubicBezTo>
                  <a:pt x="3819" y="7216"/>
                  <a:pt x="3827" y="7235"/>
                  <a:pt x="3820" y="7169"/>
                </a:cubicBezTo>
              </a:path>
              <a:path w="3325" h="1067">
                <a:moveTo>
                  <a:pt x="4043" y="6772"/>
                </a:moveTo>
                <a:cubicBezTo>
                  <a:pt x="4134" y="6772"/>
                  <a:pt x="4225" y="6772"/>
                  <a:pt x="4316" y="6772"/>
                </a:cubicBezTo>
              </a:path>
              <a:path w="3325" h="1067">
                <a:moveTo>
                  <a:pt x="4242" y="6896"/>
                </a:moveTo>
                <a:cubicBezTo>
                  <a:pt x="4295" y="6928"/>
                  <a:pt x="4372" y="6931"/>
                  <a:pt x="4440" y="6921"/>
                </a:cubicBezTo>
                <a:cubicBezTo>
                  <a:pt x="4481" y="6913"/>
                  <a:pt x="4523" y="6904"/>
                  <a:pt x="4564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Ink 5"/>
          <p:cNvSpPr/>
          <p:nvPr/>
        </p:nvSpPr>
        <p:spPr>
          <a:xfrm>
            <a:off x="1857240" y="2286000"/>
            <a:ext cx="2009880" cy="536400"/>
          </a:xfrm>
          <a:custGeom>
            <a:avLst/>
            <a:gdLst/>
            <a:ahLst/>
            <a:rect l="l" t="t" r="r" b="b"/>
            <a:pathLst>
              <a:path w="5582" h="1489">
                <a:moveTo>
                  <a:pt x="5358" y="6350"/>
                </a:moveTo>
                <a:cubicBezTo>
                  <a:pt x="5323" y="6408"/>
                  <a:pt x="5321" y="6482"/>
                  <a:pt x="5283" y="6548"/>
                </a:cubicBezTo>
                <a:cubicBezTo>
                  <a:pt x="5228" y="6642"/>
                  <a:pt x="5174" y="6760"/>
                  <a:pt x="5159" y="6871"/>
                </a:cubicBezTo>
                <a:cubicBezTo>
                  <a:pt x="5145" y="6968"/>
                  <a:pt x="5193" y="7035"/>
                  <a:pt x="5234" y="7094"/>
                </a:cubicBezTo>
                <a:cubicBezTo>
                  <a:pt x="5269" y="7145"/>
                  <a:pt x="5336" y="7209"/>
                  <a:pt x="5407" y="7218"/>
                </a:cubicBezTo>
                <a:cubicBezTo>
                  <a:pt x="5531" y="7233"/>
                  <a:pt x="5606" y="7200"/>
                  <a:pt x="5680" y="7119"/>
                </a:cubicBezTo>
                <a:cubicBezTo>
                  <a:pt x="5726" y="7069"/>
                  <a:pt x="5765" y="6987"/>
                  <a:pt x="5779" y="6921"/>
                </a:cubicBezTo>
                <a:cubicBezTo>
                  <a:pt x="5788" y="6880"/>
                  <a:pt x="5756" y="6783"/>
                  <a:pt x="5705" y="6772"/>
                </a:cubicBezTo>
                <a:cubicBezTo>
                  <a:pt x="5631" y="6757"/>
                  <a:pt x="5540" y="6841"/>
                  <a:pt x="5507" y="6896"/>
                </a:cubicBezTo>
                <a:cubicBezTo>
                  <a:pt x="5459" y="6976"/>
                  <a:pt x="5449" y="7044"/>
                  <a:pt x="5507" y="7119"/>
                </a:cubicBezTo>
                <a:cubicBezTo>
                  <a:pt x="5563" y="7176"/>
                  <a:pt x="5589" y="7193"/>
                  <a:pt x="5655" y="7169"/>
                </a:cubicBezTo>
              </a:path>
              <a:path w="5582" h="1489">
                <a:moveTo>
                  <a:pt x="6028" y="6796"/>
                </a:moveTo>
                <a:cubicBezTo>
                  <a:pt x="6080" y="6919"/>
                  <a:pt x="6116" y="6988"/>
                  <a:pt x="6201" y="7094"/>
                </a:cubicBezTo>
                <a:cubicBezTo>
                  <a:pt x="6278" y="7190"/>
                  <a:pt x="6316" y="7240"/>
                  <a:pt x="6424" y="7293"/>
                </a:cubicBezTo>
                <a:cubicBezTo>
                  <a:pt x="6488" y="7325"/>
                  <a:pt x="6515" y="7321"/>
                  <a:pt x="6573" y="7293"/>
                </a:cubicBezTo>
              </a:path>
              <a:path w="5582" h="1489">
                <a:moveTo>
                  <a:pt x="6375" y="6697"/>
                </a:moveTo>
                <a:cubicBezTo>
                  <a:pt x="6302" y="6783"/>
                  <a:pt x="6166" y="6896"/>
                  <a:pt x="6102" y="6995"/>
                </a:cubicBezTo>
                <a:cubicBezTo>
                  <a:pt x="6053" y="7071"/>
                  <a:pt x="6039" y="7109"/>
                  <a:pt x="5978" y="7169"/>
                </a:cubicBezTo>
                <a:cubicBezTo>
                  <a:pt x="5953" y="7193"/>
                  <a:pt x="5945" y="7201"/>
                  <a:pt x="5978" y="7218"/>
                </a:cubicBezTo>
              </a:path>
              <a:path w="5582" h="1489">
                <a:moveTo>
                  <a:pt x="6623" y="6921"/>
                </a:moveTo>
                <a:cubicBezTo>
                  <a:pt x="6706" y="6921"/>
                  <a:pt x="6788" y="6921"/>
                  <a:pt x="6871" y="6921"/>
                </a:cubicBezTo>
              </a:path>
              <a:path w="5582" h="1489">
                <a:moveTo>
                  <a:pt x="7119" y="6598"/>
                </a:moveTo>
                <a:cubicBezTo>
                  <a:pt x="7257" y="6529"/>
                  <a:pt x="7309" y="6524"/>
                  <a:pt x="7466" y="6524"/>
                </a:cubicBezTo>
                <a:cubicBezTo>
                  <a:pt x="7585" y="6524"/>
                  <a:pt x="7629" y="6574"/>
                  <a:pt x="7590" y="6697"/>
                </a:cubicBezTo>
                <a:cubicBezTo>
                  <a:pt x="7568" y="6767"/>
                  <a:pt x="7457" y="6784"/>
                  <a:pt x="7417" y="6821"/>
                </a:cubicBezTo>
                <a:cubicBezTo>
                  <a:pt x="7353" y="6881"/>
                  <a:pt x="7340" y="6909"/>
                  <a:pt x="7243" y="6921"/>
                </a:cubicBezTo>
                <a:cubicBezTo>
                  <a:pt x="7308" y="6916"/>
                  <a:pt x="7431" y="6866"/>
                  <a:pt x="7491" y="6871"/>
                </a:cubicBezTo>
                <a:cubicBezTo>
                  <a:pt x="7576" y="6878"/>
                  <a:pt x="7646" y="6937"/>
                  <a:pt x="7665" y="7020"/>
                </a:cubicBezTo>
                <a:cubicBezTo>
                  <a:pt x="7682" y="7096"/>
                  <a:pt x="7647" y="7153"/>
                  <a:pt x="7615" y="7218"/>
                </a:cubicBezTo>
                <a:cubicBezTo>
                  <a:pt x="7582" y="7283"/>
                  <a:pt x="7555" y="7308"/>
                  <a:pt x="7491" y="7342"/>
                </a:cubicBezTo>
                <a:cubicBezTo>
                  <a:pt x="7403" y="7389"/>
                  <a:pt x="7332" y="7355"/>
                  <a:pt x="7243" y="7342"/>
                </a:cubicBezTo>
                <a:cubicBezTo>
                  <a:pt x="7195" y="7335"/>
                  <a:pt x="7119" y="7319"/>
                  <a:pt x="7144" y="7243"/>
                </a:cubicBezTo>
                <a:cubicBezTo>
                  <a:pt x="7152" y="7235"/>
                  <a:pt x="7161" y="7226"/>
                  <a:pt x="7169" y="7218"/>
                </a:cubicBezTo>
              </a:path>
              <a:path w="5582" h="1489">
                <a:moveTo>
                  <a:pt x="7987" y="6871"/>
                </a:moveTo>
                <a:cubicBezTo>
                  <a:pt x="8100" y="6871"/>
                  <a:pt x="8179" y="6851"/>
                  <a:pt x="8285" y="6846"/>
                </a:cubicBezTo>
                <a:cubicBezTo>
                  <a:pt x="8301" y="6846"/>
                  <a:pt x="8318" y="6846"/>
                  <a:pt x="8334" y="6846"/>
                </a:cubicBezTo>
              </a:path>
              <a:path w="5582" h="1489">
                <a:moveTo>
                  <a:pt x="8558" y="6623"/>
                </a:moveTo>
                <a:cubicBezTo>
                  <a:pt x="8608" y="6749"/>
                  <a:pt x="8664" y="6842"/>
                  <a:pt x="8706" y="6970"/>
                </a:cubicBezTo>
                <a:cubicBezTo>
                  <a:pt x="8739" y="7069"/>
                  <a:pt x="8807" y="7120"/>
                  <a:pt x="8880" y="7193"/>
                </a:cubicBezTo>
                <a:cubicBezTo>
                  <a:pt x="8944" y="7256"/>
                  <a:pt x="8993" y="7282"/>
                  <a:pt x="9079" y="7293"/>
                </a:cubicBezTo>
              </a:path>
              <a:path w="5582" h="1489">
                <a:moveTo>
                  <a:pt x="8855" y="6648"/>
                </a:moveTo>
                <a:cubicBezTo>
                  <a:pt x="8768" y="6785"/>
                  <a:pt x="8694" y="6951"/>
                  <a:pt x="8582" y="7069"/>
                </a:cubicBezTo>
                <a:cubicBezTo>
                  <a:pt x="8523" y="7132"/>
                  <a:pt x="8505" y="7199"/>
                  <a:pt x="8458" y="7268"/>
                </a:cubicBezTo>
                <a:cubicBezTo>
                  <a:pt x="8419" y="7325"/>
                  <a:pt x="8524" y="7256"/>
                  <a:pt x="8582" y="7218"/>
                </a:cubicBezTo>
              </a:path>
              <a:path w="5582" h="1489">
                <a:moveTo>
                  <a:pt x="9426" y="6747"/>
                </a:moveTo>
                <a:cubicBezTo>
                  <a:pt x="9414" y="6823"/>
                  <a:pt x="9352" y="7026"/>
                  <a:pt x="9376" y="7119"/>
                </a:cubicBezTo>
                <a:cubicBezTo>
                  <a:pt x="9394" y="7186"/>
                  <a:pt x="9392" y="7262"/>
                  <a:pt x="9426" y="7317"/>
                </a:cubicBezTo>
              </a:path>
              <a:path w="5582" h="1489">
                <a:moveTo>
                  <a:pt x="9227" y="7020"/>
                </a:moveTo>
                <a:cubicBezTo>
                  <a:pt x="9312" y="6977"/>
                  <a:pt x="9360" y="6982"/>
                  <a:pt x="9451" y="6970"/>
                </a:cubicBezTo>
                <a:cubicBezTo>
                  <a:pt x="9576" y="6949"/>
                  <a:pt x="9602" y="6948"/>
                  <a:pt x="9674" y="6921"/>
                </a:cubicBezTo>
              </a:path>
              <a:path w="5582" h="1489">
                <a:moveTo>
                  <a:pt x="9971" y="6548"/>
                </a:moveTo>
                <a:cubicBezTo>
                  <a:pt x="10083" y="6574"/>
                  <a:pt x="10204" y="6607"/>
                  <a:pt x="10319" y="6623"/>
                </a:cubicBezTo>
                <a:cubicBezTo>
                  <a:pt x="10409" y="6635"/>
                  <a:pt x="10524" y="6667"/>
                  <a:pt x="10616" y="6648"/>
                </a:cubicBezTo>
                <a:cubicBezTo>
                  <a:pt x="10705" y="6629"/>
                  <a:pt x="10729" y="6602"/>
                  <a:pt x="10740" y="6524"/>
                </a:cubicBezTo>
                <a:cubicBezTo>
                  <a:pt x="10677" y="6587"/>
                  <a:pt x="10691" y="6631"/>
                  <a:pt x="10666" y="6722"/>
                </a:cubicBezTo>
                <a:cubicBezTo>
                  <a:pt x="10627" y="6862"/>
                  <a:pt x="10555" y="6996"/>
                  <a:pt x="10542" y="7144"/>
                </a:cubicBezTo>
                <a:cubicBezTo>
                  <a:pt x="10527" y="7319"/>
                  <a:pt x="10529" y="7468"/>
                  <a:pt x="10542" y="7640"/>
                </a:cubicBezTo>
                <a:cubicBezTo>
                  <a:pt x="10542" y="7739"/>
                  <a:pt x="10542" y="7772"/>
                  <a:pt x="10542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Ink 6"/>
          <p:cNvSpPr/>
          <p:nvPr/>
        </p:nvSpPr>
        <p:spPr>
          <a:xfrm>
            <a:off x="4991040" y="2251080"/>
            <a:ext cx="1251000" cy="455760"/>
          </a:xfrm>
          <a:custGeom>
            <a:avLst/>
            <a:gdLst/>
            <a:ahLst/>
            <a:rect l="l" t="t" r="r" b="b"/>
            <a:pathLst>
              <a:path w="3473" h="1266">
                <a:moveTo>
                  <a:pt x="13866" y="6251"/>
                </a:moveTo>
                <a:cubicBezTo>
                  <a:pt x="13876" y="6330"/>
                  <a:pt x="13891" y="6390"/>
                  <a:pt x="13891" y="6474"/>
                </a:cubicBezTo>
                <a:cubicBezTo>
                  <a:pt x="13891" y="6600"/>
                  <a:pt x="13866" y="6717"/>
                  <a:pt x="13866" y="6846"/>
                </a:cubicBezTo>
                <a:cubicBezTo>
                  <a:pt x="13866" y="7011"/>
                  <a:pt x="13866" y="7177"/>
                  <a:pt x="13866" y="7342"/>
                </a:cubicBezTo>
              </a:path>
              <a:path w="3473" h="1266">
                <a:moveTo>
                  <a:pt x="14213" y="6623"/>
                </a:moveTo>
                <a:cubicBezTo>
                  <a:pt x="14186" y="6769"/>
                  <a:pt x="14163" y="6897"/>
                  <a:pt x="14163" y="7045"/>
                </a:cubicBezTo>
                <a:cubicBezTo>
                  <a:pt x="14163" y="7177"/>
                  <a:pt x="14185" y="7266"/>
                  <a:pt x="14263" y="7367"/>
                </a:cubicBezTo>
                <a:cubicBezTo>
                  <a:pt x="14308" y="7425"/>
                  <a:pt x="14343" y="7417"/>
                  <a:pt x="14412" y="7417"/>
                </a:cubicBezTo>
                <a:cubicBezTo>
                  <a:pt x="14477" y="7417"/>
                  <a:pt x="14568" y="7359"/>
                  <a:pt x="14610" y="7317"/>
                </a:cubicBezTo>
                <a:cubicBezTo>
                  <a:pt x="14673" y="7255"/>
                  <a:pt x="14703" y="7129"/>
                  <a:pt x="14709" y="7045"/>
                </a:cubicBezTo>
                <a:cubicBezTo>
                  <a:pt x="14718" y="6919"/>
                  <a:pt x="14696" y="6791"/>
                  <a:pt x="14660" y="6672"/>
                </a:cubicBezTo>
                <a:cubicBezTo>
                  <a:pt x="14641" y="6611"/>
                  <a:pt x="14553" y="6519"/>
                  <a:pt x="14486" y="6499"/>
                </a:cubicBezTo>
                <a:cubicBezTo>
                  <a:pt x="14389" y="6470"/>
                  <a:pt x="14340" y="6511"/>
                  <a:pt x="14288" y="6573"/>
                </a:cubicBezTo>
                <a:cubicBezTo>
                  <a:pt x="14231" y="6641"/>
                  <a:pt x="14199" y="6686"/>
                  <a:pt x="14188" y="6772"/>
                </a:cubicBezTo>
              </a:path>
              <a:path w="3473" h="1266">
                <a:moveTo>
                  <a:pt x="15032" y="6921"/>
                </a:moveTo>
                <a:cubicBezTo>
                  <a:pt x="15087" y="7135"/>
                  <a:pt x="15087" y="7152"/>
                  <a:pt x="15205" y="7293"/>
                </a:cubicBezTo>
                <a:cubicBezTo>
                  <a:pt x="15267" y="7367"/>
                  <a:pt x="15279" y="7385"/>
                  <a:pt x="15379" y="7392"/>
                </a:cubicBezTo>
                <a:cubicBezTo>
                  <a:pt x="15387" y="7392"/>
                  <a:pt x="15396" y="7392"/>
                  <a:pt x="15404" y="7392"/>
                </a:cubicBezTo>
              </a:path>
              <a:path w="3473" h="1266">
                <a:moveTo>
                  <a:pt x="15255" y="6945"/>
                </a:moveTo>
                <a:cubicBezTo>
                  <a:pt x="15172" y="7035"/>
                  <a:pt x="15055" y="7232"/>
                  <a:pt x="14957" y="7317"/>
                </a:cubicBezTo>
                <a:cubicBezTo>
                  <a:pt x="14909" y="7359"/>
                  <a:pt x="14896" y="7350"/>
                  <a:pt x="14883" y="7417"/>
                </a:cubicBezTo>
              </a:path>
              <a:path w="3473" h="1266">
                <a:moveTo>
                  <a:pt x="15701" y="6821"/>
                </a:moveTo>
                <a:cubicBezTo>
                  <a:pt x="15701" y="6932"/>
                  <a:pt x="15710" y="7017"/>
                  <a:pt x="15726" y="7119"/>
                </a:cubicBezTo>
                <a:cubicBezTo>
                  <a:pt x="15736" y="7183"/>
                  <a:pt x="15752" y="7229"/>
                  <a:pt x="15776" y="7293"/>
                </a:cubicBezTo>
              </a:path>
              <a:path w="3473" h="1266">
                <a:moveTo>
                  <a:pt x="15528" y="7119"/>
                </a:moveTo>
                <a:cubicBezTo>
                  <a:pt x="15645" y="7144"/>
                  <a:pt x="15688" y="7125"/>
                  <a:pt x="15801" y="7119"/>
                </a:cubicBezTo>
                <a:cubicBezTo>
                  <a:pt x="15817" y="7119"/>
                  <a:pt x="15834" y="7119"/>
                  <a:pt x="15850" y="7119"/>
                </a:cubicBezTo>
              </a:path>
              <a:path w="3473" h="1266">
                <a:moveTo>
                  <a:pt x="16073" y="6747"/>
                </a:moveTo>
                <a:cubicBezTo>
                  <a:pt x="16164" y="6665"/>
                  <a:pt x="16223" y="6609"/>
                  <a:pt x="16346" y="6598"/>
                </a:cubicBezTo>
                <a:cubicBezTo>
                  <a:pt x="16395" y="6594"/>
                  <a:pt x="16465" y="6630"/>
                  <a:pt x="16495" y="6672"/>
                </a:cubicBezTo>
                <a:cubicBezTo>
                  <a:pt x="16545" y="6742"/>
                  <a:pt x="16522" y="6847"/>
                  <a:pt x="16495" y="6921"/>
                </a:cubicBezTo>
                <a:cubicBezTo>
                  <a:pt x="16464" y="7005"/>
                  <a:pt x="16417" y="7073"/>
                  <a:pt x="16371" y="7144"/>
                </a:cubicBezTo>
                <a:cubicBezTo>
                  <a:pt x="16314" y="7233"/>
                  <a:pt x="16259" y="7282"/>
                  <a:pt x="16197" y="7367"/>
                </a:cubicBezTo>
                <a:cubicBezTo>
                  <a:pt x="16189" y="7384"/>
                  <a:pt x="16181" y="7400"/>
                  <a:pt x="16173" y="7417"/>
                </a:cubicBezTo>
                <a:cubicBezTo>
                  <a:pt x="16247" y="7466"/>
                  <a:pt x="16318" y="7452"/>
                  <a:pt x="16396" y="7491"/>
                </a:cubicBezTo>
                <a:cubicBezTo>
                  <a:pt x="16459" y="7523"/>
                  <a:pt x="16516" y="7516"/>
                  <a:pt x="16594" y="7516"/>
                </a:cubicBezTo>
                <a:cubicBezTo>
                  <a:pt x="16611" y="7516"/>
                  <a:pt x="16627" y="7516"/>
                  <a:pt x="16644" y="7516"/>
                </a:cubicBezTo>
              </a:path>
              <a:path w="3473" h="1266">
                <a:moveTo>
                  <a:pt x="16966" y="6796"/>
                </a:moveTo>
                <a:cubicBezTo>
                  <a:pt x="16917" y="6962"/>
                  <a:pt x="16849" y="7121"/>
                  <a:pt x="16842" y="7293"/>
                </a:cubicBezTo>
                <a:cubicBezTo>
                  <a:pt x="16840" y="7336"/>
                  <a:pt x="16876" y="7467"/>
                  <a:pt x="16917" y="7491"/>
                </a:cubicBezTo>
                <a:cubicBezTo>
                  <a:pt x="16968" y="7520"/>
                  <a:pt x="17053" y="7516"/>
                  <a:pt x="17115" y="7516"/>
                </a:cubicBezTo>
                <a:cubicBezTo>
                  <a:pt x="17234" y="7516"/>
                  <a:pt x="17271" y="7420"/>
                  <a:pt x="17314" y="7317"/>
                </a:cubicBezTo>
                <a:cubicBezTo>
                  <a:pt x="17353" y="7223"/>
                  <a:pt x="17342" y="7138"/>
                  <a:pt x="17314" y="7045"/>
                </a:cubicBezTo>
                <a:cubicBezTo>
                  <a:pt x="17283" y="6943"/>
                  <a:pt x="17193" y="6918"/>
                  <a:pt x="17115" y="6846"/>
                </a:cubicBezTo>
                <a:cubicBezTo>
                  <a:pt x="17084" y="6817"/>
                  <a:pt x="17049" y="6798"/>
                  <a:pt x="17016" y="67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Ink 7"/>
          <p:cNvSpPr/>
          <p:nvPr/>
        </p:nvSpPr>
        <p:spPr>
          <a:xfrm>
            <a:off x="6411960" y="2438280"/>
            <a:ext cx="392040" cy="26856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17810" y="6995"/>
                </a:moveTo>
                <a:cubicBezTo>
                  <a:pt x="17916" y="6995"/>
                  <a:pt x="18009" y="6986"/>
                  <a:pt x="18107" y="6970"/>
                </a:cubicBezTo>
                <a:cubicBezTo>
                  <a:pt x="18124" y="6970"/>
                  <a:pt x="18140" y="6970"/>
                  <a:pt x="18157" y="6970"/>
                </a:cubicBezTo>
              </a:path>
              <a:path w="1092" h="745">
                <a:moveTo>
                  <a:pt x="18405" y="6772"/>
                </a:moveTo>
                <a:cubicBezTo>
                  <a:pt x="18405" y="6860"/>
                  <a:pt x="18422" y="6910"/>
                  <a:pt x="18455" y="6995"/>
                </a:cubicBezTo>
                <a:cubicBezTo>
                  <a:pt x="18492" y="7092"/>
                  <a:pt x="18557" y="7135"/>
                  <a:pt x="18604" y="7218"/>
                </a:cubicBezTo>
                <a:cubicBezTo>
                  <a:pt x="18653" y="7306"/>
                  <a:pt x="18662" y="7376"/>
                  <a:pt x="18752" y="7441"/>
                </a:cubicBezTo>
                <a:cubicBezTo>
                  <a:pt x="18842" y="7506"/>
                  <a:pt x="18849" y="7509"/>
                  <a:pt x="18901" y="7417"/>
                </a:cubicBezTo>
              </a:path>
              <a:path w="1092" h="745">
                <a:moveTo>
                  <a:pt x="18703" y="6772"/>
                </a:moveTo>
                <a:cubicBezTo>
                  <a:pt x="18650" y="6864"/>
                  <a:pt x="18602" y="6944"/>
                  <a:pt x="18529" y="7020"/>
                </a:cubicBezTo>
                <a:cubicBezTo>
                  <a:pt x="18456" y="7096"/>
                  <a:pt x="18380" y="7169"/>
                  <a:pt x="18306" y="7243"/>
                </a:cubicBezTo>
                <a:cubicBezTo>
                  <a:pt x="18252" y="7297"/>
                  <a:pt x="18222" y="7372"/>
                  <a:pt x="18157" y="7417"/>
                </a:cubicBezTo>
                <a:cubicBezTo>
                  <a:pt x="18113" y="7448"/>
                  <a:pt x="18086" y="7522"/>
                  <a:pt x="18033" y="7516"/>
                </a:cubicBezTo>
                <a:cubicBezTo>
                  <a:pt x="18025" y="7508"/>
                  <a:pt x="18016" y="7499"/>
                  <a:pt x="18008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Ink 8"/>
          <p:cNvSpPr/>
          <p:nvPr/>
        </p:nvSpPr>
        <p:spPr>
          <a:xfrm>
            <a:off x="6991200" y="2411280"/>
            <a:ext cx="1339920" cy="347760"/>
          </a:xfrm>
          <a:custGeom>
            <a:avLst/>
            <a:gdLst/>
            <a:ahLst/>
            <a:rect l="l" t="t" r="r" b="b"/>
            <a:pathLst>
              <a:path w="3722" h="969">
                <a:moveTo>
                  <a:pt x="19794" y="6697"/>
                </a:moveTo>
                <a:cubicBezTo>
                  <a:pt x="19784" y="6770"/>
                  <a:pt x="19769" y="6813"/>
                  <a:pt x="19769" y="6896"/>
                </a:cubicBezTo>
                <a:cubicBezTo>
                  <a:pt x="19769" y="6975"/>
                  <a:pt x="19748" y="7042"/>
                  <a:pt x="19745" y="7119"/>
                </a:cubicBezTo>
                <a:cubicBezTo>
                  <a:pt x="19743" y="7168"/>
                  <a:pt x="19745" y="7219"/>
                  <a:pt x="19745" y="7268"/>
                </a:cubicBezTo>
              </a:path>
              <a:path w="3722" h="969">
                <a:moveTo>
                  <a:pt x="19422" y="6970"/>
                </a:moveTo>
                <a:cubicBezTo>
                  <a:pt x="19561" y="6944"/>
                  <a:pt x="19658" y="6955"/>
                  <a:pt x="19794" y="6970"/>
                </a:cubicBezTo>
                <a:cubicBezTo>
                  <a:pt x="19859" y="6977"/>
                  <a:pt x="19928" y="6970"/>
                  <a:pt x="19993" y="6970"/>
                </a:cubicBezTo>
              </a:path>
              <a:path w="3722" h="969">
                <a:moveTo>
                  <a:pt x="20315" y="6697"/>
                </a:moveTo>
                <a:cubicBezTo>
                  <a:pt x="20219" y="6870"/>
                  <a:pt x="20154" y="6967"/>
                  <a:pt x="20117" y="7169"/>
                </a:cubicBezTo>
                <a:cubicBezTo>
                  <a:pt x="20102" y="7250"/>
                  <a:pt x="20109" y="7368"/>
                  <a:pt x="20141" y="7441"/>
                </a:cubicBezTo>
                <a:cubicBezTo>
                  <a:pt x="20184" y="7539"/>
                  <a:pt x="20298" y="7516"/>
                  <a:pt x="20389" y="7516"/>
                </a:cubicBezTo>
                <a:cubicBezTo>
                  <a:pt x="20466" y="7516"/>
                  <a:pt x="20549" y="7490"/>
                  <a:pt x="20613" y="7441"/>
                </a:cubicBezTo>
                <a:cubicBezTo>
                  <a:pt x="20672" y="7395"/>
                  <a:pt x="20708" y="7312"/>
                  <a:pt x="20712" y="7243"/>
                </a:cubicBezTo>
                <a:cubicBezTo>
                  <a:pt x="20716" y="7170"/>
                  <a:pt x="20679" y="7148"/>
                  <a:pt x="20613" y="7144"/>
                </a:cubicBezTo>
                <a:cubicBezTo>
                  <a:pt x="20541" y="7140"/>
                  <a:pt x="20512" y="7194"/>
                  <a:pt x="20464" y="7243"/>
                </a:cubicBezTo>
                <a:cubicBezTo>
                  <a:pt x="20396" y="7311"/>
                  <a:pt x="20346" y="7314"/>
                  <a:pt x="20340" y="7417"/>
                </a:cubicBezTo>
                <a:cubicBezTo>
                  <a:pt x="20338" y="7448"/>
                  <a:pt x="20324" y="7595"/>
                  <a:pt x="20389" y="7590"/>
                </a:cubicBezTo>
                <a:cubicBezTo>
                  <a:pt x="20406" y="7582"/>
                  <a:pt x="20422" y="7573"/>
                  <a:pt x="20439" y="7565"/>
                </a:cubicBezTo>
              </a:path>
              <a:path w="3722" h="969">
                <a:moveTo>
                  <a:pt x="21084" y="7094"/>
                </a:moveTo>
                <a:cubicBezTo>
                  <a:pt x="21222" y="7079"/>
                  <a:pt x="21344" y="7069"/>
                  <a:pt x="21481" y="7069"/>
                </a:cubicBezTo>
              </a:path>
              <a:path w="3722" h="969">
                <a:moveTo>
                  <a:pt x="21109" y="7218"/>
                </a:moveTo>
                <a:cubicBezTo>
                  <a:pt x="21252" y="7271"/>
                  <a:pt x="21352" y="7268"/>
                  <a:pt x="21506" y="7268"/>
                </a:cubicBezTo>
                <a:cubicBezTo>
                  <a:pt x="21531" y="7268"/>
                  <a:pt x="21555" y="7268"/>
                  <a:pt x="21580" y="7268"/>
                </a:cubicBezTo>
              </a:path>
              <a:path w="3722" h="969">
                <a:moveTo>
                  <a:pt x="22076" y="6796"/>
                </a:moveTo>
                <a:cubicBezTo>
                  <a:pt x="22047" y="6898"/>
                  <a:pt x="22011" y="6994"/>
                  <a:pt x="21977" y="7094"/>
                </a:cubicBezTo>
                <a:cubicBezTo>
                  <a:pt x="21941" y="7200"/>
                  <a:pt x="21952" y="7306"/>
                  <a:pt x="21952" y="7417"/>
                </a:cubicBezTo>
                <a:cubicBezTo>
                  <a:pt x="21952" y="7440"/>
                  <a:pt x="21958" y="7584"/>
                  <a:pt x="21977" y="7590"/>
                </a:cubicBezTo>
                <a:cubicBezTo>
                  <a:pt x="21999" y="7568"/>
                  <a:pt x="22008" y="7563"/>
                  <a:pt x="22002" y="7541"/>
                </a:cubicBezTo>
              </a:path>
              <a:path w="3722" h="969">
                <a:moveTo>
                  <a:pt x="22399" y="6871"/>
                </a:moveTo>
                <a:cubicBezTo>
                  <a:pt x="22348" y="6950"/>
                  <a:pt x="22286" y="7049"/>
                  <a:pt x="22275" y="7144"/>
                </a:cubicBezTo>
                <a:cubicBezTo>
                  <a:pt x="22264" y="7242"/>
                  <a:pt x="22266" y="7379"/>
                  <a:pt x="22324" y="7466"/>
                </a:cubicBezTo>
                <a:cubicBezTo>
                  <a:pt x="22363" y="7524"/>
                  <a:pt x="22486" y="7610"/>
                  <a:pt x="22547" y="7640"/>
                </a:cubicBezTo>
                <a:cubicBezTo>
                  <a:pt x="22626" y="7680"/>
                  <a:pt x="22761" y="7680"/>
                  <a:pt x="22845" y="7665"/>
                </a:cubicBezTo>
                <a:cubicBezTo>
                  <a:pt x="22996" y="7638"/>
                  <a:pt x="23060" y="7520"/>
                  <a:pt x="23118" y="7392"/>
                </a:cubicBezTo>
                <a:cubicBezTo>
                  <a:pt x="23159" y="7302"/>
                  <a:pt x="23118" y="7235"/>
                  <a:pt x="23093" y="7144"/>
                </a:cubicBezTo>
              </a:path>
              <a:path w="3722" h="969">
                <a:moveTo>
                  <a:pt x="22796" y="6945"/>
                </a:moveTo>
                <a:cubicBezTo>
                  <a:pt x="22633" y="6952"/>
                  <a:pt x="22628" y="6947"/>
                  <a:pt x="22498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Ink 9"/>
          <p:cNvSpPr/>
          <p:nvPr/>
        </p:nvSpPr>
        <p:spPr>
          <a:xfrm>
            <a:off x="581040" y="2786040"/>
            <a:ext cx="1062000" cy="349200"/>
          </a:xfrm>
          <a:custGeom>
            <a:avLst/>
            <a:gdLst/>
            <a:ahLst/>
            <a:rect l="l" t="t" r="r" b="b"/>
            <a:pathLst>
              <a:path w="2953" h="968">
                <a:moveTo>
                  <a:pt x="1662" y="7813"/>
                </a:moveTo>
                <a:cubicBezTo>
                  <a:pt x="1775" y="7793"/>
                  <a:pt x="1900" y="7814"/>
                  <a:pt x="2009" y="7789"/>
                </a:cubicBezTo>
                <a:cubicBezTo>
                  <a:pt x="2050" y="7769"/>
                  <a:pt x="2056" y="7760"/>
                  <a:pt x="2084" y="7764"/>
                </a:cubicBezTo>
              </a:path>
              <a:path w="2953" h="968">
                <a:moveTo>
                  <a:pt x="1712" y="7739"/>
                </a:moveTo>
                <a:cubicBezTo>
                  <a:pt x="1656" y="7819"/>
                  <a:pt x="1617" y="7862"/>
                  <a:pt x="1612" y="7962"/>
                </a:cubicBezTo>
                <a:cubicBezTo>
                  <a:pt x="1612" y="8007"/>
                  <a:pt x="1609" y="8020"/>
                  <a:pt x="1637" y="8037"/>
                </a:cubicBezTo>
                <a:cubicBezTo>
                  <a:pt x="1683" y="8010"/>
                  <a:pt x="1733" y="7950"/>
                  <a:pt x="1786" y="7938"/>
                </a:cubicBezTo>
                <a:cubicBezTo>
                  <a:pt x="1874" y="7918"/>
                  <a:pt x="1954" y="7987"/>
                  <a:pt x="1984" y="8062"/>
                </a:cubicBezTo>
                <a:cubicBezTo>
                  <a:pt x="2022" y="8155"/>
                  <a:pt x="2054" y="8234"/>
                  <a:pt x="2059" y="8334"/>
                </a:cubicBezTo>
                <a:cubicBezTo>
                  <a:pt x="2061" y="8384"/>
                  <a:pt x="2028" y="8451"/>
                  <a:pt x="1984" y="8483"/>
                </a:cubicBezTo>
                <a:cubicBezTo>
                  <a:pt x="1920" y="8529"/>
                  <a:pt x="1803" y="8517"/>
                  <a:pt x="1736" y="8483"/>
                </a:cubicBezTo>
                <a:cubicBezTo>
                  <a:pt x="1712" y="8471"/>
                  <a:pt x="1682" y="8429"/>
                  <a:pt x="1662" y="8409"/>
                </a:cubicBezTo>
              </a:path>
              <a:path w="2953" h="968">
                <a:moveTo>
                  <a:pt x="2307" y="8111"/>
                </a:moveTo>
                <a:cubicBezTo>
                  <a:pt x="2369" y="8193"/>
                  <a:pt x="2488" y="8398"/>
                  <a:pt x="2604" y="8458"/>
                </a:cubicBezTo>
                <a:cubicBezTo>
                  <a:pt x="2678" y="8496"/>
                  <a:pt x="2721" y="8508"/>
                  <a:pt x="2803" y="8508"/>
                </a:cubicBezTo>
              </a:path>
              <a:path w="2953" h="968">
                <a:moveTo>
                  <a:pt x="2704" y="7987"/>
                </a:moveTo>
                <a:cubicBezTo>
                  <a:pt x="2620" y="8078"/>
                  <a:pt x="2563" y="8156"/>
                  <a:pt x="2505" y="8260"/>
                </a:cubicBezTo>
                <a:cubicBezTo>
                  <a:pt x="2478" y="8309"/>
                  <a:pt x="2373" y="8445"/>
                  <a:pt x="2356" y="8508"/>
                </a:cubicBezTo>
                <a:cubicBezTo>
                  <a:pt x="2356" y="8525"/>
                  <a:pt x="2356" y="8541"/>
                  <a:pt x="2356" y="8558"/>
                </a:cubicBezTo>
              </a:path>
              <a:path w="2953" h="968">
                <a:moveTo>
                  <a:pt x="3076" y="7962"/>
                </a:moveTo>
                <a:cubicBezTo>
                  <a:pt x="3103" y="8084"/>
                  <a:pt x="3087" y="8247"/>
                  <a:pt x="3125" y="8359"/>
                </a:cubicBezTo>
                <a:cubicBezTo>
                  <a:pt x="3137" y="8394"/>
                  <a:pt x="3154" y="8420"/>
                  <a:pt x="3175" y="8434"/>
                </a:cubicBezTo>
              </a:path>
              <a:path w="2953" h="968">
                <a:moveTo>
                  <a:pt x="2927" y="8161"/>
                </a:moveTo>
                <a:cubicBezTo>
                  <a:pt x="3008" y="8221"/>
                  <a:pt x="3045" y="8210"/>
                  <a:pt x="3150" y="8210"/>
                </a:cubicBezTo>
                <a:cubicBezTo>
                  <a:pt x="3225" y="8210"/>
                  <a:pt x="3249" y="8210"/>
                  <a:pt x="3299" y="8210"/>
                </a:cubicBezTo>
              </a:path>
              <a:path w="2953" h="968">
                <a:moveTo>
                  <a:pt x="3646" y="7938"/>
                </a:moveTo>
                <a:cubicBezTo>
                  <a:pt x="3608" y="8023"/>
                  <a:pt x="3579" y="8078"/>
                  <a:pt x="3621" y="8161"/>
                </a:cubicBezTo>
                <a:cubicBezTo>
                  <a:pt x="3660" y="8240"/>
                  <a:pt x="3713" y="8257"/>
                  <a:pt x="3795" y="8260"/>
                </a:cubicBezTo>
                <a:cubicBezTo>
                  <a:pt x="3820" y="8260"/>
                  <a:pt x="3845" y="8260"/>
                  <a:pt x="3870" y="8260"/>
                </a:cubicBezTo>
              </a:path>
              <a:path w="2953" h="968">
                <a:moveTo>
                  <a:pt x="3919" y="7813"/>
                </a:moveTo>
                <a:cubicBezTo>
                  <a:pt x="3895" y="8020"/>
                  <a:pt x="3876" y="8162"/>
                  <a:pt x="3894" y="8359"/>
                </a:cubicBezTo>
                <a:cubicBezTo>
                  <a:pt x="3902" y="8447"/>
                  <a:pt x="3930" y="8524"/>
                  <a:pt x="3944" y="8607"/>
                </a:cubicBezTo>
                <a:cubicBezTo>
                  <a:pt x="3954" y="8669"/>
                  <a:pt x="3949" y="8663"/>
                  <a:pt x="3994" y="8706"/>
                </a:cubicBezTo>
              </a:path>
              <a:path w="2953" h="968">
                <a:moveTo>
                  <a:pt x="4266" y="8260"/>
                </a:moveTo>
                <a:cubicBezTo>
                  <a:pt x="4373" y="8241"/>
                  <a:pt x="4457" y="8235"/>
                  <a:pt x="4564" y="8235"/>
                </a:cubicBezTo>
              </a:path>
              <a:path w="2953" h="968">
                <a:moveTo>
                  <a:pt x="4366" y="8483"/>
                </a:moveTo>
                <a:cubicBezTo>
                  <a:pt x="4438" y="8520"/>
                  <a:pt x="4488" y="8512"/>
                  <a:pt x="4564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Ink 10"/>
          <p:cNvSpPr/>
          <p:nvPr/>
        </p:nvSpPr>
        <p:spPr>
          <a:xfrm>
            <a:off x="1928880" y="2867040"/>
            <a:ext cx="928800" cy="401760"/>
          </a:xfrm>
          <a:custGeom>
            <a:avLst/>
            <a:gdLst/>
            <a:ahLst/>
            <a:rect l="l" t="t" r="r" b="b"/>
            <a:pathLst>
              <a:path w="2581" h="1118">
                <a:moveTo>
                  <a:pt x="5531" y="8012"/>
                </a:moveTo>
                <a:cubicBezTo>
                  <a:pt x="5631" y="8012"/>
                  <a:pt x="5732" y="8053"/>
                  <a:pt x="5829" y="8037"/>
                </a:cubicBezTo>
                <a:cubicBezTo>
                  <a:pt x="5895" y="8026"/>
                  <a:pt x="5927" y="8000"/>
                  <a:pt x="5978" y="7962"/>
                </a:cubicBezTo>
              </a:path>
              <a:path w="2581" h="1118">
                <a:moveTo>
                  <a:pt x="5383" y="8062"/>
                </a:moveTo>
                <a:cubicBezTo>
                  <a:pt x="5364" y="8172"/>
                  <a:pt x="5328" y="8246"/>
                  <a:pt x="5407" y="8334"/>
                </a:cubicBezTo>
                <a:cubicBezTo>
                  <a:pt x="5452" y="8384"/>
                  <a:pt x="5458" y="8402"/>
                  <a:pt x="5507" y="8384"/>
                </a:cubicBezTo>
                <a:cubicBezTo>
                  <a:pt x="5628" y="8339"/>
                  <a:pt x="5662" y="8340"/>
                  <a:pt x="5779" y="8384"/>
                </a:cubicBezTo>
                <a:cubicBezTo>
                  <a:pt x="5861" y="8415"/>
                  <a:pt x="5916" y="8496"/>
                  <a:pt x="5953" y="8582"/>
                </a:cubicBezTo>
                <a:cubicBezTo>
                  <a:pt x="5988" y="8662"/>
                  <a:pt x="5988" y="8729"/>
                  <a:pt x="5953" y="8806"/>
                </a:cubicBezTo>
                <a:cubicBezTo>
                  <a:pt x="5938" y="8840"/>
                  <a:pt x="5871" y="8933"/>
                  <a:pt x="5829" y="8930"/>
                </a:cubicBezTo>
                <a:cubicBezTo>
                  <a:pt x="5716" y="8922"/>
                  <a:pt x="5677" y="8842"/>
                  <a:pt x="5631" y="8756"/>
                </a:cubicBezTo>
              </a:path>
              <a:path w="2581" h="1118">
                <a:moveTo>
                  <a:pt x="6276" y="8409"/>
                </a:moveTo>
                <a:cubicBezTo>
                  <a:pt x="6352" y="8518"/>
                  <a:pt x="6428" y="8663"/>
                  <a:pt x="6548" y="8731"/>
                </a:cubicBezTo>
                <a:cubicBezTo>
                  <a:pt x="6622" y="8773"/>
                  <a:pt x="6738" y="8802"/>
                  <a:pt x="6821" y="8806"/>
                </a:cubicBezTo>
                <a:cubicBezTo>
                  <a:pt x="6838" y="8806"/>
                  <a:pt x="6854" y="8806"/>
                  <a:pt x="6871" y="8806"/>
                </a:cubicBezTo>
              </a:path>
              <a:path w="2581" h="1118">
                <a:moveTo>
                  <a:pt x="6548" y="8359"/>
                </a:moveTo>
                <a:cubicBezTo>
                  <a:pt x="6433" y="8527"/>
                  <a:pt x="6191" y="8686"/>
                  <a:pt x="6251" y="8880"/>
                </a:cubicBezTo>
                <a:cubicBezTo>
                  <a:pt x="6276" y="8905"/>
                  <a:pt x="6284" y="8913"/>
                  <a:pt x="6300" y="8880"/>
                </a:cubicBezTo>
              </a:path>
              <a:path w="2581" h="1118">
                <a:moveTo>
                  <a:pt x="7169" y="8161"/>
                </a:moveTo>
                <a:cubicBezTo>
                  <a:pt x="7156" y="8357"/>
                  <a:pt x="7144" y="8538"/>
                  <a:pt x="7144" y="8731"/>
                </a:cubicBezTo>
                <a:cubicBezTo>
                  <a:pt x="7144" y="8739"/>
                  <a:pt x="7144" y="8748"/>
                  <a:pt x="7144" y="8756"/>
                </a:cubicBezTo>
              </a:path>
              <a:path w="2581" h="1118">
                <a:moveTo>
                  <a:pt x="6945" y="8409"/>
                </a:moveTo>
                <a:cubicBezTo>
                  <a:pt x="7055" y="8420"/>
                  <a:pt x="7134" y="8412"/>
                  <a:pt x="7243" y="8409"/>
                </a:cubicBezTo>
                <a:cubicBezTo>
                  <a:pt x="7276" y="8409"/>
                  <a:pt x="7309" y="8409"/>
                  <a:pt x="7342" y="8409"/>
                </a:cubicBezTo>
              </a:path>
              <a:path w="2581" h="1118">
                <a:moveTo>
                  <a:pt x="7665" y="8136"/>
                </a:moveTo>
                <a:cubicBezTo>
                  <a:pt x="7625" y="8196"/>
                  <a:pt x="7515" y="8321"/>
                  <a:pt x="7541" y="8409"/>
                </a:cubicBezTo>
                <a:cubicBezTo>
                  <a:pt x="7560" y="8473"/>
                  <a:pt x="7566" y="8504"/>
                  <a:pt x="7640" y="8508"/>
                </a:cubicBezTo>
                <a:cubicBezTo>
                  <a:pt x="7733" y="8514"/>
                  <a:pt x="7761" y="8507"/>
                  <a:pt x="7813" y="8434"/>
                </a:cubicBezTo>
              </a:path>
              <a:path w="2581" h="1118">
                <a:moveTo>
                  <a:pt x="7938" y="8012"/>
                </a:moveTo>
                <a:cubicBezTo>
                  <a:pt x="7900" y="8207"/>
                  <a:pt x="7843" y="8408"/>
                  <a:pt x="7838" y="8607"/>
                </a:cubicBezTo>
                <a:cubicBezTo>
                  <a:pt x="7835" y="8748"/>
                  <a:pt x="7863" y="8896"/>
                  <a:pt x="7913" y="9029"/>
                </a:cubicBezTo>
                <a:cubicBezTo>
                  <a:pt x="7921" y="9046"/>
                  <a:pt x="7930" y="9062"/>
                  <a:pt x="7938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Ink 11"/>
          <p:cNvSpPr/>
          <p:nvPr/>
        </p:nvSpPr>
        <p:spPr>
          <a:xfrm>
            <a:off x="5438880" y="2901960"/>
            <a:ext cx="1500120" cy="500040"/>
          </a:xfrm>
          <a:custGeom>
            <a:avLst/>
            <a:gdLst/>
            <a:ahLst/>
            <a:rect l="l" t="t" r="r" b="b"/>
            <a:pathLst>
              <a:path w="4168" h="1390">
                <a:moveTo>
                  <a:pt x="15627" y="8359"/>
                </a:moveTo>
                <a:cubicBezTo>
                  <a:pt x="15627" y="8376"/>
                  <a:pt x="15627" y="8392"/>
                  <a:pt x="15627" y="8409"/>
                </a:cubicBezTo>
                <a:cubicBezTo>
                  <a:pt x="15591" y="8349"/>
                  <a:pt x="15604" y="8282"/>
                  <a:pt x="15577" y="8210"/>
                </a:cubicBezTo>
                <a:cubicBezTo>
                  <a:pt x="15563" y="8172"/>
                  <a:pt x="15525" y="8075"/>
                  <a:pt x="15478" y="8062"/>
                </a:cubicBezTo>
                <a:cubicBezTo>
                  <a:pt x="15377" y="8034"/>
                  <a:pt x="15329" y="8153"/>
                  <a:pt x="15280" y="8210"/>
                </a:cubicBezTo>
                <a:cubicBezTo>
                  <a:pt x="15218" y="8282"/>
                  <a:pt x="15125" y="8386"/>
                  <a:pt x="15106" y="8483"/>
                </a:cubicBezTo>
                <a:cubicBezTo>
                  <a:pt x="15094" y="8546"/>
                  <a:pt x="15104" y="8638"/>
                  <a:pt x="15156" y="8682"/>
                </a:cubicBezTo>
                <a:cubicBezTo>
                  <a:pt x="15205" y="8724"/>
                  <a:pt x="15315" y="8749"/>
                  <a:pt x="15379" y="8731"/>
                </a:cubicBezTo>
                <a:cubicBezTo>
                  <a:pt x="15429" y="8717"/>
                  <a:pt x="15500" y="8641"/>
                  <a:pt x="15528" y="8607"/>
                </a:cubicBezTo>
                <a:cubicBezTo>
                  <a:pt x="15561" y="8566"/>
                  <a:pt x="15616" y="8485"/>
                  <a:pt x="15627" y="8434"/>
                </a:cubicBezTo>
                <a:cubicBezTo>
                  <a:pt x="15627" y="8417"/>
                  <a:pt x="15627" y="8401"/>
                  <a:pt x="15627" y="8384"/>
                </a:cubicBezTo>
                <a:cubicBezTo>
                  <a:pt x="15651" y="8492"/>
                  <a:pt x="15626" y="8620"/>
                  <a:pt x="15577" y="8731"/>
                </a:cubicBezTo>
                <a:cubicBezTo>
                  <a:pt x="15520" y="8861"/>
                  <a:pt x="15505" y="8967"/>
                  <a:pt x="15478" y="9103"/>
                </a:cubicBezTo>
                <a:cubicBezTo>
                  <a:pt x="15476" y="9114"/>
                  <a:pt x="15423" y="9318"/>
                  <a:pt x="15453" y="9327"/>
                </a:cubicBezTo>
                <a:cubicBezTo>
                  <a:pt x="15470" y="9319"/>
                  <a:pt x="15486" y="9310"/>
                  <a:pt x="15503" y="9302"/>
                </a:cubicBezTo>
              </a:path>
              <a:path w="4168" h="1390">
                <a:moveTo>
                  <a:pt x="15949" y="8657"/>
                </a:moveTo>
                <a:cubicBezTo>
                  <a:pt x="16009" y="8784"/>
                  <a:pt x="16054" y="8890"/>
                  <a:pt x="16123" y="9004"/>
                </a:cubicBezTo>
                <a:cubicBezTo>
                  <a:pt x="16202" y="9134"/>
                  <a:pt x="16269" y="9242"/>
                  <a:pt x="16396" y="9327"/>
                </a:cubicBezTo>
                <a:cubicBezTo>
                  <a:pt x="16454" y="9365"/>
                  <a:pt x="16508" y="9395"/>
                  <a:pt x="16570" y="9426"/>
                </a:cubicBezTo>
              </a:path>
              <a:path w="4168" h="1390">
                <a:moveTo>
                  <a:pt x="16396" y="8706"/>
                </a:moveTo>
                <a:cubicBezTo>
                  <a:pt x="16271" y="8851"/>
                  <a:pt x="16156" y="9014"/>
                  <a:pt x="16024" y="9153"/>
                </a:cubicBezTo>
                <a:cubicBezTo>
                  <a:pt x="16007" y="9171"/>
                  <a:pt x="15897" y="9303"/>
                  <a:pt x="15900" y="9327"/>
                </a:cubicBezTo>
                <a:cubicBezTo>
                  <a:pt x="15908" y="9335"/>
                  <a:pt x="15917" y="9343"/>
                  <a:pt x="15925" y="9351"/>
                </a:cubicBezTo>
              </a:path>
              <a:path w="4168" h="1390">
                <a:moveTo>
                  <a:pt x="16842" y="8731"/>
                </a:moveTo>
                <a:cubicBezTo>
                  <a:pt x="16825" y="8921"/>
                  <a:pt x="16833" y="9010"/>
                  <a:pt x="16842" y="9178"/>
                </a:cubicBezTo>
                <a:cubicBezTo>
                  <a:pt x="16844" y="9226"/>
                  <a:pt x="16858" y="9257"/>
                  <a:pt x="16867" y="9302"/>
                </a:cubicBezTo>
              </a:path>
              <a:path w="4168" h="1390">
                <a:moveTo>
                  <a:pt x="16669" y="9029"/>
                </a:moveTo>
                <a:cubicBezTo>
                  <a:pt x="16808" y="9029"/>
                  <a:pt x="16956" y="9047"/>
                  <a:pt x="17090" y="9004"/>
                </a:cubicBezTo>
                <a:cubicBezTo>
                  <a:pt x="17107" y="8996"/>
                  <a:pt x="17123" y="8987"/>
                  <a:pt x="17140" y="8979"/>
                </a:cubicBezTo>
              </a:path>
              <a:path w="4168" h="1390">
                <a:moveTo>
                  <a:pt x="17438" y="8682"/>
                </a:moveTo>
                <a:cubicBezTo>
                  <a:pt x="17491" y="8605"/>
                  <a:pt x="17516" y="8568"/>
                  <a:pt x="17611" y="8558"/>
                </a:cubicBezTo>
                <a:cubicBezTo>
                  <a:pt x="17662" y="8553"/>
                  <a:pt x="17800" y="8561"/>
                  <a:pt x="17835" y="8607"/>
                </a:cubicBezTo>
                <a:cubicBezTo>
                  <a:pt x="17903" y="8697"/>
                  <a:pt x="17821" y="8752"/>
                  <a:pt x="17785" y="8830"/>
                </a:cubicBezTo>
                <a:cubicBezTo>
                  <a:pt x="17743" y="8922"/>
                  <a:pt x="17688" y="9013"/>
                  <a:pt x="17636" y="9103"/>
                </a:cubicBezTo>
                <a:cubicBezTo>
                  <a:pt x="17591" y="9181"/>
                  <a:pt x="17554" y="9234"/>
                  <a:pt x="17611" y="9327"/>
                </a:cubicBezTo>
                <a:cubicBezTo>
                  <a:pt x="17646" y="9383"/>
                  <a:pt x="17752" y="9410"/>
                  <a:pt x="17810" y="9401"/>
                </a:cubicBezTo>
                <a:cubicBezTo>
                  <a:pt x="17905" y="9369"/>
                  <a:pt x="17949" y="9349"/>
                  <a:pt x="18008" y="9302"/>
                </a:cubicBezTo>
              </a:path>
              <a:path w="4168" h="1390">
                <a:moveTo>
                  <a:pt x="18256" y="8533"/>
                </a:moveTo>
                <a:cubicBezTo>
                  <a:pt x="18190" y="8616"/>
                  <a:pt x="18121" y="8718"/>
                  <a:pt x="18107" y="8830"/>
                </a:cubicBezTo>
                <a:cubicBezTo>
                  <a:pt x="18096" y="8921"/>
                  <a:pt x="18078" y="9125"/>
                  <a:pt x="18132" y="9203"/>
                </a:cubicBezTo>
                <a:cubicBezTo>
                  <a:pt x="18203" y="9305"/>
                  <a:pt x="18286" y="9358"/>
                  <a:pt x="18405" y="9376"/>
                </a:cubicBezTo>
                <a:cubicBezTo>
                  <a:pt x="18487" y="9388"/>
                  <a:pt x="18593" y="9347"/>
                  <a:pt x="18628" y="9277"/>
                </a:cubicBezTo>
                <a:cubicBezTo>
                  <a:pt x="18646" y="9241"/>
                  <a:pt x="18687" y="9118"/>
                  <a:pt x="18678" y="9079"/>
                </a:cubicBezTo>
                <a:cubicBezTo>
                  <a:pt x="18661" y="9006"/>
                  <a:pt x="18597" y="8985"/>
                  <a:pt x="18529" y="9004"/>
                </a:cubicBezTo>
                <a:cubicBezTo>
                  <a:pt x="18475" y="9019"/>
                  <a:pt x="18380" y="9103"/>
                  <a:pt x="18355" y="9153"/>
                </a:cubicBezTo>
                <a:cubicBezTo>
                  <a:pt x="18303" y="9258"/>
                  <a:pt x="18272" y="9347"/>
                  <a:pt x="18380" y="9426"/>
                </a:cubicBezTo>
                <a:cubicBezTo>
                  <a:pt x="18428" y="9450"/>
                  <a:pt x="18442" y="9458"/>
                  <a:pt x="18479" y="9451"/>
                </a:cubicBezTo>
              </a:path>
              <a:path w="4168" h="1390">
                <a:moveTo>
                  <a:pt x="18876" y="8979"/>
                </a:moveTo>
                <a:cubicBezTo>
                  <a:pt x="19012" y="8979"/>
                  <a:pt x="19119" y="8969"/>
                  <a:pt x="19248" y="8954"/>
                </a:cubicBezTo>
              </a:path>
              <a:path w="4168" h="1390">
                <a:moveTo>
                  <a:pt x="18901" y="9178"/>
                </a:moveTo>
                <a:cubicBezTo>
                  <a:pt x="19058" y="9233"/>
                  <a:pt x="19107" y="9230"/>
                  <a:pt x="19273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Ink 12"/>
          <p:cNvSpPr/>
          <p:nvPr/>
        </p:nvSpPr>
        <p:spPr>
          <a:xfrm>
            <a:off x="7116840" y="3098880"/>
            <a:ext cx="438120" cy="393480"/>
          </a:xfrm>
          <a:custGeom>
            <a:avLst/>
            <a:gdLst/>
            <a:ahLst/>
            <a:rect l="l" t="t" r="r" b="b"/>
            <a:pathLst>
              <a:path w="1217" h="1093">
                <a:moveTo>
                  <a:pt x="19819" y="8607"/>
                </a:moveTo>
                <a:cubicBezTo>
                  <a:pt x="19807" y="8747"/>
                  <a:pt x="19779" y="8891"/>
                  <a:pt x="19769" y="9029"/>
                </a:cubicBezTo>
                <a:cubicBezTo>
                  <a:pt x="19761" y="9136"/>
                  <a:pt x="19766" y="9273"/>
                  <a:pt x="19794" y="9376"/>
                </a:cubicBezTo>
                <a:cubicBezTo>
                  <a:pt x="19812" y="9440"/>
                  <a:pt x="19802" y="9508"/>
                  <a:pt x="19869" y="9525"/>
                </a:cubicBezTo>
              </a:path>
              <a:path w="1217" h="1093">
                <a:moveTo>
                  <a:pt x="20241" y="8806"/>
                </a:moveTo>
                <a:cubicBezTo>
                  <a:pt x="20190" y="8971"/>
                  <a:pt x="20142" y="9100"/>
                  <a:pt x="20166" y="9277"/>
                </a:cubicBezTo>
                <a:cubicBezTo>
                  <a:pt x="20182" y="9394"/>
                  <a:pt x="20288" y="9473"/>
                  <a:pt x="20365" y="9550"/>
                </a:cubicBezTo>
                <a:cubicBezTo>
                  <a:pt x="20410" y="9595"/>
                  <a:pt x="20542" y="9702"/>
                  <a:pt x="20613" y="9699"/>
                </a:cubicBezTo>
                <a:cubicBezTo>
                  <a:pt x="20702" y="9695"/>
                  <a:pt x="20809" y="9562"/>
                  <a:pt x="20861" y="9500"/>
                </a:cubicBezTo>
                <a:cubicBezTo>
                  <a:pt x="20957" y="9385"/>
                  <a:pt x="20981" y="9276"/>
                  <a:pt x="20985" y="9128"/>
                </a:cubicBezTo>
                <a:cubicBezTo>
                  <a:pt x="20991" y="8925"/>
                  <a:pt x="20949" y="8833"/>
                  <a:pt x="20786" y="8756"/>
                </a:cubicBezTo>
                <a:cubicBezTo>
                  <a:pt x="20635" y="8685"/>
                  <a:pt x="20528" y="8663"/>
                  <a:pt x="20365" y="86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Ink 13"/>
          <p:cNvSpPr/>
          <p:nvPr/>
        </p:nvSpPr>
        <p:spPr>
          <a:xfrm>
            <a:off x="588960" y="3402000"/>
            <a:ext cx="992160" cy="920880"/>
          </a:xfrm>
          <a:custGeom>
            <a:avLst/>
            <a:gdLst/>
            <a:ahLst/>
            <a:rect l="l" t="t" r="r" b="b"/>
            <a:pathLst>
              <a:path w="2754" h="2555">
                <a:moveTo>
                  <a:pt x="2381" y="9897"/>
                </a:moveTo>
                <a:cubicBezTo>
                  <a:pt x="2342" y="10064"/>
                  <a:pt x="2333" y="10224"/>
                  <a:pt x="2307" y="10393"/>
                </a:cubicBezTo>
                <a:cubicBezTo>
                  <a:pt x="2278" y="10583"/>
                  <a:pt x="2282" y="10775"/>
                  <a:pt x="2257" y="10964"/>
                </a:cubicBezTo>
                <a:cubicBezTo>
                  <a:pt x="2241" y="11081"/>
                  <a:pt x="2229" y="11200"/>
                  <a:pt x="2208" y="11311"/>
                </a:cubicBezTo>
                <a:cubicBezTo>
                  <a:pt x="2208" y="11319"/>
                  <a:pt x="2208" y="11328"/>
                  <a:pt x="2208" y="11336"/>
                </a:cubicBezTo>
              </a:path>
              <a:path w="2754" h="2555">
                <a:moveTo>
                  <a:pt x="2828" y="9897"/>
                </a:moveTo>
                <a:cubicBezTo>
                  <a:pt x="2859" y="10029"/>
                  <a:pt x="2853" y="10156"/>
                  <a:pt x="2853" y="10294"/>
                </a:cubicBezTo>
                <a:cubicBezTo>
                  <a:pt x="2853" y="10494"/>
                  <a:pt x="2814" y="10692"/>
                  <a:pt x="2778" y="10889"/>
                </a:cubicBezTo>
                <a:cubicBezTo>
                  <a:pt x="2746" y="11063"/>
                  <a:pt x="2775" y="11270"/>
                  <a:pt x="2729" y="11435"/>
                </a:cubicBezTo>
                <a:cubicBezTo>
                  <a:pt x="2704" y="11460"/>
                  <a:pt x="2696" y="11468"/>
                  <a:pt x="2729" y="11485"/>
                </a:cubicBezTo>
              </a:path>
              <a:path w="2754" h="2555">
                <a:moveTo>
                  <a:pt x="1712" y="9773"/>
                </a:moveTo>
                <a:cubicBezTo>
                  <a:pt x="1653" y="9618"/>
                  <a:pt x="1626" y="9652"/>
                  <a:pt x="1761" y="9525"/>
                </a:cubicBezTo>
                <a:cubicBezTo>
                  <a:pt x="1903" y="9392"/>
                  <a:pt x="2289" y="9430"/>
                  <a:pt x="2456" y="9475"/>
                </a:cubicBezTo>
                <a:cubicBezTo>
                  <a:pt x="2669" y="9532"/>
                  <a:pt x="2940" y="9641"/>
                  <a:pt x="3101" y="9798"/>
                </a:cubicBezTo>
                <a:cubicBezTo>
                  <a:pt x="3221" y="9915"/>
                  <a:pt x="3280" y="10038"/>
                  <a:pt x="3249" y="10195"/>
                </a:cubicBezTo>
                <a:cubicBezTo>
                  <a:pt x="3222" y="10329"/>
                  <a:pt x="2952" y="10430"/>
                  <a:pt x="2853" y="10468"/>
                </a:cubicBezTo>
                <a:cubicBezTo>
                  <a:pt x="2787" y="10494"/>
                  <a:pt x="2718" y="10499"/>
                  <a:pt x="2654" y="10517"/>
                </a:cubicBezTo>
                <a:cubicBezTo>
                  <a:pt x="2701" y="10604"/>
                  <a:pt x="2757" y="10678"/>
                  <a:pt x="2828" y="10765"/>
                </a:cubicBezTo>
                <a:cubicBezTo>
                  <a:pt x="3000" y="10977"/>
                  <a:pt x="3231" y="11164"/>
                  <a:pt x="3448" y="11336"/>
                </a:cubicBezTo>
                <a:cubicBezTo>
                  <a:pt x="3767" y="11588"/>
                  <a:pt x="4017" y="11842"/>
                  <a:pt x="4390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Ink 14"/>
          <p:cNvSpPr/>
          <p:nvPr/>
        </p:nvSpPr>
        <p:spPr>
          <a:xfrm>
            <a:off x="6134040" y="3679920"/>
            <a:ext cx="1536840" cy="401400"/>
          </a:xfrm>
          <a:custGeom>
            <a:avLst/>
            <a:gdLst/>
            <a:ahLst/>
            <a:rect l="l" t="t" r="r" b="b"/>
            <a:pathLst>
              <a:path w="4267" h="1117">
                <a:moveTo>
                  <a:pt x="17041" y="10542"/>
                </a:moveTo>
                <a:cubicBezTo>
                  <a:pt x="17138" y="10569"/>
                  <a:pt x="17236" y="10579"/>
                  <a:pt x="17338" y="10567"/>
                </a:cubicBezTo>
                <a:cubicBezTo>
                  <a:pt x="17388" y="10559"/>
                  <a:pt x="17437" y="10550"/>
                  <a:pt x="17487" y="10542"/>
                </a:cubicBezTo>
              </a:path>
              <a:path w="4267" h="1117">
                <a:moveTo>
                  <a:pt x="17587" y="10220"/>
                </a:moveTo>
                <a:cubicBezTo>
                  <a:pt x="17733" y="10228"/>
                  <a:pt x="17791" y="10219"/>
                  <a:pt x="17859" y="10344"/>
                </a:cubicBezTo>
                <a:cubicBezTo>
                  <a:pt x="17921" y="10457"/>
                  <a:pt x="17793" y="10539"/>
                  <a:pt x="17735" y="10616"/>
                </a:cubicBezTo>
                <a:cubicBezTo>
                  <a:pt x="17704" y="10657"/>
                  <a:pt x="17629" y="10777"/>
                  <a:pt x="17636" y="10815"/>
                </a:cubicBezTo>
                <a:cubicBezTo>
                  <a:pt x="17654" y="10916"/>
                  <a:pt x="17766" y="10953"/>
                  <a:pt x="17859" y="10914"/>
                </a:cubicBezTo>
                <a:cubicBezTo>
                  <a:pt x="17892" y="10889"/>
                  <a:pt x="17926" y="10865"/>
                  <a:pt x="17959" y="10840"/>
                </a:cubicBezTo>
              </a:path>
              <a:path w="4267" h="1117">
                <a:moveTo>
                  <a:pt x="18281" y="10294"/>
                </a:moveTo>
                <a:cubicBezTo>
                  <a:pt x="18243" y="10376"/>
                  <a:pt x="18122" y="10480"/>
                  <a:pt x="18107" y="10567"/>
                </a:cubicBezTo>
                <a:cubicBezTo>
                  <a:pt x="18079" y="10729"/>
                  <a:pt x="18130" y="10863"/>
                  <a:pt x="18256" y="10964"/>
                </a:cubicBezTo>
                <a:cubicBezTo>
                  <a:pt x="18311" y="11008"/>
                  <a:pt x="18458" y="11049"/>
                  <a:pt x="18529" y="11038"/>
                </a:cubicBezTo>
                <a:cubicBezTo>
                  <a:pt x="18604" y="11026"/>
                  <a:pt x="18678" y="10988"/>
                  <a:pt x="18703" y="10914"/>
                </a:cubicBezTo>
                <a:cubicBezTo>
                  <a:pt x="18711" y="10881"/>
                  <a:pt x="18720" y="10848"/>
                  <a:pt x="18728" y="10815"/>
                </a:cubicBezTo>
                <a:cubicBezTo>
                  <a:pt x="18656" y="10779"/>
                  <a:pt x="18560" y="10776"/>
                  <a:pt x="18479" y="10815"/>
                </a:cubicBezTo>
                <a:cubicBezTo>
                  <a:pt x="18428" y="10839"/>
                  <a:pt x="18361" y="10927"/>
                  <a:pt x="18380" y="10988"/>
                </a:cubicBezTo>
                <a:cubicBezTo>
                  <a:pt x="18395" y="11038"/>
                  <a:pt x="18468" y="11033"/>
                  <a:pt x="18504" y="11038"/>
                </a:cubicBezTo>
              </a:path>
              <a:path w="4267" h="1117">
                <a:moveTo>
                  <a:pt x="19422" y="10616"/>
                </a:moveTo>
                <a:cubicBezTo>
                  <a:pt x="19560" y="10616"/>
                  <a:pt x="19686" y="10622"/>
                  <a:pt x="19819" y="10592"/>
                </a:cubicBezTo>
              </a:path>
              <a:path w="4267" h="1117">
                <a:moveTo>
                  <a:pt x="20117" y="10269"/>
                </a:moveTo>
                <a:cubicBezTo>
                  <a:pt x="20270" y="10269"/>
                  <a:pt x="20307" y="10289"/>
                  <a:pt x="20439" y="10368"/>
                </a:cubicBezTo>
                <a:cubicBezTo>
                  <a:pt x="20489" y="10393"/>
                  <a:pt x="20505" y="10401"/>
                  <a:pt x="20513" y="10443"/>
                </a:cubicBezTo>
                <a:cubicBezTo>
                  <a:pt x="20433" y="10524"/>
                  <a:pt x="20349" y="10592"/>
                  <a:pt x="20265" y="10666"/>
                </a:cubicBezTo>
                <a:cubicBezTo>
                  <a:pt x="20175" y="10746"/>
                  <a:pt x="20141" y="10775"/>
                  <a:pt x="20141" y="10889"/>
                </a:cubicBezTo>
                <a:cubicBezTo>
                  <a:pt x="20141" y="11005"/>
                  <a:pt x="20211" y="11063"/>
                  <a:pt x="20340" y="11063"/>
                </a:cubicBezTo>
                <a:cubicBezTo>
                  <a:pt x="20365" y="11055"/>
                  <a:pt x="20389" y="11046"/>
                  <a:pt x="20414" y="11038"/>
                </a:cubicBezTo>
              </a:path>
              <a:path w="4267" h="1117">
                <a:moveTo>
                  <a:pt x="20836" y="10418"/>
                </a:moveTo>
                <a:cubicBezTo>
                  <a:pt x="20760" y="10437"/>
                  <a:pt x="20686" y="10503"/>
                  <a:pt x="20662" y="10592"/>
                </a:cubicBezTo>
                <a:cubicBezTo>
                  <a:pt x="20626" y="10726"/>
                  <a:pt x="20688" y="10875"/>
                  <a:pt x="20786" y="10964"/>
                </a:cubicBezTo>
                <a:cubicBezTo>
                  <a:pt x="20862" y="11033"/>
                  <a:pt x="20963" y="11105"/>
                  <a:pt x="21059" y="11112"/>
                </a:cubicBezTo>
                <a:cubicBezTo>
                  <a:pt x="21140" y="11118"/>
                  <a:pt x="21249" y="11072"/>
                  <a:pt x="21282" y="10988"/>
                </a:cubicBezTo>
                <a:cubicBezTo>
                  <a:pt x="21301" y="10894"/>
                  <a:pt x="21331" y="10874"/>
                  <a:pt x="21282" y="10840"/>
                </a:cubicBezTo>
                <a:cubicBezTo>
                  <a:pt x="21143" y="10802"/>
                  <a:pt x="21016" y="10790"/>
                  <a:pt x="20886" y="10864"/>
                </a:cubicBezTo>
                <a:cubicBezTo>
                  <a:pt x="20761" y="10935"/>
                  <a:pt x="20706" y="11022"/>
                  <a:pt x="20687" y="11162"/>
                </a:cubicBezTo>
                <a:cubicBezTo>
                  <a:pt x="20687" y="11245"/>
                  <a:pt x="20687" y="11278"/>
                  <a:pt x="20687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Ink 15"/>
          <p:cNvSpPr/>
          <p:nvPr/>
        </p:nvSpPr>
        <p:spPr>
          <a:xfrm>
            <a:off x="5946840" y="4197240"/>
            <a:ext cx="1170000" cy="1295640"/>
          </a:xfrm>
          <a:custGeom>
            <a:avLst/>
            <a:gdLst/>
            <a:ahLst/>
            <a:rect l="l" t="t" r="r" b="b"/>
            <a:pathLst>
              <a:path w="3250" h="3598">
                <a:moveTo>
                  <a:pt x="16644" y="13295"/>
                </a:moveTo>
                <a:cubicBezTo>
                  <a:pt x="16803" y="13320"/>
                  <a:pt x="16956" y="13327"/>
                  <a:pt x="17115" y="13345"/>
                </a:cubicBezTo>
                <a:cubicBezTo>
                  <a:pt x="17336" y="13371"/>
                  <a:pt x="17538" y="13374"/>
                  <a:pt x="17760" y="13345"/>
                </a:cubicBezTo>
              </a:path>
              <a:path w="3250" h="3598">
                <a:moveTo>
                  <a:pt x="17711" y="13618"/>
                </a:moveTo>
                <a:cubicBezTo>
                  <a:pt x="17627" y="13590"/>
                  <a:pt x="17453" y="13630"/>
                  <a:pt x="17363" y="13667"/>
                </a:cubicBezTo>
                <a:cubicBezTo>
                  <a:pt x="17217" y="13727"/>
                  <a:pt x="17151" y="13762"/>
                  <a:pt x="17115" y="13915"/>
                </a:cubicBezTo>
                <a:cubicBezTo>
                  <a:pt x="17165" y="13965"/>
                  <a:pt x="17215" y="13985"/>
                  <a:pt x="17289" y="13965"/>
                </a:cubicBezTo>
                <a:cubicBezTo>
                  <a:pt x="17370" y="13943"/>
                  <a:pt x="17461" y="13900"/>
                  <a:pt x="17537" y="13866"/>
                </a:cubicBezTo>
                <a:cubicBezTo>
                  <a:pt x="17581" y="13844"/>
                  <a:pt x="17592" y="13831"/>
                  <a:pt x="17611" y="13866"/>
                </a:cubicBezTo>
                <a:cubicBezTo>
                  <a:pt x="17601" y="13956"/>
                  <a:pt x="17572" y="14030"/>
                  <a:pt x="17537" y="14114"/>
                </a:cubicBezTo>
                <a:cubicBezTo>
                  <a:pt x="17477" y="14258"/>
                  <a:pt x="17356" y="14475"/>
                  <a:pt x="17363" y="14635"/>
                </a:cubicBezTo>
                <a:cubicBezTo>
                  <a:pt x="17387" y="14683"/>
                  <a:pt x="17394" y="14699"/>
                  <a:pt x="17438" y="14684"/>
                </a:cubicBezTo>
              </a:path>
              <a:path w="3250" h="3598">
                <a:moveTo>
                  <a:pt x="18802" y="13543"/>
                </a:moveTo>
                <a:cubicBezTo>
                  <a:pt x="19011" y="13522"/>
                  <a:pt x="19189" y="13539"/>
                  <a:pt x="19397" y="13543"/>
                </a:cubicBezTo>
                <a:cubicBezTo>
                  <a:pt x="19562" y="13543"/>
                  <a:pt x="19645" y="13543"/>
                  <a:pt x="19769" y="13543"/>
                </a:cubicBezTo>
              </a:path>
              <a:path w="3250" h="3598">
                <a:moveTo>
                  <a:pt x="19720" y="13816"/>
                </a:moveTo>
                <a:cubicBezTo>
                  <a:pt x="19615" y="13816"/>
                  <a:pt x="19519" y="13816"/>
                  <a:pt x="19422" y="13866"/>
                </a:cubicBezTo>
                <a:cubicBezTo>
                  <a:pt x="19330" y="13914"/>
                  <a:pt x="19225" y="13969"/>
                  <a:pt x="19248" y="14089"/>
                </a:cubicBezTo>
                <a:cubicBezTo>
                  <a:pt x="19260" y="14152"/>
                  <a:pt x="19315" y="14268"/>
                  <a:pt x="19397" y="14263"/>
                </a:cubicBezTo>
                <a:cubicBezTo>
                  <a:pt x="19473" y="14259"/>
                  <a:pt x="19550" y="14173"/>
                  <a:pt x="19596" y="14139"/>
                </a:cubicBezTo>
                <a:cubicBezTo>
                  <a:pt x="19639" y="14117"/>
                  <a:pt x="19651" y="14113"/>
                  <a:pt x="19670" y="14089"/>
                </a:cubicBezTo>
                <a:cubicBezTo>
                  <a:pt x="19636" y="14241"/>
                  <a:pt x="19582" y="14387"/>
                  <a:pt x="19546" y="14536"/>
                </a:cubicBezTo>
                <a:cubicBezTo>
                  <a:pt x="19489" y="14771"/>
                  <a:pt x="19491" y="15016"/>
                  <a:pt x="19472" y="15255"/>
                </a:cubicBezTo>
              </a:path>
              <a:path w="3250" h="3598">
                <a:moveTo>
                  <a:pt x="16520" y="11658"/>
                </a:moveTo>
                <a:cubicBezTo>
                  <a:pt x="16644" y="12179"/>
                  <a:pt x="16810" y="12659"/>
                  <a:pt x="16966" y="13171"/>
                </a:cubicBezTo>
                <a:cubicBezTo>
                  <a:pt x="17083" y="13555"/>
                  <a:pt x="17160" y="13945"/>
                  <a:pt x="17239" y="143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Ink 16"/>
          <p:cNvSpPr/>
          <p:nvPr/>
        </p:nvSpPr>
        <p:spPr>
          <a:xfrm>
            <a:off x="5911920" y="4268880"/>
            <a:ext cx="1231920" cy="534960"/>
          </a:xfrm>
          <a:custGeom>
            <a:avLst/>
            <a:gdLst/>
            <a:ahLst/>
            <a:rect l="l" t="t" r="r" b="b"/>
            <a:pathLst>
              <a:path w="3424" h="1489">
                <a:moveTo>
                  <a:pt x="16867" y="12254"/>
                </a:moveTo>
                <a:cubicBezTo>
                  <a:pt x="16911" y="12158"/>
                  <a:pt x="16942" y="12085"/>
                  <a:pt x="16942" y="11981"/>
                </a:cubicBezTo>
                <a:cubicBezTo>
                  <a:pt x="16942" y="11931"/>
                  <a:pt x="16942" y="11914"/>
                  <a:pt x="16942" y="11881"/>
                </a:cubicBezTo>
                <a:cubicBezTo>
                  <a:pt x="16878" y="11854"/>
                  <a:pt x="16844" y="11850"/>
                  <a:pt x="16768" y="11881"/>
                </a:cubicBezTo>
                <a:cubicBezTo>
                  <a:pt x="16663" y="11925"/>
                  <a:pt x="16556" y="12035"/>
                  <a:pt x="16495" y="12129"/>
                </a:cubicBezTo>
                <a:cubicBezTo>
                  <a:pt x="16405" y="12266"/>
                  <a:pt x="16398" y="12350"/>
                  <a:pt x="16495" y="12477"/>
                </a:cubicBezTo>
                <a:cubicBezTo>
                  <a:pt x="16545" y="12543"/>
                  <a:pt x="16642" y="12587"/>
                  <a:pt x="16718" y="12526"/>
                </a:cubicBezTo>
                <a:cubicBezTo>
                  <a:pt x="16775" y="12480"/>
                  <a:pt x="16828" y="12397"/>
                  <a:pt x="16867" y="12328"/>
                </a:cubicBezTo>
                <a:cubicBezTo>
                  <a:pt x="16892" y="12283"/>
                  <a:pt x="16907" y="12264"/>
                  <a:pt x="16942" y="12229"/>
                </a:cubicBezTo>
                <a:cubicBezTo>
                  <a:pt x="16888" y="12369"/>
                  <a:pt x="16817" y="12554"/>
                  <a:pt x="16793" y="12700"/>
                </a:cubicBezTo>
                <a:cubicBezTo>
                  <a:pt x="16775" y="12813"/>
                  <a:pt x="16757" y="12941"/>
                  <a:pt x="16793" y="13047"/>
                </a:cubicBezTo>
              </a:path>
              <a:path w="3424" h="1489">
                <a:moveTo>
                  <a:pt x="17190" y="12502"/>
                </a:moveTo>
                <a:cubicBezTo>
                  <a:pt x="17277" y="12732"/>
                  <a:pt x="17355" y="13042"/>
                  <a:pt x="17562" y="13196"/>
                </a:cubicBezTo>
                <a:cubicBezTo>
                  <a:pt x="17666" y="13238"/>
                  <a:pt x="17692" y="13239"/>
                  <a:pt x="17735" y="13295"/>
                </a:cubicBezTo>
              </a:path>
              <a:path w="3424" h="1489">
                <a:moveTo>
                  <a:pt x="17587" y="12402"/>
                </a:moveTo>
                <a:cubicBezTo>
                  <a:pt x="17385" y="12530"/>
                  <a:pt x="17255" y="12612"/>
                  <a:pt x="17140" y="12824"/>
                </a:cubicBezTo>
                <a:cubicBezTo>
                  <a:pt x="17070" y="12954"/>
                  <a:pt x="16979" y="13054"/>
                  <a:pt x="16942" y="13196"/>
                </a:cubicBezTo>
                <a:cubicBezTo>
                  <a:pt x="16942" y="13204"/>
                  <a:pt x="16942" y="13213"/>
                  <a:pt x="16942" y="13221"/>
                </a:cubicBezTo>
              </a:path>
              <a:path w="3424" h="1489">
                <a:moveTo>
                  <a:pt x="17711" y="12626"/>
                </a:moveTo>
                <a:cubicBezTo>
                  <a:pt x="17843" y="12626"/>
                  <a:pt x="17975" y="12626"/>
                  <a:pt x="18107" y="12626"/>
                </a:cubicBezTo>
              </a:path>
              <a:path w="3424" h="1489">
                <a:moveTo>
                  <a:pt x="17810" y="12874"/>
                </a:moveTo>
                <a:cubicBezTo>
                  <a:pt x="17985" y="12874"/>
                  <a:pt x="18013" y="12889"/>
                  <a:pt x="18107" y="12849"/>
                </a:cubicBezTo>
              </a:path>
              <a:path w="3424" h="1489">
                <a:moveTo>
                  <a:pt x="18604" y="12576"/>
                </a:moveTo>
                <a:cubicBezTo>
                  <a:pt x="18771" y="12557"/>
                  <a:pt x="18795" y="12575"/>
                  <a:pt x="18876" y="12526"/>
                </a:cubicBezTo>
              </a:path>
              <a:path w="3424" h="1489">
                <a:moveTo>
                  <a:pt x="19149" y="12154"/>
                </a:moveTo>
                <a:cubicBezTo>
                  <a:pt x="19094" y="12307"/>
                  <a:pt x="19037" y="12443"/>
                  <a:pt x="19000" y="12601"/>
                </a:cubicBezTo>
                <a:cubicBezTo>
                  <a:pt x="18965" y="12750"/>
                  <a:pt x="18931" y="12894"/>
                  <a:pt x="18926" y="13047"/>
                </a:cubicBezTo>
                <a:cubicBezTo>
                  <a:pt x="18923" y="13127"/>
                  <a:pt x="18938" y="13180"/>
                  <a:pt x="18976" y="13246"/>
                </a:cubicBezTo>
              </a:path>
              <a:path w="3424" h="1489">
                <a:moveTo>
                  <a:pt x="19496" y="12328"/>
                </a:moveTo>
                <a:cubicBezTo>
                  <a:pt x="19433" y="12455"/>
                  <a:pt x="19298" y="12632"/>
                  <a:pt x="19273" y="12774"/>
                </a:cubicBezTo>
                <a:cubicBezTo>
                  <a:pt x="19252" y="12896"/>
                  <a:pt x="19313" y="13042"/>
                  <a:pt x="19372" y="13146"/>
                </a:cubicBezTo>
                <a:cubicBezTo>
                  <a:pt x="19418" y="13228"/>
                  <a:pt x="19500" y="13320"/>
                  <a:pt x="19596" y="13345"/>
                </a:cubicBezTo>
                <a:cubicBezTo>
                  <a:pt x="19730" y="13380"/>
                  <a:pt x="19834" y="13256"/>
                  <a:pt x="19819" y="13146"/>
                </a:cubicBezTo>
                <a:cubicBezTo>
                  <a:pt x="19805" y="13045"/>
                  <a:pt x="19621" y="13017"/>
                  <a:pt x="19546" y="13022"/>
                </a:cubicBezTo>
                <a:cubicBezTo>
                  <a:pt x="19412" y="13030"/>
                  <a:pt x="19292" y="13103"/>
                  <a:pt x="19174" y="13146"/>
                </a:cubicBezTo>
                <a:cubicBezTo>
                  <a:pt x="19085" y="13168"/>
                  <a:pt x="19060" y="13169"/>
                  <a:pt x="19025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Ink 17"/>
          <p:cNvSpPr/>
          <p:nvPr/>
        </p:nvSpPr>
        <p:spPr>
          <a:xfrm>
            <a:off x="6946920" y="1830240"/>
            <a:ext cx="9036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19348" y="5135"/>
                </a:moveTo>
                <a:cubicBezTo>
                  <a:pt x="19414" y="5135"/>
                  <a:pt x="19480" y="5135"/>
                  <a:pt x="19546" y="5135"/>
                </a:cubicBezTo>
                <a:cubicBezTo>
                  <a:pt x="19470" y="5135"/>
                  <a:pt x="19419" y="5056"/>
                  <a:pt x="19348" y="5085"/>
                </a:cubicBezTo>
                <a:cubicBezTo>
                  <a:pt x="19340" y="5102"/>
                  <a:pt x="19331" y="5118"/>
                  <a:pt x="19323" y="5135"/>
                </a:cubicBezTo>
                <a:cubicBezTo>
                  <a:pt x="19393" y="5135"/>
                  <a:pt x="19432" y="5155"/>
                  <a:pt x="19496" y="5159"/>
                </a:cubicBezTo>
                <a:cubicBezTo>
                  <a:pt x="19513" y="5159"/>
                  <a:pt x="19529" y="5159"/>
                  <a:pt x="19546" y="5159"/>
                </a:cubicBezTo>
              </a:path>
              <a:path w="249" h="75">
                <a:moveTo>
                  <a:pt x="19422" y="5135"/>
                </a:moveTo>
                <a:cubicBezTo>
                  <a:pt x="19381" y="5135"/>
                  <a:pt x="19339" y="5135"/>
                  <a:pt x="19298" y="5135"/>
                </a:cubicBezTo>
                <a:cubicBezTo>
                  <a:pt x="19377" y="5163"/>
                  <a:pt x="19434" y="5131"/>
                  <a:pt x="19422" y="5135"/>
                </a:cubicBezTo>
                <a:cubicBezTo>
                  <a:pt x="19414" y="5143"/>
                  <a:pt x="19405" y="5151"/>
                  <a:pt x="19397" y="5159"/>
                </a:cubicBezTo>
              </a:path>
              <a:path w="249" h="75">
                <a:moveTo>
                  <a:pt x="19372" y="5135"/>
                </a:moveTo>
                <a:lnTo>
                  <a:pt x="19372" y="5135"/>
                </a:lnTo>
              </a:path>
              <a:path w="249" h="75">
                <a:moveTo>
                  <a:pt x="19372" y="5135"/>
                </a:moveTo>
                <a:lnTo>
                  <a:pt x="19372" y="513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Ink 18"/>
          <p:cNvSpPr/>
          <p:nvPr/>
        </p:nvSpPr>
        <p:spPr>
          <a:xfrm>
            <a:off x="5126040" y="3983040"/>
            <a:ext cx="2544840" cy="268200"/>
          </a:xfrm>
          <a:custGeom>
            <a:avLst/>
            <a:gdLst/>
            <a:ahLst/>
            <a:rect l="l" t="t" r="r" b="b"/>
            <a:pathLst>
              <a:path w="7070" h="745">
                <a:moveTo>
                  <a:pt x="14238" y="11063"/>
                </a:moveTo>
                <a:cubicBezTo>
                  <a:pt x="14412" y="11094"/>
                  <a:pt x="14582" y="11129"/>
                  <a:pt x="14759" y="11137"/>
                </a:cubicBezTo>
                <a:cubicBezTo>
                  <a:pt x="15057" y="11151"/>
                  <a:pt x="15355" y="11145"/>
                  <a:pt x="15652" y="11162"/>
                </a:cubicBezTo>
                <a:cubicBezTo>
                  <a:pt x="16083" y="11187"/>
                  <a:pt x="16512" y="11211"/>
                  <a:pt x="16942" y="11237"/>
                </a:cubicBezTo>
                <a:cubicBezTo>
                  <a:pt x="17926" y="11297"/>
                  <a:pt x="18922" y="11351"/>
                  <a:pt x="19893" y="11534"/>
                </a:cubicBezTo>
                <a:cubicBezTo>
                  <a:pt x="20329" y="11616"/>
                  <a:pt x="20785" y="11807"/>
                  <a:pt x="21233" y="11807"/>
                </a:cubicBezTo>
                <a:cubicBezTo>
                  <a:pt x="21258" y="11799"/>
                  <a:pt x="21282" y="11790"/>
                  <a:pt x="21307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Lesson P.4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part two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Quadratic Equations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An equation with a degree of two (it has up to two solutions)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There are three main methods to solving a quadratic equation: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Quadratic formula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Factoring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Completing the square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Ink 4"/>
          <p:cNvSpPr/>
          <p:nvPr/>
        </p:nvSpPr>
        <p:spPr>
          <a:xfrm>
            <a:off x="285840" y="4394160"/>
            <a:ext cx="4572000" cy="1616040"/>
          </a:xfrm>
          <a:custGeom>
            <a:avLst/>
            <a:gdLst/>
            <a:ahLst/>
            <a:rect l="l" t="t" r="r" b="b"/>
            <a:pathLst>
              <a:path w="12701" h="4491">
                <a:moveTo>
                  <a:pt x="794" y="14064"/>
                </a:moveTo>
                <a:cubicBezTo>
                  <a:pt x="845" y="14038"/>
                  <a:pt x="945" y="13994"/>
                  <a:pt x="1067" y="13990"/>
                </a:cubicBezTo>
                <a:cubicBezTo>
                  <a:pt x="1171" y="13987"/>
                  <a:pt x="1285" y="13981"/>
                  <a:pt x="1389" y="13965"/>
                </a:cubicBezTo>
                <a:cubicBezTo>
                  <a:pt x="1554" y="13940"/>
                  <a:pt x="1719" y="13919"/>
                  <a:pt x="1885" y="13915"/>
                </a:cubicBezTo>
                <a:cubicBezTo>
                  <a:pt x="2076" y="13911"/>
                  <a:pt x="2263" y="13875"/>
                  <a:pt x="2456" y="13891"/>
                </a:cubicBezTo>
                <a:cubicBezTo>
                  <a:pt x="2744" y="13914"/>
                  <a:pt x="3035" y="13949"/>
                  <a:pt x="3324" y="13965"/>
                </a:cubicBezTo>
                <a:cubicBezTo>
                  <a:pt x="3548" y="13977"/>
                  <a:pt x="3769" y="13990"/>
                  <a:pt x="3994" y="13990"/>
                </a:cubicBezTo>
                <a:cubicBezTo>
                  <a:pt x="4241" y="13990"/>
                  <a:pt x="4526" y="13952"/>
                  <a:pt x="4762" y="13965"/>
                </a:cubicBezTo>
                <a:cubicBezTo>
                  <a:pt x="4847" y="13970"/>
                  <a:pt x="4909" y="13983"/>
                  <a:pt x="4961" y="13965"/>
                </a:cubicBezTo>
              </a:path>
              <a:path w="12701" h="4491">
                <a:moveTo>
                  <a:pt x="2555" y="12278"/>
                </a:moveTo>
                <a:cubicBezTo>
                  <a:pt x="2577" y="12235"/>
                  <a:pt x="2581" y="12224"/>
                  <a:pt x="2604" y="12204"/>
                </a:cubicBezTo>
                <a:cubicBezTo>
                  <a:pt x="2615" y="12312"/>
                  <a:pt x="2607" y="12410"/>
                  <a:pt x="2604" y="12526"/>
                </a:cubicBezTo>
                <a:cubicBezTo>
                  <a:pt x="2600" y="12676"/>
                  <a:pt x="2645" y="12823"/>
                  <a:pt x="2654" y="12973"/>
                </a:cubicBezTo>
                <a:cubicBezTo>
                  <a:pt x="2666" y="13179"/>
                  <a:pt x="2662" y="13387"/>
                  <a:pt x="2679" y="13593"/>
                </a:cubicBezTo>
                <a:cubicBezTo>
                  <a:pt x="2697" y="13815"/>
                  <a:pt x="2722" y="14043"/>
                  <a:pt x="2753" y="14263"/>
                </a:cubicBezTo>
                <a:cubicBezTo>
                  <a:pt x="2780" y="14461"/>
                  <a:pt x="2776" y="14662"/>
                  <a:pt x="2803" y="14858"/>
                </a:cubicBezTo>
                <a:cubicBezTo>
                  <a:pt x="2825" y="15018"/>
                  <a:pt x="2836" y="15171"/>
                  <a:pt x="2877" y="15329"/>
                </a:cubicBezTo>
                <a:cubicBezTo>
                  <a:pt x="2900" y="15418"/>
                  <a:pt x="2914" y="15455"/>
                  <a:pt x="2977" y="15528"/>
                </a:cubicBezTo>
                <a:cubicBezTo>
                  <a:pt x="3059" y="15624"/>
                  <a:pt x="3002" y="15383"/>
                  <a:pt x="3001" y="15379"/>
                </a:cubicBezTo>
              </a:path>
              <a:path w="12701" h="4491">
                <a:moveTo>
                  <a:pt x="1191" y="12700"/>
                </a:moveTo>
                <a:cubicBezTo>
                  <a:pt x="1191" y="12814"/>
                  <a:pt x="1188" y="12916"/>
                  <a:pt x="1215" y="13022"/>
                </a:cubicBezTo>
                <a:cubicBezTo>
                  <a:pt x="1236" y="13106"/>
                  <a:pt x="1258" y="13167"/>
                  <a:pt x="1290" y="13246"/>
                </a:cubicBezTo>
                <a:cubicBezTo>
                  <a:pt x="1320" y="13321"/>
                  <a:pt x="1359" y="13394"/>
                  <a:pt x="1389" y="13469"/>
                </a:cubicBezTo>
                <a:cubicBezTo>
                  <a:pt x="1454" y="13631"/>
                  <a:pt x="1538" y="13821"/>
                  <a:pt x="1637" y="13965"/>
                </a:cubicBezTo>
                <a:cubicBezTo>
                  <a:pt x="1696" y="14051"/>
                  <a:pt x="1760" y="14165"/>
                  <a:pt x="1836" y="14238"/>
                </a:cubicBezTo>
                <a:cubicBezTo>
                  <a:pt x="1910" y="14310"/>
                  <a:pt x="1978" y="14390"/>
                  <a:pt x="2059" y="14461"/>
                </a:cubicBezTo>
                <a:cubicBezTo>
                  <a:pt x="2125" y="14519"/>
                  <a:pt x="2230" y="14602"/>
                  <a:pt x="2307" y="14635"/>
                </a:cubicBezTo>
                <a:cubicBezTo>
                  <a:pt x="2358" y="14657"/>
                  <a:pt x="2471" y="14673"/>
                  <a:pt x="2530" y="14660"/>
                </a:cubicBezTo>
                <a:cubicBezTo>
                  <a:pt x="2626" y="14638"/>
                  <a:pt x="2730" y="14546"/>
                  <a:pt x="2803" y="14486"/>
                </a:cubicBezTo>
                <a:cubicBezTo>
                  <a:pt x="2878" y="14424"/>
                  <a:pt x="2961" y="14337"/>
                  <a:pt x="3026" y="14263"/>
                </a:cubicBezTo>
                <a:cubicBezTo>
                  <a:pt x="3118" y="14157"/>
                  <a:pt x="3196" y="14032"/>
                  <a:pt x="3274" y="13915"/>
                </a:cubicBezTo>
                <a:cubicBezTo>
                  <a:pt x="3348" y="13804"/>
                  <a:pt x="3432" y="13712"/>
                  <a:pt x="3497" y="13593"/>
                </a:cubicBezTo>
                <a:cubicBezTo>
                  <a:pt x="3559" y="13480"/>
                  <a:pt x="3611" y="13354"/>
                  <a:pt x="3671" y="13246"/>
                </a:cubicBezTo>
                <a:cubicBezTo>
                  <a:pt x="3721" y="13157"/>
                  <a:pt x="3798" y="13082"/>
                  <a:pt x="3820" y="12973"/>
                </a:cubicBezTo>
                <a:cubicBezTo>
                  <a:pt x="3832" y="12913"/>
                  <a:pt x="3852" y="12744"/>
                  <a:pt x="3894" y="12700"/>
                </a:cubicBezTo>
                <a:cubicBezTo>
                  <a:pt x="3957" y="12632"/>
                  <a:pt x="3937" y="12663"/>
                  <a:pt x="3919" y="12700"/>
                </a:cubicBezTo>
              </a:path>
              <a:path w="12701" h="4491">
                <a:moveTo>
                  <a:pt x="1637" y="13891"/>
                </a:moveTo>
                <a:cubicBezTo>
                  <a:pt x="1713" y="13880"/>
                  <a:pt x="1701" y="13892"/>
                  <a:pt x="1712" y="13816"/>
                </a:cubicBezTo>
                <a:cubicBezTo>
                  <a:pt x="1646" y="13776"/>
                  <a:pt x="1605" y="13795"/>
                  <a:pt x="1662" y="13866"/>
                </a:cubicBezTo>
                <a:cubicBezTo>
                  <a:pt x="1709" y="13925"/>
                  <a:pt x="1761" y="13925"/>
                  <a:pt x="1786" y="13841"/>
                </a:cubicBezTo>
                <a:cubicBezTo>
                  <a:pt x="1786" y="13796"/>
                  <a:pt x="1790" y="13783"/>
                  <a:pt x="1761" y="13767"/>
                </a:cubicBezTo>
                <a:cubicBezTo>
                  <a:pt x="1722" y="13772"/>
                  <a:pt x="1652" y="13789"/>
                  <a:pt x="1637" y="13841"/>
                </a:cubicBezTo>
                <a:cubicBezTo>
                  <a:pt x="1621" y="13896"/>
                  <a:pt x="1679" y="13959"/>
                  <a:pt x="1736" y="13940"/>
                </a:cubicBezTo>
                <a:cubicBezTo>
                  <a:pt x="1744" y="13932"/>
                  <a:pt x="1753" y="13923"/>
                  <a:pt x="1761" y="13915"/>
                </a:cubicBezTo>
                <a:cubicBezTo>
                  <a:pt x="1761" y="13851"/>
                  <a:pt x="1775" y="13791"/>
                  <a:pt x="1736" y="13742"/>
                </a:cubicBezTo>
                <a:cubicBezTo>
                  <a:pt x="1704" y="13701"/>
                  <a:pt x="1603" y="13708"/>
                  <a:pt x="1588" y="13767"/>
                </a:cubicBezTo>
                <a:cubicBezTo>
                  <a:pt x="1569" y="13841"/>
                  <a:pt x="1611" y="13922"/>
                  <a:pt x="1687" y="13940"/>
                </a:cubicBezTo>
                <a:cubicBezTo>
                  <a:pt x="1703" y="13940"/>
                  <a:pt x="1720" y="13940"/>
                  <a:pt x="1736" y="13940"/>
                </a:cubicBezTo>
                <a:cubicBezTo>
                  <a:pt x="1799" y="13862"/>
                  <a:pt x="1775" y="13853"/>
                  <a:pt x="1761" y="13767"/>
                </a:cubicBezTo>
                <a:cubicBezTo>
                  <a:pt x="1752" y="13710"/>
                  <a:pt x="1670" y="13636"/>
                  <a:pt x="1612" y="13717"/>
                </a:cubicBezTo>
                <a:cubicBezTo>
                  <a:pt x="1604" y="13742"/>
                  <a:pt x="1596" y="13766"/>
                  <a:pt x="1588" y="13791"/>
                </a:cubicBezTo>
              </a:path>
              <a:path w="12701" h="4491">
                <a:moveTo>
                  <a:pt x="3299" y="13816"/>
                </a:moveTo>
                <a:cubicBezTo>
                  <a:pt x="3271" y="13844"/>
                  <a:pt x="3262" y="13858"/>
                  <a:pt x="3274" y="13891"/>
                </a:cubicBezTo>
                <a:cubicBezTo>
                  <a:pt x="3320" y="13884"/>
                  <a:pt x="3423" y="13862"/>
                  <a:pt x="3423" y="13791"/>
                </a:cubicBezTo>
                <a:cubicBezTo>
                  <a:pt x="3423" y="13754"/>
                  <a:pt x="3372" y="13716"/>
                  <a:pt x="3349" y="13692"/>
                </a:cubicBezTo>
                <a:cubicBezTo>
                  <a:pt x="3284" y="13729"/>
                  <a:pt x="3254" y="13740"/>
                  <a:pt x="3249" y="13816"/>
                </a:cubicBezTo>
                <a:cubicBezTo>
                  <a:pt x="3245" y="13891"/>
                  <a:pt x="3248" y="13914"/>
                  <a:pt x="3299" y="13965"/>
                </a:cubicBezTo>
                <a:cubicBezTo>
                  <a:pt x="3361" y="13949"/>
                  <a:pt x="3436" y="13900"/>
                  <a:pt x="3423" y="13816"/>
                </a:cubicBezTo>
                <a:cubicBezTo>
                  <a:pt x="3417" y="13777"/>
                  <a:pt x="3332" y="13731"/>
                  <a:pt x="3299" y="13742"/>
                </a:cubicBezTo>
                <a:cubicBezTo>
                  <a:pt x="3239" y="13762"/>
                  <a:pt x="3247" y="13806"/>
                  <a:pt x="3175" y="13816"/>
                </a:cubicBezTo>
              </a:path>
              <a:path w="12701" h="4491">
                <a:moveTo>
                  <a:pt x="6375" y="12576"/>
                </a:moveTo>
                <a:cubicBezTo>
                  <a:pt x="6403" y="12688"/>
                  <a:pt x="6386" y="12784"/>
                  <a:pt x="6400" y="12898"/>
                </a:cubicBezTo>
                <a:cubicBezTo>
                  <a:pt x="6428" y="13131"/>
                  <a:pt x="6427" y="13359"/>
                  <a:pt x="6474" y="13593"/>
                </a:cubicBezTo>
                <a:cubicBezTo>
                  <a:pt x="6524" y="13843"/>
                  <a:pt x="6599" y="14087"/>
                  <a:pt x="6648" y="14337"/>
                </a:cubicBezTo>
                <a:cubicBezTo>
                  <a:pt x="6703" y="14618"/>
                  <a:pt x="6780" y="14893"/>
                  <a:pt x="6796" y="15180"/>
                </a:cubicBezTo>
                <a:cubicBezTo>
                  <a:pt x="6809" y="15419"/>
                  <a:pt x="6816" y="15661"/>
                  <a:pt x="6821" y="15900"/>
                </a:cubicBezTo>
                <a:cubicBezTo>
                  <a:pt x="6825" y="16110"/>
                  <a:pt x="6750" y="16514"/>
                  <a:pt x="6846" y="16694"/>
                </a:cubicBezTo>
                <a:cubicBezTo>
                  <a:pt x="6854" y="16694"/>
                  <a:pt x="6863" y="16694"/>
                  <a:pt x="6871" y="16694"/>
                </a:cubicBezTo>
              </a:path>
              <a:path w="12701" h="4491">
                <a:moveTo>
                  <a:pt x="8632" y="14188"/>
                </a:moveTo>
                <a:cubicBezTo>
                  <a:pt x="8462" y="14161"/>
                  <a:pt x="8282" y="14141"/>
                  <a:pt x="8111" y="14139"/>
                </a:cubicBezTo>
                <a:cubicBezTo>
                  <a:pt x="7745" y="14135"/>
                  <a:pt x="7385" y="14149"/>
                  <a:pt x="7020" y="14114"/>
                </a:cubicBezTo>
                <a:cubicBezTo>
                  <a:pt x="6749" y="14088"/>
                  <a:pt x="6473" y="14069"/>
                  <a:pt x="6201" y="14064"/>
                </a:cubicBezTo>
                <a:cubicBezTo>
                  <a:pt x="6016" y="14061"/>
                  <a:pt x="5838" y="14085"/>
                  <a:pt x="5655" y="14089"/>
                </a:cubicBezTo>
                <a:cubicBezTo>
                  <a:pt x="5534" y="14092"/>
                  <a:pt x="5421" y="14100"/>
                  <a:pt x="5308" y="14114"/>
                </a:cubicBezTo>
                <a:cubicBezTo>
                  <a:pt x="5230" y="14123"/>
                  <a:pt x="5178" y="14094"/>
                  <a:pt x="5110" y="14064"/>
                </a:cubicBezTo>
              </a:path>
              <a:path w="12701" h="4491">
                <a:moveTo>
                  <a:pt x="7119" y="12452"/>
                </a:moveTo>
                <a:cubicBezTo>
                  <a:pt x="7145" y="12499"/>
                  <a:pt x="7184" y="12551"/>
                  <a:pt x="7193" y="12601"/>
                </a:cubicBezTo>
                <a:cubicBezTo>
                  <a:pt x="7207" y="12675"/>
                  <a:pt x="7233" y="12729"/>
                  <a:pt x="7268" y="12799"/>
                </a:cubicBezTo>
                <a:cubicBezTo>
                  <a:pt x="7303" y="12868"/>
                  <a:pt x="7319" y="12931"/>
                  <a:pt x="7342" y="12998"/>
                </a:cubicBezTo>
                <a:cubicBezTo>
                  <a:pt x="7367" y="13071"/>
                  <a:pt x="7368" y="13149"/>
                  <a:pt x="7392" y="13221"/>
                </a:cubicBezTo>
                <a:cubicBezTo>
                  <a:pt x="7420" y="13305"/>
                  <a:pt x="7483" y="13383"/>
                  <a:pt x="7516" y="13469"/>
                </a:cubicBezTo>
                <a:cubicBezTo>
                  <a:pt x="7534" y="13515"/>
                  <a:pt x="7555" y="13574"/>
                  <a:pt x="7590" y="13618"/>
                </a:cubicBezTo>
                <a:cubicBezTo>
                  <a:pt x="7634" y="13673"/>
                  <a:pt x="7684" y="13702"/>
                  <a:pt x="7714" y="13767"/>
                </a:cubicBezTo>
                <a:cubicBezTo>
                  <a:pt x="7737" y="13817"/>
                  <a:pt x="7763" y="13859"/>
                  <a:pt x="7789" y="13915"/>
                </a:cubicBezTo>
                <a:cubicBezTo>
                  <a:pt x="7819" y="13980"/>
                  <a:pt x="7852" y="13997"/>
                  <a:pt x="7913" y="14015"/>
                </a:cubicBezTo>
                <a:cubicBezTo>
                  <a:pt x="7931" y="14020"/>
                  <a:pt x="8075" y="14046"/>
                  <a:pt x="8086" y="14039"/>
                </a:cubicBezTo>
                <a:cubicBezTo>
                  <a:pt x="8104" y="14027"/>
                  <a:pt x="8150" y="13961"/>
                  <a:pt x="8161" y="13940"/>
                </a:cubicBezTo>
                <a:cubicBezTo>
                  <a:pt x="8195" y="13875"/>
                  <a:pt x="8222" y="13849"/>
                  <a:pt x="8260" y="13791"/>
                </a:cubicBezTo>
                <a:cubicBezTo>
                  <a:pt x="8290" y="13745"/>
                  <a:pt x="8314" y="13671"/>
                  <a:pt x="8334" y="13618"/>
                </a:cubicBezTo>
                <a:cubicBezTo>
                  <a:pt x="8368" y="13526"/>
                  <a:pt x="8403" y="13496"/>
                  <a:pt x="8458" y="13419"/>
                </a:cubicBezTo>
                <a:cubicBezTo>
                  <a:pt x="8490" y="13375"/>
                  <a:pt x="8516" y="13276"/>
                  <a:pt x="8533" y="13221"/>
                </a:cubicBezTo>
                <a:cubicBezTo>
                  <a:pt x="8563" y="13120"/>
                  <a:pt x="8601" y="13074"/>
                  <a:pt x="8632" y="12998"/>
                </a:cubicBezTo>
                <a:cubicBezTo>
                  <a:pt x="8672" y="12902"/>
                  <a:pt x="8680" y="12819"/>
                  <a:pt x="8706" y="12725"/>
                </a:cubicBezTo>
                <a:cubicBezTo>
                  <a:pt x="8724" y="12662"/>
                  <a:pt x="8726" y="12562"/>
                  <a:pt x="8756" y="12650"/>
                </a:cubicBezTo>
              </a:path>
              <a:path w="12701" h="4491">
                <a:moveTo>
                  <a:pt x="7987" y="13940"/>
                </a:moveTo>
                <a:cubicBezTo>
                  <a:pt x="8003" y="13968"/>
                  <a:pt x="8075" y="14084"/>
                  <a:pt x="8111" y="13990"/>
                </a:cubicBezTo>
                <a:cubicBezTo>
                  <a:pt x="8135" y="13927"/>
                  <a:pt x="8102" y="13882"/>
                  <a:pt x="8062" y="13841"/>
                </a:cubicBezTo>
                <a:cubicBezTo>
                  <a:pt x="8054" y="13833"/>
                  <a:pt x="8045" y="13824"/>
                  <a:pt x="8037" y="13816"/>
                </a:cubicBezTo>
                <a:cubicBezTo>
                  <a:pt x="7966" y="13840"/>
                  <a:pt x="7964" y="13907"/>
                  <a:pt x="8012" y="13990"/>
                </a:cubicBezTo>
                <a:cubicBezTo>
                  <a:pt x="8027" y="14016"/>
                  <a:pt x="8065" y="14042"/>
                  <a:pt x="8086" y="14064"/>
                </a:cubicBezTo>
                <a:cubicBezTo>
                  <a:pt x="8123" y="14003"/>
                  <a:pt x="8112" y="13991"/>
                  <a:pt x="8062" y="13940"/>
                </a:cubicBezTo>
                <a:cubicBezTo>
                  <a:pt x="8023" y="13901"/>
                  <a:pt x="8020" y="13932"/>
                  <a:pt x="7987" y="13965"/>
                </a:cubicBezTo>
                <a:cubicBezTo>
                  <a:pt x="8020" y="13998"/>
                  <a:pt x="8092" y="14061"/>
                  <a:pt x="8136" y="13990"/>
                </a:cubicBezTo>
                <a:cubicBezTo>
                  <a:pt x="8136" y="13938"/>
                  <a:pt x="8135" y="13920"/>
                  <a:pt x="8111" y="13891"/>
                </a:cubicBezTo>
                <a:cubicBezTo>
                  <a:pt x="8059" y="13941"/>
                  <a:pt x="8053" y="13952"/>
                  <a:pt x="8086" y="14015"/>
                </a:cubicBezTo>
                <a:cubicBezTo>
                  <a:pt x="8128" y="14093"/>
                  <a:pt x="8124" y="14063"/>
                  <a:pt x="8161" y="14015"/>
                </a:cubicBezTo>
                <a:cubicBezTo>
                  <a:pt x="8147" y="13957"/>
                  <a:pt x="8062" y="13956"/>
                  <a:pt x="8062" y="14015"/>
                </a:cubicBezTo>
                <a:cubicBezTo>
                  <a:pt x="8062" y="14080"/>
                  <a:pt x="8084" y="14140"/>
                  <a:pt x="8136" y="14114"/>
                </a:cubicBezTo>
                <a:cubicBezTo>
                  <a:pt x="8136" y="14045"/>
                  <a:pt x="8123" y="14006"/>
                  <a:pt x="8037" y="14039"/>
                </a:cubicBezTo>
                <a:cubicBezTo>
                  <a:pt x="7998" y="14054"/>
                  <a:pt x="8009" y="14064"/>
                  <a:pt x="7962" y="14064"/>
                </a:cubicBezTo>
              </a:path>
              <a:path w="12701" h="4491">
                <a:moveTo>
                  <a:pt x="9748" y="14312"/>
                </a:moveTo>
                <a:cubicBezTo>
                  <a:pt x="9907" y="14332"/>
                  <a:pt x="10063" y="14319"/>
                  <a:pt x="10220" y="14337"/>
                </a:cubicBezTo>
                <a:cubicBezTo>
                  <a:pt x="10395" y="14357"/>
                  <a:pt x="10563" y="14383"/>
                  <a:pt x="10740" y="14387"/>
                </a:cubicBezTo>
                <a:cubicBezTo>
                  <a:pt x="10991" y="14392"/>
                  <a:pt x="11234" y="14409"/>
                  <a:pt x="11485" y="14412"/>
                </a:cubicBezTo>
                <a:cubicBezTo>
                  <a:pt x="11694" y="14415"/>
                  <a:pt x="11897" y="14432"/>
                  <a:pt x="12105" y="14436"/>
                </a:cubicBezTo>
                <a:cubicBezTo>
                  <a:pt x="12279" y="14439"/>
                  <a:pt x="12452" y="14436"/>
                  <a:pt x="12626" y="14436"/>
                </a:cubicBezTo>
              </a:path>
              <a:path w="12701" h="4491">
                <a:moveTo>
                  <a:pt x="11509" y="13072"/>
                </a:moveTo>
                <a:cubicBezTo>
                  <a:pt x="11502" y="13265"/>
                  <a:pt x="11486" y="13451"/>
                  <a:pt x="11460" y="13643"/>
                </a:cubicBezTo>
                <a:cubicBezTo>
                  <a:pt x="11425" y="13899"/>
                  <a:pt x="11394" y="14154"/>
                  <a:pt x="11385" y="14412"/>
                </a:cubicBezTo>
                <a:cubicBezTo>
                  <a:pt x="11369" y="14877"/>
                  <a:pt x="11367" y="15337"/>
                  <a:pt x="11311" y="15801"/>
                </a:cubicBezTo>
                <a:cubicBezTo>
                  <a:pt x="11276" y="16088"/>
                  <a:pt x="11196" y="16362"/>
                  <a:pt x="11137" y="16644"/>
                </a:cubicBezTo>
              </a:path>
              <a:path w="12701" h="4491">
                <a:moveTo>
                  <a:pt x="12105" y="12948"/>
                </a:moveTo>
                <a:cubicBezTo>
                  <a:pt x="12185" y="13029"/>
                  <a:pt x="12268" y="13100"/>
                  <a:pt x="12353" y="13171"/>
                </a:cubicBezTo>
                <a:cubicBezTo>
                  <a:pt x="12467" y="13267"/>
                  <a:pt x="12474" y="13277"/>
                  <a:pt x="12626" y="13320"/>
                </a:cubicBezTo>
                <a:cubicBezTo>
                  <a:pt x="12683" y="13336"/>
                  <a:pt x="12751" y="13380"/>
                  <a:pt x="12824" y="13370"/>
                </a:cubicBezTo>
                <a:cubicBezTo>
                  <a:pt x="12883" y="13362"/>
                  <a:pt x="12957" y="13310"/>
                  <a:pt x="13022" y="13295"/>
                </a:cubicBezTo>
                <a:cubicBezTo>
                  <a:pt x="13120" y="13273"/>
                  <a:pt x="13132" y="13219"/>
                  <a:pt x="13196" y="13146"/>
                </a:cubicBezTo>
                <a:cubicBezTo>
                  <a:pt x="13266" y="13066"/>
                  <a:pt x="13314" y="12991"/>
                  <a:pt x="13370" y="12898"/>
                </a:cubicBezTo>
                <a:cubicBezTo>
                  <a:pt x="13403" y="12844"/>
                  <a:pt x="13426" y="12777"/>
                  <a:pt x="13444" y="12725"/>
                </a:cubicBezTo>
                <a:cubicBezTo>
                  <a:pt x="13466" y="12658"/>
                  <a:pt x="13471" y="12640"/>
                  <a:pt x="13494" y="12601"/>
                </a:cubicBezTo>
                <a:cubicBezTo>
                  <a:pt x="13422" y="12652"/>
                  <a:pt x="13384" y="12731"/>
                  <a:pt x="13320" y="12799"/>
                </a:cubicBezTo>
                <a:cubicBezTo>
                  <a:pt x="13252" y="12870"/>
                  <a:pt x="13183" y="12951"/>
                  <a:pt x="13097" y="12998"/>
                </a:cubicBezTo>
                <a:cubicBezTo>
                  <a:pt x="13040" y="13029"/>
                  <a:pt x="13029" y="13095"/>
                  <a:pt x="12973" y="13122"/>
                </a:cubicBezTo>
                <a:cubicBezTo>
                  <a:pt x="12913" y="13150"/>
                  <a:pt x="12830" y="13211"/>
                  <a:pt x="12750" y="13196"/>
                </a:cubicBezTo>
                <a:cubicBezTo>
                  <a:pt x="12675" y="13182"/>
                  <a:pt x="12529" y="13102"/>
                  <a:pt x="12477" y="13047"/>
                </a:cubicBezTo>
                <a:cubicBezTo>
                  <a:pt x="12420" y="12987"/>
                  <a:pt x="12348" y="12919"/>
                  <a:pt x="12303" y="12849"/>
                </a:cubicBezTo>
                <a:cubicBezTo>
                  <a:pt x="12267" y="12794"/>
                  <a:pt x="12234" y="12732"/>
                  <a:pt x="12204" y="12675"/>
                </a:cubicBezTo>
                <a:cubicBezTo>
                  <a:pt x="12165" y="12601"/>
                  <a:pt x="12100" y="12547"/>
                  <a:pt x="12055" y="12477"/>
                </a:cubicBezTo>
                <a:cubicBezTo>
                  <a:pt x="12031" y="12429"/>
                  <a:pt x="12025" y="12412"/>
                  <a:pt x="11981" y="12427"/>
                </a:cubicBezTo>
                <a:cubicBezTo>
                  <a:pt x="11997" y="12492"/>
                  <a:pt x="12023" y="12534"/>
                  <a:pt x="12055" y="12601"/>
                </a:cubicBezTo>
                <a:cubicBezTo>
                  <a:pt x="12106" y="12707"/>
                  <a:pt x="12157" y="12831"/>
                  <a:pt x="12229" y="12923"/>
                </a:cubicBezTo>
                <a:cubicBezTo>
                  <a:pt x="12284" y="12993"/>
                  <a:pt x="12338" y="13058"/>
                  <a:pt x="12402" y="13122"/>
                </a:cubicBezTo>
                <a:cubicBezTo>
                  <a:pt x="12498" y="13218"/>
                  <a:pt x="12551" y="13273"/>
                  <a:pt x="12675" y="13320"/>
                </a:cubicBezTo>
                <a:cubicBezTo>
                  <a:pt x="12750" y="13348"/>
                  <a:pt x="12868" y="13362"/>
                  <a:pt x="12948" y="13345"/>
                </a:cubicBezTo>
                <a:cubicBezTo>
                  <a:pt x="13021" y="13330"/>
                  <a:pt x="13148" y="13247"/>
                  <a:pt x="13196" y="13196"/>
                </a:cubicBezTo>
                <a:cubicBezTo>
                  <a:pt x="13261" y="13127"/>
                  <a:pt x="13338" y="13060"/>
                  <a:pt x="13395" y="12973"/>
                </a:cubicBezTo>
                <a:cubicBezTo>
                  <a:pt x="13428" y="12923"/>
                  <a:pt x="13457" y="12808"/>
                  <a:pt x="13469" y="12750"/>
                </a:cubicBezTo>
                <a:cubicBezTo>
                  <a:pt x="13481" y="12693"/>
                  <a:pt x="13511" y="12612"/>
                  <a:pt x="13494" y="12551"/>
                </a:cubicBezTo>
                <a:cubicBezTo>
                  <a:pt x="13486" y="12535"/>
                  <a:pt x="13477" y="12518"/>
                  <a:pt x="13469" y="12502"/>
                </a:cubicBezTo>
                <a:cubicBezTo>
                  <a:pt x="13400" y="12544"/>
                  <a:pt x="13395" y="12566"/>
                  <a:pt x="13345" y="12626"/>
                </a:cubicBezTo>
                <a:cubicBezTo>
                  <a:pt x="13272" y="12713"/>
                  <a:pt x="13259" y="12777"/>
                  <a:pt x="13196" y="12874"/>
                </a:cubicBezTo>
                <a:cubicBezTo>
                  <a:pt x="13163" y="12924"/>
                  <a:pt x="13069" y="13008"/>
                  <a:pt x="13022" y="13047"/>
                </a:cubicBezTo>
                <a:cubicBezTo>
                  <a:pt x="12972" y="13088"/>
                  <a:pt x="12911" y="13122"/>
                  <a:pt x="12849" y="13146"/>
                </a:cubicBezTo>
                <a:cubicBezTo>
                  <a:pt x="12740" y="13188"/>
                  <a:pt x="12614" y="13175"/>
                  <a:pt x="12502" y="13146"/>
                </a:cubicBezTo>
                <a:cubicBezTo>
                  <a:pt x="12418" y="13124"/>
                  <a:pt x="12361" y="13057"/>
                  <a:pt x="12303" y="12998"/>
                </a:cubicBezTo>
                <a:cubicBezTo>
                  <a:pt x="12240" y="12935"/>
                  <a:pt x="12169" y="12889"/>
                  <a:pt x="12105" y="12824"/>
                </a:cubicBezTo>
                <a:cubicBezTo>
                  <a:pt x="12051" y="12770"/>
                  <a:pt x="11997" y="12737"/>
                  <a:pt x="11931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8:06Z</dcterms:created>
  <dc:creator>jnewman</dc:creator>
  <dc:description/>
  <dc:language>en-US</dc:language>
  <cp:lastModifiedBy>abeason</cp:lastModifiedBy>
  <dcterms:modified xsi:type="dcterms:W3CDTF">2009-09-08T14:37:55Z</dcterms:modified>
  <cp:revision>19</cp:revision>
  <dc:subject/>
  <dc:title>Tuesday, September 11th</dc:title>
</cp:coreProperties>
</file>